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3448-0F96-43F0-BC31-0DE7EA518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0B1B-D1BB-4F19-A7A4-042FF348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FA16-AAA8-45A8-8910-56F3F0F16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3EDD-D42B-4299-A798-8544E6076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1C55-BB68-4716-B914-20DDE4FA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9B67-7551-4FA5-9824-1D53F199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43D9-D8D9-45FA-84C1-75D9765F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B76F-EF75-4ACA-8A55-BB091617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1CBC-B194-4928-B0E2-A2E6B262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1F13-4D01-4B41-9053-FEEC3679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486C-0698-496D-A417-E46AB4A6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1A89-58F4-497A-8DAB-2930EF11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DF15-AA40-4D97-B91E-2E36E2AF5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www.diq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/8, 4-11-25/9, 2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10, 6-13-20/11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ciembre 2008: 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 semestre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9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28 de Agosto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CORTINEZ VILLALOBOS, VIC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LENGA Y EUCALIP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Co-Guia: Oriana Salazar Integrante: Rene Carmo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EZOA CONTE, RIC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MAIZ Y TR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 Co-Guia: Oriana Salazar   Integrante: Alejandro Gar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ONTECINOS PAVEZ, CATA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L EFECTO DE LA ADICION DE EXTREMOS HIDROFOBICOS EN LA EXPRESION Y PURIFICACION DE XILANASAS RECOMBIN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Co-Guia: Oriana Salazar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Integrante: Cristian Salg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62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Jueves 4 de Septiembre 14:30 Sala por fi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ENADIER STAVELOT, MAURICE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INFLUENCIA DE LA CRISTALINIDAD Y ADHERENCIA BACTERIANA EN LA BIOLIXIVIACION DE PIRIT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Tomás Vargas       Co-Guia: Blanca Escobar Integrante: Oriana Salaza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VELASCO SARAGONI, NONOY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ELECTROQUIMICO DE LA BIOLIXIVIACION DE PIRIT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Tomás Vargas Co-Guia: Blanca Escobar Integrante:  Francisco Gracia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NUDMAN GUENDELMAN, ARI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 LA GENERACION Y TRANSPORTE DE GAS SULFHIDRICO EN LAS REDES DE AGUAS SERVID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Leandro Herrera Co-Guia: Cristian Salgado Integrante: Luis Felipe Salaz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INEDA ERICE, DANIEL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TECNICO ECONOMICO DE PRODUCCION DE HIDROGENO MEDIANTE ELECTROLISIS UTILIZANDO ENERGIA ELECTRICA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José Hernández Co-Guia: Leandro Herrera Integrante:  Francisco Gracia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6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11 de Septiembre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ERRERO ADAROS, ALEJAND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IDENTIFICACION, CLONACION Y EXPRESION RECOMBINANTE DE UNA EXOGLUCANASA DE ALTA ACTIVIDAD CON VISTAS A LA PRODUCCION DE BIOETAN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SALINAS, ALEJAND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VEGA, MARC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RIVEROS FIGUEROA, NIM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EDICCION DEL COEFICIENTE DE PARTICION DE PROTEINAS EN SISTEMAS DE DOS FASES ACUOSAS BASADO EN LA DETERMINACION DE CARGA E HIDROFOBICIDAD SUPER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Cristian Salgado  Co-guia: Barbara Andrews  Integrante: M.Elena Lienqu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89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Jueves 25 de Septiembre 14:30 Sala por fi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ERCADO ARGANDOÑA, SERG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OPTIMIZACION DEL CULTIVO DE CELULAS HEK-293 EN SUSPENSION PARA LA PRODUCCION DE UN ANTICUERPO QUIMERICO ANTI-FACTOR DE NECROSIS TUMORAL (TNF) 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Barbara Andrews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Co-guia: Juan Asenjo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ACHECO VEGA, CARO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 FACTIBILIDAD PLANTA PRODUCTORA KITS DE DIAGNOSTICO POR RT-P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Ricardo Badilla Co-guia: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EÑA ALVAREZ, JA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OPTIMIZACION DEL CULTIVO DE CELULAS CHO EN SUSPENSION PARA LA PRODUCCION DE ANTICUERPO QUIMERICO ANTI FACTOR DE NECROSIS TUMORAL (TNF) 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an Asenj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Co-guia: 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Barbara Andrew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WILKENS DIAZ-MUÑOZ, CAMI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ANALISIS COMPARATIVO DEL METABOLISMO DE LACTATO PARA CELULAS CHO EN GLUCOSA Y GALACT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ZIOMARA GERDTZEN  Co-guia:Barbara Andrews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29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2 de Octubre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8-08-06T15:45:56Z</dcterms:modified>
  <cp:revision>142</cp:revision>
  <dc:subject/>
  <dc:title>El ingeniero, etica y sociedad</dc:title>
</cp:coreProperties>
</file>