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599C-2A4C-4F06-933D-93DB92C6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513-6F25-4DF9-B142-3838A2F7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FB0-5237-449D-9F4D-836ACDF3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9C9-57DE-4A48-BCFE-C5BC34F8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EA8-5B72-4607-9A57-239805AA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D72-BDBF-4B49-94D4-0F16F6A8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2B2-E2BC-4C77-A127-DC4C05EF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43D-6B11-41F9-8EA6-97729D0C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45E-5C53-4150-981E-7AE7CB48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F15-ED42-4641-8269-9E44E0AC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C70-234F-41B8-A352-9B53921D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8E98-0359-427F-B5A5-668AEBFB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BC4F-9B34-460F-B78A-702318962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.8, 4-11-25.9, 2.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6-13.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1.12.2008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.01.20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8/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 máxima para rendir examen de grad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99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03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 o está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ás o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9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1/12/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1/2008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0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d0c"/>
                </a:solidFill>
                <a:latin typeface="Times New Roman"/>
              </a:rPr>
              <a:t>Sólo para el examen de 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mi memoria no es aceptada por la comi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memoria puede quedar con nota Suspendida y se dan 3 semanas para que se hagan los cambios neces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nota máxima en ese caso en 4.0 y corre los mismos plazos que en el caso normal (3 semanas para la revisión de la comisión y 3 semanas para las correcciones del alum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no he terminado en la fecha prev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 tienes causas justificadas se puede pedir una prorroga de hasta 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ara ello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Llenar formulario de prorroga hasta 1 semana después de vencido el plazo de entrega del borrador (</a:t>
            </a: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profesor guía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alumno (a)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53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11-05T15:52:22Z</dcterms:modified>
  <cp:revision>144</cp:revision>
  <dc:subject/>
  <dc:title>El ingeniero, etica y sociedad</dc:title>
</cp:coreProperties>
</file>