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B1A6-B04B-4FB2-B3C0-8F7738AD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5804-A5A4-461E-8596-EA7E9598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36ED-26AF-490B-BD1F-BFB65E86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116-8C1A-4884-8B9D-FB949C3B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99AF-BAE7-43EE-AF01-FD18BFDA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C03-B2C5-410C-99CC-C3511022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CD2-6CEB-4138-A65A-CD63F268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1278-5FBC-42B2-BCDC-46E55673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857A-1940-499E-BEC4-DA52BA16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4AD-6137-4D6F-9C8C-00B5BE0D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AFE-4330-4B98-9CAC-CAEE2940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661-1366-4E03-B626-1765E5FE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1011-72E0-42E9-B256-6BDFC1A6D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www.diq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8, 4-11-25/9, 2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10, 6-13-20/11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ciembre 2008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9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28 de Agosto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CORTINEZ VILLALOBOS, VIC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LENGA Y EUCALIP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Co-Guia: Oriana Salazar Integrante: Rene Carm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ZOA CONTE, RIC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MAIZ Y TR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 Co-Guia: Oriana Salazar   Integrante: Alejandro Gar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ONTECINOS PAVEZ, CATA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L EFECTO DE LA ADICION DE EXTREMOS HIDROFOBICOS EN LA EXPRESION Y PURIFICACION DE XILANASAS RECOMBIN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Co-Guia: Oriana Salazar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Integrante: Cristian Sal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62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Jueves 4 de Septiembre 14:30 Sala por fi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ENADIER STAVELOT, MAURICE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NFLUENCIA DE LA CRISTALINIDAD Y ADHERENCIA BACTERIANA EN LA BIOLIXIVIACION DE PIRIT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Tomás Vargas       Co-Guia: Blanca Escobar Integrante: Oriana Salaza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VELASCO SARAGONI, NONOY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ELECTROQUIMICO DE LA BIOLIXIVIACION DE PIRIT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Tomás Vargas Co-Guia: Blanca Escobar Integrante:  Francisco Gracia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DMAN GUENDELMAN, ARI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LA GENERACION Y TRANSPORTE DE GAS SULFHIDRICO EN LAS REDES DE AGUAS SERVID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Leandro Herrera Co-Guia: Cristian Salgado Integrante: Luis Felipe Sala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INEDA ERICE, DANIEL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TECNICO ECONOMICO DE PRODUCCION DE HIDROGENO MEDIANTE ELECTROLISIS UTILIZANDO ENERGIA ELECTRICA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José Hernández Co-Guia: Leandro Herrera Integrante:  Francisco Gracia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6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11 de Septiembre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ERRERO ADAROS, ALEJAND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DENTIFICACION, CLONACION Y EXPRESION RECOMBINANTE DE UNA EXOGLUCANASA DE ALTA ACTIVIDAD CON VISTAS A LA PRODUCCION DE BIOETA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SALINAS, ALEJAN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VEGA, MARC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RIVEROS FIGUEROA, NIM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EDICCION DEL COEFICIENTE DE PARTICION DE PROTEINAS EN SISTEMAS DE DOS FASES ACUOSAS BASADO EN LA DETERMINACION DE CARGA E HIDROFOBICIDAD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Cristian Salgado  Co-guia: Barbara Andrews  Integrante: M.Elena Lienqu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89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Jueves 25 de Septiembre 14:30 Sala por fi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ERCADO ARGANDOÑA, SER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HEK-293 EN SUSPENSION PARA LA PRODUCCION DE UN ANTICUERPO QUIMERICO ANTI-FACTOR DE NECROSIS TUMORAL (TNF)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Barbara Andrews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Co-guia: Juan Asenjo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ACHECO VEGA, CARO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FACTIBILIDAD PLANTA PRODUCTORA KITS DE DIAGNOSTICO POR RT-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Ricardo Badilla Co-guia: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ÑA ALVAREZ, JA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CHO EN SUSPENSION PARA LA PRODUCCION DE ANTICUERPO QUIMERICO ANTI FACTOR DE NECROSIS TUMORAL (TNF)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an Asenj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Co-guia: 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Barbara Andrew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WILKENS DIAZ-MUÑOZ, CAMI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ANALISIS COMPARATIVO DEL METABOLISMO DE LACTATO PARA CELULAS CHO EN GLUCOSA Y GALACT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ZIOMARA GERDTZEN  Co-guia:Barbara Andrews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29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2 de Octubre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8-08-06T15:45:56Z</dcterms:modified>
  <cp:revision>142</cp:revision>
  <dc:subject/>
  <dc:title>El ingeniero, etica y sociedad</dc:title>
</cp:coreProperties>
</file>