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358-5B44-4D5C-86E4-6478432B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3C3-3C5B-4051-8423-4CAC7AA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A36-CFDE-4767-AEA0-D69D9674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870-6912-4F5D-99C0-65CEF70A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9BD-EA15-4141-A722-E34909C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953-0D80-4B2F-9FF8-0C250660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0A3-AE5A-43CA-B6FF-6FB9584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76D-8536-4972-8A17-F0B2976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104-857E-41EE-948A-B12441D6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F9A-2083-4437-B6C7-53EE2DA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E75-F23B-404E-83A1-741F973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D61-5505-4311-8263-2DA0D46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22E9-41DF-4CE3-AEAD-D0C8E118949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L REACT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Y SELECCIÓN DE CAMINOS DE REA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227664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Times New Roman"/>
              </a:rPr>
              <a:t>Proceso Solvay </a:t>
            </a:r>
            <a:r>
              <a:rPr b="0" lang="es-ES_tradnl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29000" y="0"/>
          <a:ext cx="5715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0"/>
                    <a:ext cx="5715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914400"/>
          <a:ext cx="82296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35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Tabla de Producción/Consumo para el Proceso Solvay</a:t>
            </a: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3505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NaCl  -----&gt;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21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ción N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28600" y="762120"/>
          <a:ext cx="86868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86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49040" y="2685960"/>
            <a:ext cx="909000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neficio Bruto Específico (Potencial Económic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eneficio 1 = (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5*11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- 10000 - 9280)/106 = U$ 47/ton Na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eneficio 2 = (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50*11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- 10000 - 9280)/106 = U$ 20.5/ton Na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93380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terias Primas/Producto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0000 + 92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100/ 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5*11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l precio de venta es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1080" y="30384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Dutch801 XBd BT"/>
              </a:rPr>
              <a:t>Producción de 1 ton-mol de Ceniza de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íntesis de Flujo de Materiales y Distribución de Especies</a:t>
            </a:r>
            <a:br>
              <a:rPr sz="4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909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ón de 100 moles/h de S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oxidación de azufre</a:t>
            </a: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c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-------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br>
              <a:rPr sz="3200"/>
            </a:b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6483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mantener una temperatura baja en el quemador, se debe diluir el aire de entrada con un gas inerte frío. El comburente debe ser: 70% inerte y 30% oxígeno.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¿Qué distribuciones de especies sugiere el empleo de nitrógeno y dióxido de azufre como gases diluyentes?.</a:t>
            </a: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09480" y="380880"/>
          <a:ext cx="5791320" cy="30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579132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85800" y="3494160"/>
          <a:ext cx="6248520" cy="33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494160"/>
                    <a:ext cx="624852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486400" y="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tribució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2004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tribució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52728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2349360"/>
            <a:ext cx="324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Obtención de Compuestos de Litio a partir de Li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649440"/>
          <a:ext cx="8534160" cy="62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49440"/>
                    <a:ext cx="853416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3716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RIVADOS DEL PETROLE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22840" y="252360"/>
            <a:ext cx="4973400" cy="649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4000" y="2349360"/>
            <a:ext cx="3240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Obtención de Compuestos de Azufre a partir de Na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SO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685800"/>
          <a:ext cx="86104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752480" y="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RIVADOS DEL METAN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858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MINOS DE REACCION PARA SINTETIZAR NYL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28840"/>
          <a:ext cx="811512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28840"/>
                    <a:ext cx="811512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2746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0000"/>
                </a:solidFill>
                <a:latin typeface="Times New Roman"/>
              </a:rPr>
              <a:t>Producción de Compuestos de Molibd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ACTOR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733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Tanque Agitado (en forma mecánica ó con aire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Tubular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echo Fijo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echo Fluidizado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Horno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Pil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eldas Electrolític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lumnas: Absorción, Intercambio Iónico, Adsorción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Fermentadore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agunas de Tratamiento de RILe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br>
              <a:rPr sz="2800"/>
            </a:br>
            <a:br>
              <a:rPr sz="44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19320" y="228600"/>
          <a:ext cx="60958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0958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77120" y="4572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s Reactores son los equipos principales en una planta indus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 lograr un alto rendimiento y una adecuada co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ar el uso de materias primas y minimizar la formación de residuos y/o subproducto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9480" y="1905120"/>
          <a:ext cx="561348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5613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cisiones para elegir el reac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Tipos de reacción y reactor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Concentración de reactantes, productos e impureza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Temperatura de operació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Presión de operació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Fases (sólido, líquido, gas, orgánico, etc.)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Cataliz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minos y Sistemas de Reacción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914400"/>
          <a:ext cx="88390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8390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9480" y="57150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ternativas de procesamiento de un Mineral de Cob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Lixiviación de la Covelina (CuS)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ixiviación sin agente oxidante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HCl  ---&gt;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  + 2C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ás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4NaOH  ---&gt;  Cu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 +  4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lfuro alcali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  ---&gt; 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ianuro alcali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3NaCN  ---&gt;  Cu(CN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3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380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ixiviación con agente oxidante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0.5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º  +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ásico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4O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Cu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monia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 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[Cu(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5734080"/>
            <a:ext cx="88930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aliza + 2NaCl  -----&gt; N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CaCl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oruro de calcio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396720" y="3333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ceso Solvay 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rbonato de Sodi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(Na</a:t>
            </a:r>
            <a:r>
              <a:rPr b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65720"/>
            <a:ext cx="5113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eacción Neta Indirecta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27560" y="260280"/>
            <a:ext cx="4816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2004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Síntesis de hidróxido de amonio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) por absor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8769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 Síntesis de bicarbonato de sodio (NaH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aCl ----&gt; 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  + NaH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814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 Descomposición del bicarbonato por calc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6362640"/>
          <a:ext cx="9277200" cy="4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362640"/>
                    <a:ext cx="927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-228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tapas de Re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7621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Calcinación a 1000ºC: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--&gt; Ca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cal)  +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371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 Preparación de lechada de cal (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uy exotér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 viva) +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a(OH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cal apa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362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eración de Amoníaco (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Ca(OH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c) + 2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&gt;  2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CaC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29264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amoníaco)  +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 ---&gt;  N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hidróxido de amon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PC</cp:lastModifiedBy>
  <dcterms:modified xsi:type="dcterms:W3CDTF">2005-08-23T01:15:48Z</dcterms:modified>
  <cp:revision>35</cp:revision>
  <dc:subject/>
  <dc:title>DISEÑO PRELIMINAR DE DIAGRAMAS DE FLUJOS </dc:title>
</cp:coreProperties>
</file>