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9C8-0235-475E-A46D-32493BC6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70C-FF83-4DE9-AE25-F25BD7B9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233-3356-4CFD-94D6-92497CFA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512-47E5-489A-B5F8-B40361B8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BF3-9272-4A20-A5F9-BB1BD0E6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CCA-C24E-4D12-8E33-28CAE5D1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0A1-3067-43D5-A0DA-28844B2B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531-ED6B-49E2-82EE-7044670E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5C0-F968-40B3-89F6-BA5E0E3B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6AB-0089-4975-9E13-E4D8E1A7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844-0011-42D5-A018-9907719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3E7-7EA9-49CE-9DB4-1A015236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CB19-7477-485C-ACC2-7582CADE1FE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L REACTOR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Y SELECCIÓN DE CAMINOS DE REA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227664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Times New Roman"/>
              </a:rPr>
              <a:t>Proceso Solvay </a:t>
            </a:r>
            <a:r>
              <a:rPr b="0" lang="es-ES_tradnl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429000" y="0"/>
          <a:ext cx="5715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0"/>
                    <a:ext cx="5715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914400"/>
          <a:ext cx="822960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229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335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Tabla de Producción/Consumo para el Proceso Solvay</a:t>
            </a: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35053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NaCl  -----&gt; 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C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0215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ción N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28600" y="762120"/>
          <a:ext cx="8686800" cy="20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686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49040" y="2685960"/>
            <a:ext cx="909000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neficio Bruto Específico (Potencial Económic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eneficio 1 = (15900 +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75*111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- 10000 - 9280)/106 = U$ 47/ton Na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eneficio 2 = (15900 +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50*111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- 10000 - 9280)/106 = U$ 20.5/ton Na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933800"/>
            <a:ext cx="8610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terias Primas/Producto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0000 + 92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*100/ (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900 +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75*11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8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l precio de venta es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1080" y="30384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Dutch801 XBd BT"/>
              </a:rPr>
              <a:t>Producción de 1 ton-mol de Ceniza de 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íntesis de Flujo de Materiales y Distribución de Especies</a:t>
            </a:r>
            <a:br>
              <a:rPr sz="4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59092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ón de 100 moles/h de S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 oxidación de azufre</a:t>
            </a:r>
            <a:br>
              <a:rPr sz="2800"/>
            </a:br>
            <a:br>
              <a:rPr sz="28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cción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+  O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-------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br>
              <a:rPr sz="3200"/>
            </a:b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6483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mantener una temperatura baja en el quemador, se debe diluir el aire de entrada con un gas inerte frío. El comburente debe ser: 70% inerte y 30% oxígeno. 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¿Qué distribuciones de especies sugiere el empleo de nitrógeno y dióxido de azufre como gases diluyentes?.</a:t>
            </a: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609480" y="380880"/>
          <a:ext cx="5791320" cy="30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579132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85800" y="3494160"/>
          <a:ext cx="6248520" cy="3363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494160"/>
                    <a:ext cx="624852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486400" y="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tribució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32004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tribució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3527280" y="0"/>
            <a:ext cx="56167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2349360"/>
            <a:ext cx="324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Obtención de Compuestos de Litio a partir de Li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649440"/>
          <a:ext cx="8534160" cy="62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49440"/>
                    <a:ext cx="853416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37160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RIVADOS DEL PETROLE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22840" y="252360"/>
            <a:ext cx="4973400" cy="649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24000" y="2349360"/>
            <a:ext cx="3240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Obtención de Compuestos de Azufre a partir de Na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SO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685800"/>
          <a:ext cx="86104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6104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752480" y="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RIVADOS DEL METAN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8580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MINOS DE REACCION PARA SINTETIZAR NYL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428840"/>
          <a:ext cx="811512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28840"/>
                    <a:ext cx="811512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2746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0000"/>
                </a:solidFill>
                <a:latin typeface="Times New Roman"/>
              </a:rPr>
              <a:t>Producción de Compuestos de Molibd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7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ACTORE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733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Tanque Agitado (en forma mecánica ó con aire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Tubular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Lecho Fijo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Lecho Fluidizado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Horno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Pil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eldas Electrolític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lumnas: Absorción, Intercambio Iónico, Adsorción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Fermentadore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Lagunas de Tratamiento de RILe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br>
              <a:rPr sz="2800"/>
            </a:br>
            <a:br>
              <a:rPr sz="44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219320" y="228600"/>
          <a:ext cx="609588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0958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477120" y="457200"/>
            <a:ext cx="685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os Reactores son los equipos principales en una planta indus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 lograr un alto rendimiento y una adecuada co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ar el uso de materias primas y minimizar la formación de residuos y/o subproducto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09480" y="1905120"/>
          <a:ext cx="561348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5613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cisiones para elegir el reactor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9528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Tipos de reacción y reactor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Concentración de reactantes, productos e impureza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Temperatura de operació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Presión de operació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Fases (sólido, líquido, gas, orgánico, etc.)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Cataliz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minos y Sistemas de Reacción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914400"/>
          <a:ext cx="88390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8390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09480" y="57150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ternativas de procesamiento de un Mineral de Cobr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Lixiviación de la Covelina (CuS)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ixiviación sin agente oxidante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2HCl  ---&gt; C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  + 2C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ás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4NaOH  ---&gt;  Cu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 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 +  4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ulfuro alcali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N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  ---&gt; 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cianuro alcali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3NaCN  ---&gt;  Cu(CN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3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8380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ixiviación con agente oxidante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2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 C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0.5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 C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º  +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ásico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4O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Cu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moniac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n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 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 2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[Cu(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5734080"/>
            <a:ext cx="88930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caliza + 2NaCl  -----&gt; Na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+ CaCl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loruro de calcio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396720" y="333360"/>
            <a:ext cx="51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roceso Solvay </a:t>
            </a:r>
            <a:br>
              <a:rPr sz="3200"/>
            </a:b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rbonato de Sodio</a:t>
            </a:r>
            <a:br>
              <a:rPr sz="3200"/>
            </a:b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(Na</a:t>
            </a:r>
            <a:r>
              <a:rPr b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365720"/>
            <a:ext cx="5113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Reacción Neta Indirecta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27560" y="260280"/>
            <a:ext cx="4816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2004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- Síntesis de hidróxido de amonio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) por absor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8769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- Síntesis de bicarbonato de sodio (NaH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NaCl ----&gt; 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  + NaH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18148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 Descomposición del bicarbonato por calcin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6362640"/>
          <a:ext cx="9277200" cy="4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362640"/>
                    <a:ext cx="927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28600" y="-2286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tapas de Re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7621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- Calcinación a 1000ºC: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---&gt; Ca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cal)  + 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3716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- Preparación de lechada de cal (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uy exotér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al viva) +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 Ca(OH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cal apa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3623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eneración de Amoníaco (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Ca(OH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c) + 2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-&gt;  2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g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CaCl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292640"/>
            <a:ext cx="82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(g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amoníaco)  + 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 ---&gt;  N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(ac)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hidróxido de amon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21:09:43Z</dcterms:created>
  <dc:creator>Jesús Casas</dc:creator>
  <dc:description/>
  <dc:language>en-US</dc:language>
  <cp:lastModifiedBy>PC</cp:lastModifiedBy>
  <dcterms:modified xsi:type="dcterms:W3CDTF">2005-08-23T01:15:48Z</dcterms:modified>
  <cp:revision>35</cp:revision>
  <dc:subject/>
  <dc:title>DISEÑO PRELIMINAR DE DIAGRAMAS DE FLUJOS </dc:title>
</cp:coreProperties>
</file>