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6AD-9D44-4E9D-B857-9827945E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8C1-17DD-4454-889A-E2451E99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31B-BA8E-4ED7-A4F8-70B803CA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566-EA4D-4110-A07B-4759DA88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456-5D53-4579-81D3-2698AA12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FF2-0B0F-4959-A3F6-8EE8C8BA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71F-4A68-422E-BFAE-07A079FB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1EB-CE9F-4DC4-88C7-AED6CA7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408-9939-4027-96E2-FE6030D4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237-4B2C-405C-A488-437C732D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82E-647E-410A-9F20-91283C2F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A77-C8C6-48E6-82F2-0F80C35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5CC1-AAB2-46DE-A36F-C9BF3E0E93E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L REACT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Y SELECCIÓN DE CAMINOS DE REA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227664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00"/>
                </a:solidFill>
                <a:latin typeface="Times New Roman"/>
              </a:rPr>
              <a:t>Proceso Solvay </a:t>
            </a:r>
            <a:r>
              <a:rPr b="0" lang="es-ES_tradnl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29000" y="0"/>
          <a:ext cx="5715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0"/>
                    <a:ext cx="5715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914400"/>
          <a:ext cx="82296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2296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35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Tabla de Producción/Consumo para el Proceso Solvay</a:t>
            </a: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3505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NaCl  -----&gt;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Ca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021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ción Ne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28600" y="762120"/>
          <a:ext cx="8686800" cy="20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868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49040" y="2685960"/>
            <a:ext cx="9090000" cy="20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neficio Bruto Específico (Potencial Económic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eneficio 1 = (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5*11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- 10000 - 9280)/106 = U$ 47/ton Na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eneficio 2 = (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50*111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- 10000 - 9280)/106 = U$ 20.5/ton Na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93380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aterias Primas/Producto: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0000 + 92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*100/ 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900 +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</a:rPr>
              <a:t>75*11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l precio de venta es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81080" y="30384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Dutch801 XBd BT"/>
              </a:rPr>
              <a:t>Producción de 1 ton-mol de Ceniza de S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íntesis de Flujo de Materiales y Distribución de Especies</a:t>
            </a:r>
            <a:br>
              <a:rPr sz="4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59092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ón de 100 moles/h de S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r oxidación de azufre</a:t>
            </a:r>
            <a:br>
              <a:rPr sz="2800"/>
            </a:br>
            <a:br>
              <a:rPr sz="28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cción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+  O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-------&gt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br>
              <a:rPr sz="3200"/>
            </a:b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46483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mantener una temperatura baja en el quemador, se debe diluir el aire de entrada con un gas inerte frío. El comburente debe ser: 70% inerte y 30% oxígeno. 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¿Qué distribuciones de especies sugiere el empleo de nitrógeno y dióxido de azufre como gases diluyentes?.</a:t>
            </a: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609480" y="380880"/>
          <a:ext cx="5791320" cy="30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579132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85800" y="3494160"/>
          <a:ext cx="6248520" cy="33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494160"/>
                    <a:ext cx="624852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486400" y="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tribució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2004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tribució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52728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2349360"/>
            <a:ext cx="3240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Obtención de Compuestos de Litio a partir de Li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O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649440"/>
          <a:ext cx="8534160" cy="62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49440"/>
                    <a:ext cx="853416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3716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RIVADOS DEL PETROLE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22840" y="252360"/>
            <a:ext cx="4973400" cy="649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324000" y="2349360"/>
            <a:ext cx="3240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Obtención de Compuestos de Azufre a partir de Na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SO</a:t>
            </a:r>
            <a:r>
              <a:rPr b="1" lang="es-ES_tradnl" sz="2400" spc="-1" strike="noStrike" baseline="-25000">
                <a:solidFill>
                  <a:srgbClr val="cc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685800"/>
          <a:ext cx="86104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752480" y="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RIVADOS DEL METAN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858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MINOS DE REACCION PARA SINTETIZAR NYL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1428840"/>
          <a:ext cx="811512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28840"/>
                    <a:ext cx="811512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2746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0000"/>
                </a:solidFill>
                <a:latin typeface="Times New Roman"/>
              </a:rPr>
              <a:t>Producción de Compuestos de Molibd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7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ACTORE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7339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Tanque Agitado (en forma mecánica ó con aire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Tubular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echo Fijo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echo Fluidizado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Horno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Pil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eldas Electrolític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lumnas: Absorción, Intercambio Iónico, Adsorción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Fermentadore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Lagunas de Tratamiento de RILe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br>
              <a:rPr sz="2800"/>
            </a:br>
            <a:br>
              <a:rPr sz="4400"/>
            </a:b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19320" y="228600"/>
          <a:ext cx="609588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0958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77120" y="4572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os Reactores son los equipos principales en una planta indus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be lograr un alto rendimiento y una adecuada co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ar el uso de materias primas y minimizar la formación de residuos y/o subproducto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09480" y="1905120"/>
          <a:ext cx="5613480" cy="14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5613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cisiones para elegir el reactor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Tipos de reacción y reactor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Concentración de reactantes, productos e impureza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Temperatura de operació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Presión de operació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Fases (sólido, líquido, gas, orgánico, etc.)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Cataliz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minos y Sistemas de Reacción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914400"/>
          <a:ext cx="88390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8390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09480" y="57150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lternativas de procesamiento de un Mineral de Cob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Lixiviación de la Covelina (CuS)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ixiviación sin agente oxidante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HCl  ---&gt;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  + 2Cl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ás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4NaOH  ---&gt;  Cu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 +  4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ulfuro alcali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  ---&gt; 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ianuro alcali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3NaCN  ---&gt;  Cu(CN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3N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8380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ixiviación con agente oxidante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ác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0.5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u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º  +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ásico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4O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Cu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monia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 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 2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[Cu(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S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5734080"/>
            <a:ext cx="88930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caliza + 2NaCl  -----&gt; Na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+ CaCl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loruro de calcio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396720" y="333360"/>
            <a:ext cx="51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Proceso Solvay 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rbonato de Sodio</a:t>
            </a:r>
            <a:br>
              <a:rPr sz="3200"/>
            </a:b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(Na</a:t>
            </a:r>
            <a:r>
              <a:rPr b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1" lang="es-ES_tradnl" sz="32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365720"/>
            <a:ext cx="5113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Reacción Neta Indirecta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27560" y="260280"/>
            <a:ext cx="4816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2004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 Síntesis de hidróxido de amonio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) por absor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8769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- Síntesis de bicarbonato de sodio (NaHCO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+ NaCl ----&gt; 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  + NaH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18148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 Descomposición del bicarbonato por calcin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3520" y="6362640"/>
          <a:ext cx="9277200" cy="4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362640"/>
                    <a:ext cx="927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-228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tapas de Re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7621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- Calcinación a 1000ºC: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--&gt; Ca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cal)  + C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g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371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- Preparación de lechada de cal (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uy exotérmic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S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al viva) +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&gt;  Ca(OH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cal apa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3623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eneración de Amoníaco (NH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Ca(OH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ac) + 2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(a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---&gt;  2N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CaCl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(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29264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3(g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amoníaco)  + 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 ---&gt;  N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(ac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hidróxido de amon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21:09:43Z</dcterms:created>
  <dc:creator>Jesús Casas</dc:creator>
  <dc:description/>
  <dc:language>en-US</dc:language>
  <cp:lastModifiedBy>PC</cp:lastModifiedBy>
  <dcterms:modified xsi:type="dcterms:W3CDTF">2005-08-23T01:15:48Z</dcterms:modified>
  <cp:revision>35</cp:revision>
  <dc:subject/>
  <dc:title>DISEÑO PRELIMINAR DE DIAGRAMAS DE FLUJOS </dc:title>
</cp:coreProperties>
</file>