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29.wmf" ContentType="image/x-wmf"/>
  <Override PartName="/ppt/media/image1.png" ContentType="image/png"/>
  <Override PartName="/ppt/media/image28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18.wmf" ContentType="image/x-wmf"/>
  <Override PartName="/ppt/media/image13.wmf" ContentType="image/x-wmf"/>
  <Override PartName="/ppt/media/image35.png" ContentType="image/png"/>
  <Override PartName="/ppt/media/image5.png" ContentType="image/png"/>
  <Override PartName="/ppt/media/image30.wmf" ContentType="image/x-wmf"/>
  <Override PartName="/ppt/media/image31.wmf" ContentType="image/x-wmf"/>
  <Override PartName="/ppt/media/image32.wmf" ContentType="image/x-wmf"/>
  <Override PartName="/ppt/media/image34.png" ContentType="image/png"/>
  <Override PartName="/ppt/media/image17.wmf" ContentType="image/x-wmf"/>
  <Override PartName="/ppt/media/image9.wmf" ContentType="image/x-wmf"/>
  <Override PartName="/ppt/media/image38.wmf" ContentType="image/x-wmf"/>
  <Override PartName="/ppt/media/image39.png" ContentType="image/png"/>
  <Override PartName="/ppt/media/image11.wmf" ContentType="image/x-wmf"/>
  <Override PartName="/ppt/media/image37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9F1-DA01-45D6-913B-0E484B6C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0980-A913-42A3-BA96-E56E21C8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1902-1593-4BB4-99A1-4969D231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906C-9B6D-4C10-92BC-37C3EB3C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499-1F95-4EEF-8B06-0C200106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315-DCA7-42BD-AA1E-694A0B66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B00-547B-4F58-8573-09DF659C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B56-34EE-4573-A1E8-FED64A98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071E-9ACA-438C-8AF1-D6DB426D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A262-8180-4C96-9892-6C0B0712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DF4B-8EE6-46DA-BDEF-E81D5643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35F0-D1D6-4F18-8DEF-2EE1DFE3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3963-F978-4EEA-BC62-157F9A674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00" y="40464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RODUCCION AL DISEÑO CONCEPTUAL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aller de Diseño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f. Jesús Ca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BLO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9360" y="13064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ada operación se representa por un bl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as corrientes de flujo principal se representan por líneas flechadas en la dirección del fl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os flujos van desde la izquierda a la derecha del dia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e incluye la información crítica para entender el proce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5334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agrama de Bloques del Proceso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X-SX-EW para Producir Co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600200" y="609480"/>
          <a:ext cx="571968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571968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5280" y="571500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agrama de Bloques de 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95280" y="549360"/>
          <a:ext cx="84978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4978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FLU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representan TODOS los equipos de proceso junto son su descripción. Cada equipo tiene un número y un nom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odas las corrientes de proceso tienen un nú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 incluir una descripción de las condiciones (temperatura, presión), flujos y composición química, ya sea en el diagrama o una TABLA adju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TODAS las corrientes de servicios (vapor, aire, calefacción, etc.) que se alimentan a cada equipo de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los loops de control básicos que aseguran la estabilidad de las condiciones del proceso durante la operación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924680" cy="466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556272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Diagrama de Flujos del Proceso LIX-SX-E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Radomiro 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PRELIMINAR DE DIAGRAMAS DE FLUJ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Nuevas Ideas en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¿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Nuevas Ideas en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2362320"/>
            <a:ext cx="83055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oducir una materia prima costosa u obtenerla al mínimo costo.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Convertir un subproducto de desecho en un producto de valor.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Crear un material completamente nuevo.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Encontrar un nuevo camino de reacción para fabricar un producto existente. Por ejemplo, producir un catalizador nuevo, ó desarrollar una alternativa de bioprocesamiento.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Desarrollar o utilizar una nueva tecnología. Por ejemplo; membranas, biotecnología, sistemas expertos, robótica, etc.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Desarrollar o utilizar un nuevo material de construcción en un equipo de proceso. Por ejemplo; polímeros, anticorrosivos o materiales que soporten altas Tª y P, etc.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Desarrollar un tratamiento de efluentes contaminantes a bajo costo.</a:t>
            </a:r>
            <a:br>
              <a:rPr sz="2000"/>
            </a:br>
            <a:br>
              <a:rPr sz="44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85800" y="380880"/>
          <a:ext cx="7810560" cy="573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0880"/>
                    <a:ext cx="781056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520" y="2895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2286000"/>
            <a:ext cx="1066680" cy="27432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631400">
            <a:off x="6705360" y="2057040"/>
            <a:ext cx="1098360" cy="2590920"/>
          </a:xfrm>
          <a:custGeom>
            <a:avLst/>
            <a:gdLst>
              <a:gd name="textAreaLeft" fmla="*/ 146880 w 1098360"/>
              <a:gd name="textAreaRight" fmla="*/ 951480 w 1098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895480" y="304920"/>
            <a:ext cx="4038840" cy="1143000"/>
            <a:chOff x="2895480" y="304920"/>
            <a:chExt cx="4038840" cy="1143000"/>
          </a:xfrm>
        </p:grpSpPr>
        <p:sp>
          <p:nvSpPr>
            <p:cNvPr id="126" name=""/>
            <p:cNvSpPr/>
            <p:nvPr/>
          </p:nvSpPr>
          <p:spPr>
            <a:xfrm>
              <a:off x="2895480" y="304920"/>
              <a:ext cx="4038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SINTE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29000" y="380880"/>
              <a:ext cx="3048120" cy="990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743200" y="5486400"/>
            <a:ext cx="4038480" cy="1143000"/>
            <a:chOff x="2743200" y="5486400"/>
            <a:chExt cx="4038480" cy="1143000"/>
          </a:xfrm>
        </p:grpSpPr>
        <p:sp>
          <p:nvSpPr>
            <p:cNvPr id="129" name=""/>
            <p:cNvSpPr/>
            <p:nvPr/>
          </p:nvSpPr>
          <p:spPr>
            <a:xfrm>
              <a:off x="2743200" y="5486400"/>
              <a:ext cx="4038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ANALI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5486400"/>
              <a:ext cx="3200400" cy="1066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648320" y="1447920"/>
            <a:ext cx="485640" cy="838080"/>
          </a:xfrm>
          <a:prstGeom prst="downArrow">
            <a:avLst>
              <a:gd name="adj1" fmla="val 50000"/>
              <a:gd name="adj2" fmla="val 431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4572000"/>
            <a:ext cx="486000" cy="762120"/>
          </a:xfrm>
          <a:prstGeom prst="upArrow">
            <a:avLst>
              <a:gd name="adj1" fmla="val 50000"/>
              <a:gd name="adj2" fmla="val 392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GENESIS DE UN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ntecedentes bás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racterísticas de la materia prima y del producto que se des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ternativa de proces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proximación Jerárquica al Diseño Conceptu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840" y="1680840"/>
            <a:ext cx="8585640" cy="45500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- Proceso continuo vs. discontinuo vs. semicontinu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ructura de entrada y salida del diagrama de flu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- Estructura de reciclo del diagrama de flu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- Estructura general del sistema de sepa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a) Sistema de recuperación de g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b) Sistema de recuperación de líq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c) Sistema de recuperación de sól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d de intercambio de calor (integración de energí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- Planificación y programación de la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3810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CESO 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114800" cy="5638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ciones de operación estacion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 escala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a equipo realiza una operación o función específ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idad del producto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 de producción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a automat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ca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495320" y="914040"/>
            <a:ext cx="4343400" cy="571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uncionamiento intermit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iclo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queña escala de produ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lantas flexibles, multiproducto y multipropós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quipos multifuncionales y multi-operac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randes tiempos de procesamiento o resid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acciones lentas, Flujos pequeñ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tos que ensucian, incrustan o corroen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tos de calidad vari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locidad de producción vari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ucha mano de o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tos de alto valor y ca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cedimientos de síntesis complej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diciones de control muy estric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CESO BATCH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 DISCONTINUO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structura de Entrada y Salida del Diagrama de flujo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09480" y="2132640"/>
            <a:ext cx="7924680" cy="3201480"/>
            <a:chOff x="609480" y="2132640"/>
            <a:chExt cx="7924680" cy="3201480"/>
          </a:xfrm>
        </p:grpSpPr>
        <p:sp>
          <p:nvSpPr>
            <p:cNvPr id="141" name=""/>
            <p:cNvSpPr/>
            <p:nvPr/>
          </p:nvSpPr>
          <p:spPr>
            <a:xfrm>
              <a:off x="2895480" y="3276720"/>
              <a:ext cx="281952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14400" y="37339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14400" y="426744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5000" y="38862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10080" y="53341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410080" y="472428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476760" y="27432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15000" y="335304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352680" y="2743200"/>
              <a:ext cx="3124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52680" y="27432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67080" y="213264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480" y="3199320"/>
              <a:ext cx="19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40240" y="43423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sum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11720" y="335196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du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43600" y="472356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Sub-Produ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76760" y="27432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9440" y="2132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urg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24080" y="3423600"/>
              <a:ext cx="2362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DUC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nformación Prelimina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609480"/>
          <a:ext cx="861048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86104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JEMPLO: Proceso para producir benceno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partir de tolueno (Proceso HDA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143000"/>
          <a:ext cx="8393040" cy="54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39304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380880" y="609480"/>
          <a:ext cx="8420400" cy="560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42040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CISIONES A TOMAR DURANTE EL DISEÑO DEL DIAGRAMA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360" y="1330200"/>
            <a:ext cx="856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-¿Se debe purificar la corriente de alimentación antes de que entre en el proce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- ¿Se debe remover o recircular un sub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ver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- ¿Se debe usar un reciclo de gas con una corriente de purg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- ¿Se deben recuperar o recircular algunos react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- ¿Cuántas corrientes efluentes deben hab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- ¿Cuáles son las variables de diseño, y qué aspectos económicos están asociados con éll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1- ¿Se debe purificar la corriente de alimentación antes de que entre en el proce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9480" y="1390680"/>
          <a:ext cx="800100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90680"/>
                    <a:ext cx="800100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914400" y="5334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Remover Especies ó Purificar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==&gt; Aumento de Costos del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3520" y="1676520"/>
          <a:ext cx="8210520" cy="3124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676520"/>
                    <a:ext cx="82105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- ¿Se debe remover o recircular un subproducto reversi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990720" y="2209680"/>
          <a:ext cx="769608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76960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82880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La Decisión es Econó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)-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¿Se debe usar un reciclo de gas con una corriente de purg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38080" y="1752480"/>
          <a:ext cx="7791480" cy="325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9148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533520" y="525780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La separación de gases livianos requiere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 de alta presión y refrig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990720" y="533520"/>
          <a:ext cx="7154640" cy="51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33520"/>
                    <a:ext cx="715464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3520" y="5791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ENESIS DE UN PROCESO METALUR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)-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¿Se deben recuperar o recircular algunos reactantes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38080" y="1752480"/>
          <a:ext cx="7925040" cy="39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925040" cy="39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)-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¿Cuántas corrientes efluentes deben haber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5800" y="549360"/>
          <a:ext cx="876312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49360"/>
                    <a:ext cx="876312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jemplo: Encontrar el número de corrientes de productos para el proceso HD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1523880"/>
          <a:ext cx="8381880" cy="235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38188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"/>
          <p:cNvGrpSpPr/>
          <p:nvPr/>
        </p:nvGrpSpPr>
        <p:grpSpPr>
          <a:xfrm>
            <a:off x="1582560" y="3859920"/>
            <a:ext cx="6448680" cy="2731320"/>
            <a:chOff x="1582560" y="3859920"/>
            <a:chExt cx="6448680" cy="2731320"/>
          </a:xfrm>
        </p:grpSpPr>
        <p:sp>
          <p:nvSpPr>
            <p:cNvPr id="193" name=""/>
            <p:cNvSpPr/>
            <p:nvPr/>
          </p:nvSpPr>
          <p:spPr>
            <a:xfrm>
              <a:off x="3355920" y="4875120"/>
              <a:ext cx="2336760" cy="120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12880" y="525636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12880" y="570240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92680" y="538308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40320" y="659124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440320" y="608292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324480" y="443052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92680" y="4938840"/>
              <a:ext cx="63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733920" y="4430880"/>
              <a:ext cx="259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33920" y="4430880"/>
              <a:ext cx="0" cy="44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95960" y="388512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38360" y="477396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lu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82560" y="5701320"/>
              <a:ext cx="120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05720" y="490104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enc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83120" y="6044040"/>
              <a:ext cx="21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Difeni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24480" y="443088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46520" y="3859920"/>
              <a:ext cx="120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81280" y="4947480"/>
              <a:ext cx="1959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H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6)-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¿Cuáles son las variables de diseño, y qué</a:t>
            </a: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aspectos económicos están asociados con él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066680"/>
          <a:ext cx="8305920" cy="25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305920" cy="25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57200" y="3352680"/>
          <a:ext cx="8686800" cy="371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352680"/>
                    <a:ext cx="86868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cedimiento para Desarrollar Bala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7200" y="914400"/>
          <a:ext cx="8458200" cy="56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458200" cy="561168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jemplo: Balances de masa en el proceso H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49280" y="4403880"/>
          <a:ext cx="8373960" cy="208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4403880"/>
                    <a:ext cx="837396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501840" y="964440"/>
            <a:ext cx="8150400" cy="2731320"/>
            <a:chOff x="501840" y="964440"/>
            <a:chExt cx="8150400" cy="2731320"/>
          </a:xfrm>
        </p:grpSpPr>
        <p:sp>
          <p:nvSpPr>
            <p:cNvPr id="223" name=""/>
            <p:cNvSpPr/>
            <p:nvPr/>
          </p:nvSpPr>
          <p:spPr>
            <a:xfrm>
              <a:off x="3048120" y="1981080"/>
              <a:ext cx="2336760" cy="120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40000" y="236052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0000" y="280656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19800" y="248760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67440" y="369576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167440" y="318744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6051600" y="153468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19800" y="2043000"/>
              <a:ext cx="63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460320" y="153504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60680" y="1535040"/>
              <a:ext cx="0" cy="44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22720" y="98964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1840" y="1878840"/>
              <a:ext cx="239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Tolueno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2805840"/>
              <a:ext cx="220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5760" y="1954800"/>
              <a:ext cx="216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265 mol/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34120" y="309780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4) 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, Difeni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51600" y="153504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15720" y="964440"/>
              <a:ext cx="212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08400" y="2052000"/>
              <a:ext cx="1958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H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49600" y="2514600"/>
              <a:ext cx="171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3) Benc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533520" y="228600"/>
          <a:ext cx="8231040" cy="204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"/>
                    <a:ext cx="823104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533520" y="2666880"/>
          <a:ext cx="7997760" cy="2264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666880"/>
                    <a:ext cx="7997760" cy="22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85800" y="5181480"/>
          <a:ext cx="12728520" cy="1043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181480"/>
                    <a:ext cx="1272852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304920" y="304920"/>
          <a:ext cx="14358960" cy="79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143589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233280" y="1150920"/>
          <a:ext cx="8483760" cy="3629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280" y="1150920"/>
                    <a:ext cx="848376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304920" y="5105520"/>
          <a:ext cx="8177040" cy="1276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105520"/>
                    <a:ext cx="817704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abla de Corr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457200"/>
          <a:ext cx="86868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6868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7" name=""/>
          <p:cNvGrpSpPr/>
          <p:nvPr/>
        </p:nvGrpSpPr>
        <p:grpSpPr>
          <a:xfrm>
            <a:off x="1449000" y="3885120"/>
            <a:ext cx="6417000" cy="2706120"/>
            <a:chOff x="1449000" y="3885120"/>
            <a:chExt cx="6417000" cy="2706120"/>
          </a:xfrm>
        </p:grpSpPr>
        <p:sp>
          <p:nvSpPr>
            <p:cNvPr id="258" name=""/>
            <p:cNvSpPr/>
            <p:nvPr/>
          </p:nvSpPr>
          <p:spPr>
            <a:xfrm>
              <a:off x="4140000" y="388512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27160" y="388512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1449000" y="4430160"/>
              <a:ext cx="6417000" cy="2161080"/>
              <a:chOff x="1449000" y="4430160"/>
              <a:chExt cx="6417000" cy="2161080"/>
            </a:xfrm>
          </p:grpSpPr>
          <p:sp>
            <p:nvSpPr>
              <p:cNvPr id="261" name=""/>
              <p:cNvSpPr/>
              <p:nvPr/>
            </p:nvSpPr>
            <p:spPr>
              <a:xfrm>
                <a:off x="3065400" y="4876560"/>
                <a:ext cx="2336760" cy="120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457280" y="525600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457280" y="570204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37080" y="538308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84720" y="659124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5184720" y="608292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6068880" y="443016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437080" y="4938480"/>
                <a:ext cx="63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3478320" y="4430520"/>
                <a:ext cx="25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78320" y="4430520"/>
                <a:ext cx="0" cy="44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449000" y="47995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661400" y="57265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351400" y="601848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4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068880" y="4430520"/>
                <a:ext cx="1200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25680" y="4947480"/>
                <a:ext cx="19591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ROCES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HD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598800" y="487656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057040" y="457200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02360" y="-153000"/>
            <a:ext cx="610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eneficio Económico Brut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918000"/>
            <a:ext cx="8458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a el Proceso HDA se tiene:  B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{valor del benceno  +  valor del difenil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+ valor del combustible de la purg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 {valor del tolueno  - valor del gas consumido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 = {valor producto  +  valor subproducto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valor materia prima(s)}, [$/año]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No se consideran los costos de inversión ni los costos de servicios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 BE &lt; 0 ento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)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echar el diseño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)-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uscar una fuente de materias primas más baratas.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i)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uscar procesos altern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219320" y="228600"/>
          <a:ext cx="67816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"/>
                    <a:ext cx="67816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533520" y="5791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LTERNATIVAS DE PROCESAMIENTO HIDROMETALUR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0" y="1143000"/>
          <a:ext cx="883908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839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4572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e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neficio Bruto del Proceso HDA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 función de la conversión y de la fracción de hidrógeno en la corriente de pu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838080" y="304920"/>
          <a:ext cx="777240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777240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5943600" y="838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H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29000" y="16002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PH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= 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22860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PH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419720" y="1294920"/>
            <a:ext cx="990360" cy="3812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structura de los Sistemas de Sepa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04920" y="1143000"/>
          <a:ext cx="8305560" cy="54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30556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3048120" y="3227400"/>
          <a:ext cx="609588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227400"/>
                    <a:ext cx="60958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0" y="0"/>
          <a:ext cx="6095880" cy="350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095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09480" y="133200"/>
            <a:ext cx="769644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726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76312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12680" y="2373480"/>
            <a:ext cx="3038760" cy="3650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14720" y="1425600"/>
            <a:ext cx="4073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3640" y="2427120"/>
            <a:ext cx="220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ompimiento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12680" y="3638520"/>
            <a:ext cx="2979720" cy="5756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ecipitación  Áci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icos, Prote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5760" y="4735440"/>
            <a:ext cx="1560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cen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24960" y="5484960"/>
            <a:ext cx="1716120" cy="57564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rificación A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olu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83200" y="638028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i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12680" y="2954160"/>
            <a:ext cx="3043440" cy="5756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paración Mate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racelular (Desech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72360" y="765000"/>
            <a:ext cx="2945880" cy="39384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do de Fer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92280" y="1846440"/>
            <a:ext cx="3038400" cy="3348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59160" y="4707000"/>
            <a:ext cx="2305080" cy="30312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03600" y="6275520"/>
            <a:ext cx="2490840" cy="40788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1773360"/>
            <a:ext cx="321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paración de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30400" y="3375000"/>
            <a:ext cx="0" cy="26352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00480" y="4956120"/>
            <a:ext cx="183492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30400" y="2057400"/>
            <a:ext cx="0" cy="36972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4920" y="1582560"/>
            <a:ext cx="340848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564240" y="4851360"/>
            <a:ext cx="15890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603240" y="1582560"/>
            <a:ext cx="112572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46880" y="2057400"/>
            <a:ext cx="2775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1582560"/>
            <a:ext cx="0" cy="3254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76800" y="1266840"/>
            <a:ext cx="0" cy="31572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53920" y="1828800"/>
            <a:ext cx="2031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élulas inmovi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élulas reten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18920" y="1319040"/>
            <a:ext cx="157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30400" y="2743200"/>
            <a:ext cx="0" cy="201600"/>
          </a:xfrm>
          <a:prstGeom prst="line">
            <a:avLst/>
          </a:prstGeom>
          <a:ln w="7632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30400" y="2057400"/>
            <a:ext cx="44784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00480" y="4746600"/>
            <a:ext cx="0" cy="20952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139240" y="1582560"/>
            <a:ext cx="0" cy="326880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24440" y="2057400"/>
            <a:ext cx="0" cy="26319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84640" y="5010120"/>
            <a:ext cx="0" cy="4748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84640" y="5905440"/>
            <a:ext cx="0" cy="3603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00360" y="2004840"/>
            <a:ext cx="95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él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92320" y="3322800"/>
            <a:ext cx="170100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brenad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5484960"/>
            <a:ext cx="181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12680" y="4322880"/>
            <a:ext cx="2979720" cy="5756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tamiento de cuerpos inclu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30400" y="4060800"/>
            <a:ext cx="0" cy="26352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64240" y="5484960"/>
            <a:ext cx="20368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94520" y="6221520"/>
            <a:ext cx="2406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Per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tos niveles de pur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stabilidad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0"/>
            <a:ext cx="8604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ENESIS DE UN PROCESO BIOTECN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914400" y="838080"/>
          <a:ext cx="7353360" cy="182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353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" name=""/>
          <p:cNvGrpSpPr/>
          <p:nvPr/>
        </p:nvGrpSpPr>
        <p:grpSpPr>
          <a:xfrm>
            <a:off x="611280" y="2276640"/>
            <a:ext cx="7705800" cy="5790960"/>
            <a:chOff x="611280" y="2276640"/>
            <a:chExt cx="7705800" cy="5790960"/>
          </a:xfrm>
        </p:grpSpPr>
        <p:graphicFrame>
          <p:nvGraphicFramePr>
            <p:cNvPr id="92" name=""/>
            <p:cNvGraphicFramePr/>
            <p:nvPr/>
          </p:nvGraphicFramePr>
          <p:xfrm>
            <a:off x="755640" y="2276640"/>
            <a:ext cx="7505640" cy="57909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2276640"/>
                      <a:ext cx="7505640" cy="579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611280" y="5877000"/>
              <a:ext cx="77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d) Diagrama de Tuberías e Instrumentación (P I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S DE ENTRADA (INPUT) Y SALIDA (OUTPUT)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 I-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522936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HIDROMETALURGICO DEL COB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5280" y="609480"/>
          <a:ext cx="7910640" cy="41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9480"/>
                    <a:ext cx="7910640" cy="41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DE PRODUCCION DE BIOMASA (LEVADURA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4360" y="1989000"/>
          <a:ext cx="687528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687528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Jesus Casas</cp:lastModifiedBy>
  <cp:lastPrinted>2000-11-24T00:59:13Z</cp:lastPrinted>
  <dcterms:modified xsi:type="dcterms:W3CDTF">2007-08-16T18:40:51Z</dcterms:modified>
  <cp:revision>72</cp:revision>
  <dc:subject/>
  <dc:title>Principios y Metodología de Modelación</dc:title>
</cp:coreProperties>
</file>