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29.wmf" ContentType="image/x-wmf"/>
  <Override PartName="/ppt/media/image1.png" ContentType="image/png"/>
  <Override PartName="/ppt/media/image28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18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34.png" ContentType="image/png"/>
  <Override PartName="/ppt/media/image17.wmf" ContentType="image/x-wmf"/>
  <Override PartName="/ppt/media/image9.wmf" ContentType="image/x-wmf"/>
  <Override PartName="/ppt/media/image38.wmf" ContentType="image/x-wmf"/>
  <Override PartName="/ppt/media/image39.png" ContentType="image/png"/>
  <Override PartName="/ppt/media/image11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89C-D6AD-4580-857A-51EE8AC4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4E4-5775-41DC-ACDF-8292AEBE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A64-E705-4E79-9EA9-DF3B58F7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5AD-62D8-4DF7-9815-4FCF0903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0E7-CD0A-4A64-A842-94666FC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233-6273-446E-9128-1396EEEC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AD2-065E-4195-9501-9ACDEF4D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2E2-3FE7-4B02-858B-69DF7A7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B14-9FD7-411E-8EE5-3EC5C018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72D-18B3-42F1-ABF7-4F14E1E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F91-F99E-47F8-8FEF-FD95688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EE4-9153-4FA0-9127-DF6F009F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9474-CDBB-4725-8405-0AD8A500E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00" y="40464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RODUCCION AL DISEÑO CONCEPTUAL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f. Jesús Ca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l Proceso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X-SX-EW para Producir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00200" y="609480"/>
          <a:ext cx="571968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7196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55627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Diagrama de Flujos del Proceso LIX-SX-E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PRELIMINAR DE DIAGRAMAS DE FLUJ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¿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362320"/>
            <a:ext cx="8305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oducir una materia prima costosa u obtenerla al mínimo costo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Convertir un subproducto de desecho en un producto de valor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Crear un material completamente nuevo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Encontrar un nuevo camino de reacción para fabricar un producto existente. Por ejemplo, producir un catalizador nuevo, ó desarrollar una alternativa de bioprocesamiento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a nueva tecnología. Por ejemplo; membranas, biotecnología, sistemas expertos, robótica, etc.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 nuevo material de construcción en un equipo de proceso. Por ejemplo; polímeros, anticorrosivos o materiales que soporten altas Tª y P, etc.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un tratamiento de efluentes contaminantes a bajo costo.</a:t>
            </a:r>
            <a:br>
              <a:rPr sz="2000"/>
            </a:br>
            <a:br>
              <a:rPr sz="44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380880"/>
          <a:ext cx="7810560" cy="573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781056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126" name="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129" name="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GENESIS DE UN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tecedentes bá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racterísticas de la materia prima y del producto que se de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ernativa de proces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proximación Jerárquica al Diseño Conceptu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840" y="1680840"/>
            <a:ext cx="8585640" cy="45500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 Proceso continuo vs. discontinuo vs. semi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entrada y salida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 Estructura de reciclo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- Estructura general del sistema de sepa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) Sistema de recuperación de g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b) Sistema de recuperación de líq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) Sistema de recuperación de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 de intercambio de calor (integración de energ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- Planificación y programación de 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CES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11480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ciones de operación estacio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 escala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equipo realiza una operación o función espe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dad del producto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producción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 automat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ca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95320" y="914040"/>
            <a:ext cx="43434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miento intermit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clo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queña escala de p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lantas flexibles, multiproducto y multipropós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quipos multifuncionales y multi-oper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des tiempos de procesamiento o resid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ones lentas, Flujos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que ensucian, incrustan o corroen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calidad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 de producción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cha mano de o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alto valor y c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dimientos de síntesis comp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diciones de control muy estric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CESO BATCH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 DISCONTINU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structura de Entrada y Salida del Diagrama de fluj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2132640"/>
            <a:ext cx="7924680" cy="3201480"/>
            <a:chOff x="609480" y="2132640"/>
            <a:chExt cx="7924680" cy="3201480"/>
          </a:xfrm>
        </p:grpSpPr>
        <p:sp>
          <p:nvSpPr>
            <p:cNvPr id="141" name=""/>
            <p:cNvSpPr/>
            <p:nvPr/>
          </p:nvSpPr>
          <p:spPr>
            <a:xfrm>
              <a:off x="2895480" y="3276720"/>
              <a:ext cx="281952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37339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14400" y="42674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0080" y="53341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410080" y="47242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476760" y="27432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15000" y="33530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352680" y="274320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680" y="2743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2132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319932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0240" y="43423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11720" y="33519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600" y="47235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ub-Produ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6760" y="27432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9440" y="2132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r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24080" y="3423600"/>
              <a:ext cx="2362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DU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609480"/>
          <a:ext cx="86104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6104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partir de tolueno (Proceso HDA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143000"/>
          <a:ext cx="8393040" cy="54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930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80880" y="609480"/>
          <a:ext cx="842040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4204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CISIONES A TOMAR DURANTE EL DISEÑO DEL DIAGRAMA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360" y="1330200"/>
            <a:ext cx="856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¿Se debe purificar la corriente de alimentación antes de que entre en el proce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 ¿Se debe remover o recircular un sub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ver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 ¿Se debe usar un reciclo de gas con una corriente de purg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- ¿Se deben recuperar o recircular algunos react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 ¿Cuántas corrientes efluentes deben ha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- ¿Cuáles son las variables de diseño, y qué aspectos económicos están asociados con éll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1- ¿Se debe purificar la corriente de alimentación antes de que entre en el proce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139068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9144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Remover Especies ó Purificar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==&gt; Aumento de Costos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676520"/>
          <a:ext cx="8210520" cy="312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676520"/>
                    <a:ext cx="821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- ¿Se debe remover o recircular un subproducto rever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90720" y="2209680"/>
          <a:ext cx="769608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696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828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Decisión es 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)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Se debe usar un reciclo de gas con una corriente de pur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1752480"/>
          <a:ext cx="7791480" cy="32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9148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533520" y="52578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separación de gases livianos requiere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de alta presión y refrig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990720" y="533520"/>
          <a:ext cx="715464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71546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)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Se deben recuperar o recircular algunos reactantes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1752480"/>
          <a:ext cx="79250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92504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)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¿Cuántas corrientes efluentes deben hab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549360"/>
          <a:ext cx="876312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49360"/>
                    <a:ext cx="876312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jemplo: Encontrar el número de corrientes de productos para el proceso HD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523880"/>
          <a:ext cx="8381880" cy="23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3818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582560" y="3859920"/>
            <a:ext cx="6448680" cy="2731320"/>
            <a:chOff x="1582560" y="3859920"/>
            <a:chExt cx="6448680" cy="2731320"/>
          </a:xfrm>
        </p:grpSpPr>
        <p:sp>
          <p:nvSpPr>
            <p:cNvPr id="193" name=""/>
            <p:cNvSpPr/>
            <p:nvPr/>
          </p:nvSpPr>
          <p:spPr>
            <a:xfrm>
              <a:off x="3355920" y="487512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2880" y="52563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2880" y="57024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92680" y="53830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40320" y="65912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440320" y="60829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324480" y="44305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92680" y="493884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733920" y="44308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443088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9596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38360" y="47739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lu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2560" y="57013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05720" y="490104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83120" y="604404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24480" y="443088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46520" y="38599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81280" y="4947480"/>
              <a:ext cx="195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6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les son las variables de diseño, y qué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spectos económicos están asociados con él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066680"/>
          <a:ext cx="8305920" cy="25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05920" cy="25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3352680"/>
          <a:ext cx="8686800" cy="371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352680"/>
                    <a:ext cx="86868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cedimiento para Desarrollar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914400"/>
          <a:ext cx="8458200" cy="56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6116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jemplo: Balances de masa en 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49280" y="4403880"/>
          <a:ext cx="8373960" cy="20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4403880"/>
                    <a:ext cx="837396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501840" y="964440"/>
            <a:ext cx="8150400" cy="2731320"/>
            <a:chOff x="501840" y="964440"/>
            <a:chExt cx="8150400" cy="2731320"/>
          </a:xfrm>
        </p:grpSpPr>
        <p:sp>
          <p:nvSpPr>
            <p:cNvPr id="223" name=""/>
            <p:cNvSpPr/>
            <p:nvPr/>
          </p:nvSpPr>
          <p:spPr>
            <a:xfrm>
              <a:off x="3048120" y="198108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2360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000" y="28065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9800" y="24876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67440" y="36957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167440" y="318744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051600" y="153468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19800" y="204300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460320" y="15350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60680" y="153504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22720" y="989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1840" y="187884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280584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5760" y="195480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34120" y="30978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51600" y="153504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5720" y="96444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8400" y="205200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49600" y="25146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533520" y="228600"/>
          <a:ext cx="8231040" cy="20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23104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33520" y="2666880"/>
          <a:ext cx="7997760" cy="22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666880"/>
                    <a:ext cx="799776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" y="5181480"/>
          <a:ext cx="12728520" cy="1043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181480"/>
                    <a:ext cx="127285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04920" y="304920"/>
          <a:ext cx="14358960" cy="79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43589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33280" y="1150920"/>
          <a:ext cx="8483760" cy="362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1150920"/>
                    <a:ext cx="84837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04920" y="5105520"/>
          <a:ext cx="8177040" cy="1276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105520"/>
                    <a:ext cx="81770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4572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1449000" y="3885120"/>
            <a:ext cx="6417000" cy="2706120"/>
            <a:chOff x="1449000" y="3885120"/>
            <a:chExt cx="6417000" cy="2706120"/>
          </a:xfrm>
        </p:grpSpPr>
        <p:sp>
          <p:nvSpPr>
            <p:cNvPr id="258" name=""/>
            <p:cNvSpPr/>
            <p:nvPr/>
          </p:nvSpPr>
          <p:spPr>
            <a:xfrm>
              <a:off x="414000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27160" y="3885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449000" y="4430160"/>
              <a:ext cx="6417000" cy="2161080"/>
              <a:chOff x="1449000" y="4430160"/>
              <a:chExt cx="6417000" cy="2161080"/>
            </a:xfrm>
          </p:grpSpPr>
          <p:sp>
            <p:nvSpPr>
              <p:cNvPr id="261" name=""/>
              <p:cNvSpPr/>
              <p:nvPr/>
            </p:nvSpPr>
            <p:spPr>
              <a:xfrm>
                <a:off x="3065400" y="487656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57280" y="525600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57280" y="57020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37080" y="5383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4720" y="65912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184720" y="608292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068880" y="443016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37080" y="493848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478320" y="443052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78320" y="443052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49000" y="4799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61400" y="5726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51400" y="60184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68880" y="443052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25680" y="494748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98800" y="487656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057040" y="457200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2360" y="-153000"/>
            <a:ext cx="610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eneficio Económico Bru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9180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el Proceso HDA se tiene:  B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{valor del benceno  +  valor del difenil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valor del combustible de la purg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 {valor del tolueno  - valor del gas consumido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 = {valor producto  +  valor subproducto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valor materia prima(s)}, [$/año]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No se consideran los costos de inversión ni los costos de servicios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 BE &lt; 0 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echar el diseño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)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una fuente de materias primas más baratas.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proces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219320" y="228600"/>
          <a:ext cx="67816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781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TERNATIVAS DE PROCESAMIENTO HIDROMETALUR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1143000"/>
          <a:ext cx="88390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83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neficio Bruto del Proceso HDA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n función de la conversión y de la fracción de hidrógeno en la corriente de pu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048120" y="3227400"/>
          <a:ext cx="609588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227400"/>
                    <a:ext cx="60958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0" y="0"/>
          <a:ext cx="609588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095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6964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2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12680" y="2373480"/>
            <a:ext cx="3038760" cy="3650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4720" y="1425600"/>
            <a:ext cx="4073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3640" y="2427120"/>
            <a:ext cx="220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mpimiento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2680" y="363852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cipitación  Áci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icos, Prote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5760" y="4735440"/>
            <a:ext cx="156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4960" y="5484960"/>
            <a:ext cx="1716120" cy="57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83200" y="638028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12680" y="2954160"/>
            <a:ext cx="3043440" cy="5756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acelular (Desech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2360" y="765000"/>
            <a:ext cx="2945880" cy="3938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92280" y="1846440"/>
            <a:ext cx="3038400" cy="3348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59160" y="4707000"/>
            <a:ext cx="2305080" cy="30312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03600" y="6275520"/>
            <a:ext cx="2490840" cy="40788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773360"/>
            <a:ext cx="321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0400" y="33750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00480" y="4956120"/>
            <a:ext cx="183492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0400" y="2057400"/>
            <a:ext cx="0" cy="369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4920" y="158256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564240" y="4851360"/>
            <a:ext cx="15890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603240" y="1582560"/>
            <a:ext cx="11257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46880" y="2057400"/>
            <a:ext cx="2775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1582560"/>
            <a:ext cx="0" cy="3254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76800" y="1266840"/>
            <a:ext cx="0" cy="3157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53920" y="1828800"/>
            <a:ext cx="2031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18920" y="1319040"/>
            <a:ext cx="157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30400" y="2743200"/>
            <a:ext cx="0" cy="20160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30400" y="2057400"/>
            <a:ext cx="4478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00480" y="4746600"/>
            <a:ext cx="0" cy="2095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39240" y="1582560"/>
            <a:ext cx="0" cy="326880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440" y="2057400"/>
            <a:ext cx="0" cy="26319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84640" y="5010120"/>
            <a:ext cx="0" cy="4748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84640" y="5905440"/>
            <a:ext cx="0" cy="360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0360" y="200484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él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92320" y="3322800"/>
            <a:ext cx="17010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48496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2680" y="4322880"/>
            <a:ext cx="2979720" cy="5756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30400" y="4060800"/>
            <a:ext cx="0" cy="26352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64240" y="5484960"/>
            <a:ext cx="2036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94520" y="6221520"/>
            <a:ext cx="2406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0"/>
            <a:ext cx="8604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ENESIS DE UN PROCESO BIOTECN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14400" y="838080"/>
          <a:ext cx="735336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353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611280" y="2276640"/>
            <a:ext cx="7705800" cy="5790960"/>
            <a:chOff x="611280" y="2276640"/>
            <a:chExt cx="7705800" cy="5790960"/>
          </a:xfrm>
        </p:grpSpPr>
        <p:graphicFrame>
          <p:nvGraphicFramePr>
            <p:cNvPr id="92" name=""/>
            <p:cNvGraphicFramePr/>
            <p:nvPr/>
          </p:nvGraphicFramePr>
          <p:xfrm>
            <a:off x="755640" y="2276640"/>
            <a:ext cx="7505640" cy="57909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2276640"/>
                      <a:ext cx="7505640" cy="579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611280" y="5877000"/>
              <a:ext cx="77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d) Diagrama de Tuberías e Instrumentación (P I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Jesus Casas</cp:lastModifiedBy>
  <cp:lastPrinted>2000-11-24T00:59:13Z</cp:lastPrinted>
  <dcterms:modified xsi:type="dcterms:W3CDTF">2007-08-16T18:40:51Z</dcterms:modified>
  <cp:revision>72</cp:revision>
  <dc:subject/>
  <dc:title>Principios y Metodología de Modelación</dc:title>
</cp:coreProperties>
</file>