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media/image12.png" ContentType="image/png"/>
  <Override PartName="/ppt/media/image7.wmf" ContentType="image/x-wmf"/>
  <Override PartName="/ppt/media/image20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29.wmf" ContentType="image/x-wmf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7.png" ContentType="image/png"/>
  <Override PartName="/ppt/media/image25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21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wmf" ContentType="image/x-wmf"/>
  <Override PartName="/ppt/media/image14.jpeg" ContentType="image/jpe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20D-8B83-4742-BC04-F640F12F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9141-84F7-42A1-B7A9-3B0C62C9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7CC9-2D8B-407C-B3AA-CC99AF97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783-7737-4C66-9ECE-34A465B2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201-A88A-4B07-B0F5-49F663FD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669D-AD29-4F24-B86B-91BDBD4D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646B-703D-4E18-91DF-6F74B2C7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CD5D-BA56-4993-96A3-B101ED24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5355-3055-48CD-8D07-D7FD61BF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A59E-3541-4E50-BBFA-7AB11C90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D50D-FBCF-49CD-9278-A4EA80AD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A283-2955-4134-9CCA-D647B770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2375-FEBA-4B75-BDA7-812C4E46A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04920" y="22096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RODUCCION AL DISEÑO CONCEPTUAL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aller de Diseño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914400" y="838080"/>
          <a:ext cx="7353360" cy="182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73533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"/>
          <p:cNvGrpSpPr/>
          <p:nvPr/>
        </p:nvGrpSpPr>
        <p:grpSpPr>
          <a:xfrm>
            <a:off x="611280" y="2276640"/>
            <a:ext cx="7705800" cy="5790960"/>
            <a:chOff x="611280" y="2276640"/>
            <a:chExt cx="7705800" cy="5790960"/>
          </a:xfrm>
        </p:grpSpPr>
        <p:graphicFrame>
          <p:nvGraphicFramePr>
            <p:cNvPr id="160" name=""/>
            <p:cNvGraphicFramePr/>
            <p:nvPr/>
          </p:nvGraphicFramePr>
          <p:xfrm>
            <a:off x="755640" y="2276640"/>
            <a:ext cx="7505640" cy="57909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5640" y="2276640"/>
                      <a:ext cx="7505640" cy="579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611280" y="5877000"/>
              <a:ext cx="770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d) Diagrama de Tuberías e Instrumentación (P I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IAGRAMAS DE ENTRADA (INPUT) Y SALIDA (OUTPUT)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IAGRAMA I-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640" y="522936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IAGRAMA GENERAL ENTRADA-SALIDA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ROCESO HIDROMETALURGICO DEL COB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609480"/>
          <a:ext cx="7910640" cy="41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9480"/>
                    <a:ext cx="7910640" cy="41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IAGRAMA GENERAL ENTRADA-SALIDA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ROCESO DE PRODUCCION DE BIOMASA (LEVADURA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4360" y="1989000"/>
          <a:ext cx="687528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687528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AGRAMAS DE BLO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79360" y="13064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Conven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ada operación se representa por un bl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as corrientes de flujo principal se representan por líneas flechadas en la dirección del fl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os flujos van desde la izquierda a la derecha del diagr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e incluye la información crítica para entender el proce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5334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iagrama de Bloques del Proceso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X-SX-EW para Producir Co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600200" y="609480"/>
          <a:ext cx="571968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09480"/>
                    <a:ext cx="571968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95280" y="5715000"/>
            <a:ext cx="87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iagrama de Bloques de producción de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549360"/>
          <a:ext cx="84978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84978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AGRAMAS DE FLU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Comic Sans MS"/>
              </a:rPr>
              <a:t>Conv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representan TODOS los equipos de proceso junto son su descripción. Cada equipo tiene un número y un nom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odas las corrientes de proceso tienen un nú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 incluir una descripción de las condiciones (temperatura, presión), flujos y composición química, ya sea en el diagrama o una TABLA adju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n representar TODAS las corrientes de servicios (vapor, aire, calefacción, etc.) que se alimentan a cada equipo de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n representar los loops de control básicos que aseguran la estabilidad de las condiciones del proceso durante la operación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0203" t="16572" r="9185" b="17029"/>
          <a:stretch/>
        </p:blipFill>
        <p:spPr>
          <a:xfrm>
            <a:off x="250920" y="334800"/>
            <a:ext cx="835344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956720" cy="537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0" y="4653000"/>
          <a:ext cx="5203800" cy="2435040"/>
        </p:xfrm>
        <a:graphic>
          <a:graphicData uri="http://schemas.openxmlformats.org/drawingml/2006/table">
            <a:tbl>
              <a:tblPr/>
              <a:tblGrid>
                <a:gridCol w="1403280"/>
                <a:gridCol w="720720"/>
                <a:gridCol w="719280"/>
                <a:gridCol w="628560"/>
                <a:gridCol w="866880"/>
                <a:gridCol w="86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[kg/día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 [kg/día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era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en-US" sz="3400" spc="-1" strike="noStrike">
                <a:solidFill>
                  <a:srgbClr val="003366"/>
                </a:solidFill>
                <a:latin typeface="Times New Roman"/>
              </a:rPr>
              <a:t>PROCESO INDUSTRI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84600" y="1600200"/>
            <a:ext cx="2185920" cy="1720800"/>
          </a:xfrm>
          <a:prstGeom prst="ellipse">
            <a:avLst/>
          </a:prstGeom>
          <a:noFill/>
          <a:ln w="50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73200" y="2427120"/>
            <a:ext cx="20750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08680" y="2427120"/>
            <a:ext cx="20746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9200" y="1698480"/>
            <a:ext cx="2447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0560" rIns="70560" tIns="34560" bIns="34560" anchor="t">
            <a:sp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ATERIAS PRIM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20040" y="2689200"/>
            <a:ext cx="12650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0560" rIns="70560" tIns="34560" bIns="34560" anchor="t">
            <a:sp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SUM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87560" y="1952640"/>
            <a:ext cx="1653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0560" rIns="70560" tIns="34560" bIns="34560" anchor="t">
            <a:sp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PRODUC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17800" y="2122560"/>
            <a:ext cx="220212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4560" bIns="34560" anchor="t">
            <a:sp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724280" y="3375000"/>
            <a:ext cx="0" cy="174168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29920" y="4238640"/>
            <a:ext cx="2770920" cy="15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0560" rIns="70560" tIns="34560" bIns="34560" anchor="t">
            <a:sp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GENIERÍ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ECURSOS HUMAN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APITAL, $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28360" y="4005360"/>
            <a:ext cx="164772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0560" rIns="70560" tIns="34560" bIns="34560" anchor="t">
            <a:sp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DISEÑ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5867280" y="30700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onvenciones para la identificación de equip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compr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intercambiadores de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calentadores a ll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bom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reac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colum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estanques de almace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estanque de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meración de los equi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101 A/B identifica un bom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01 A/B identifica que la bomba esta ubicada en el área Nº 1 de la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A/B identifica que la bomba es la número 01 de las n existentes en la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101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A/B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identifica que hay dos bombas identicas, una de respaldo (backu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9364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nformación para las corrientes de flu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20858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úmero de la cor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emperatura (º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esión (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racción de va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total másico (kg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molar total (kmol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molar para cada componente (kmol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5640" y="2174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cciones molares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cciones másicas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jo volu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iedades físicas (densidad, viscosidad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os termodinámicos (calor específico, entalpía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mbre de la cor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26280" y="15462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56600" y="157464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has veces, ademá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4520" y="15192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venciones para la identificación de las corrientes en los diagra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219400" y="1609560"/>
            <a:ext cx="390996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1523880" y="1589040"/>
          <a:ext cx="6096240" cy="36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89040"/>
                    <a:ext cx="609624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85800" y="228600"/>
            <a:ext cx="7696080" cy="49528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flipV="1">
            <a:off x="685800" y="30477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5486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iagrama de Flujos del Proceso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X-SX-EW para Producir Co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-793800" y="0"/>
            <a:ext cx="9367920" cy="69897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11280" y="292428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iagrama de Flujo Planta Tratamiento de R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724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agramas P&amp;ID </a:t>
            </a: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</a:rPr>
              <a:t>Conven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96960" y="1981080"/>
          <a:ext cx="7761240" cy="4114800"/>
        </p:xfrm>
        <a:graphic>
          <a:graphicData uri="http://schemas.openxmlformats.org/drawingml/2006/table">
            <a:tbl>
              <a:tblPr/>
              <a:tblGrid>
                <a:gridCol w="2468520"/>
                <a:gridCol w="52927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quipos de pro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ostrar equipos de respaldo, unidades paralelas, detalles principales para cada u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ñerí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amaño (usar estándares), espesor de pared (schedule), material de construcción, aislación (tipo y espes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strumen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dicadores, registradores, controladores y tipo, cañerías o alambres de los instru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adas y salidas de las corrientes (aire, vapor, etc.), salidas de las corrientes a las plantas de tratamiento de eflu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31880" y="14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nvenciones para los Instrumentos en los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63480" y="3132000"/>
            <a:ext cx="3810240" cy="35323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análi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quem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condu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volt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flu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corr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presión o vací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tempera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tiempo o pro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25640" y="3158640"/>
            <a:ext cx="3809880" cy="3497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ala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ele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máx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dic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estación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ori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04760" y="1419120"/>
            <a:ext cx="7374240" cy="1289160"/>
          </a:xfrm>
          <a:prstGeom prst="rect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38120" y="1542960"/>
            <a:ext cx="297000" cy="26208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92000" y="150804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strumento en la pla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41360" y="1892160"/>
            <a:ext cx="297000" cy="29556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28760" y="2313000"/>
            <a:ext cx="297000" cy="26208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92000" y="1859040"/>
            <a:ext cx="30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strumento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en el panel de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49160" y="2247840"/>
            <a:ext cx="49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strumento en la cara posterior del panel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38120" y="2057400"/>
            <a:ext cx="298440" cy="0"/>
          </a:xfrm>
          <a:prstGeom prst="line">
            <a:avLst/>
          </a:prstGeom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19040" y="2455920"/>
            <a:ext cx="309600" cy="0"/>
          </a:xfrm>
          <a:prstGeom prst="line">
            <a:avLst/>
          </a:prstGeom>
          <a:ln cap="rnd" w="9360">
            <a:solidFill>
              <a:srgbClr val="cc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9440" y="272736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IMERA LETRA 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00200" y="2751120"/>
            <a:ext cx="27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EGUNDA LETRA 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32720" y="1635120"/>
            <a:ext cx="822240" cy="696960"/>
          </a:xfrm>
          <a:prstGeom prst="ellipse">
            <a:avLst/>
          </a:prstGeom>
          <a:noFill/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10480" y="1787400"/>
            <a:ext cx="7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Y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5881" t="12550" r="5881" b="12156"/>
          <a:stretch/>
        </p:blipFill>
        <p:spPr>
          <a:xfrm>
            <a:off x="0" y="0"/>
            <a:ext cx="8820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2320" y="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agramas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85840" y="712800"/>
            <a:ext cx="84852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33520" y="514440"/>
          <a:ext cx="8076960" cy="28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14440"/>
                    <a:ext cx="807696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33520" y="2590920"/>
          <a:ext cx="8076960" cy="4019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590920"/>
                    <a:ext cx="807696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320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n intercambi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89080" y="1411200"/>
            <a:ext cx="57578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 u="sng">
                <a:solidFill>
                  <a:srgbClr val="000000"/>
                </a:solidFill>
                <a:uFillTx/>
                <a:latin typeface="Times New Roman"/>
              </a:rPr>
              <a:t>Otros diagramas y  pla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Mecánico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Mecánico Ele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Eléct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Isomét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3029" t="10342" r="3029" b="9507"/>
          <a:stretch/>
        </p:blipFill>
        <p:spPr>
          <a:xfrm>
            <a:off x="684360" y="1003320"/>
            <a:ext cx="7488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924680" cy="466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57200" y="5562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Esquema del Proceso LIX-SX-EW, Radomiro 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Mecánico Plan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12923" t="18783" r="12920" b="19025"/>
          <a:stretch/>
        </p:blipFill>
        <p:spPr>
          <a:xfrm>
            <a:off x="395280" y="784080"/>
            <a:ext cx="777708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Mecánico Ele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3029" t="10342" r="2019" b="10799"/>
          <a:stretch/>
        </p:blipFill>
        <p:spPr>
          <a:xfrm>
            <a:off x="611280" y="946080"/>
            <a:ext cx="74898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Eléc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rcRect l="41053" t="9431" r="4296" b="11087"/>
          <a:stretch/>
        </p:blipFill>
        <p:spPr>
          <a:xfrm>
            <a:off x="539640" y="890640"/>
            <a:ext cx="7561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10103" t="15513" r="10103" b="15971"/>
          <a:stretch/>
        </p:blipFill>
        <p:spPr>
          <a:xfrm>
            <a:off x="755640" y="1009800"/>
            <a:ext cx="7488360" cy="5848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Isomé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228600" y="304920"/>
          <a:ext cx="8744040" cy="560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74404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5654880" cy="6269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858000" y="236232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X-SX-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STRUCTURA GENERAL DE UN PROCESO PRODU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219320" y="457200"/>
          <a:ext cx="731520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731520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84360" y="333360"/>
            <a:ext cx="1439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Materias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404640"/>
            <a:ext cx="1655640" cy="64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3429000"/>
            <a:ext cx="7272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51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Tratamientos de RILes, RI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549360" y="-228600"/>
            <a:ext cx="8594280" cy="5562720"/>
            <a:chOff x="549360" y="-228600"/>
            <a:chExt cx="8594280" cy="5562720"/>
          </a:xfrm>
        </p:grpSpPr>
        <p:grpSp>
          <p:nvGrpSpPr>
            <p:cNvPr id="66" name=""/>
            <p:cNvGrpSpPr/>
            <p:nvPr/>
          </p:nvGrpSpPr>
          <p:grpSpPr>
            <a:xfrm>
              <a:off x="549360" y="242640"/>
              <a:ext cx="8594280" cy="5091480"/>
              <a:chOff x="549360" y="242640"/>
              <a:chExt cx="8594280" cy="5091480"/>
            </a:xfrm>
          </p:grpSpPr>
          <p:sp>
            <p:nvSpPr>
              <p:cNvPr id="67" name=""/>
              <p:cNvSpPr/>
              <p:nvPr/>
            </p:nvSpPr>
            <p:spPr>
              <a:xfrm>
                <a:off x="1555200" y="969840"/>
                <a:ext cx="2926080" cy="190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761800" y="1060920"/>
                <a:ext cx="2468880" cy="1636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853240" y="1424520"/>
                <a:ext cx="2468880" cy="10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RED DE INTERCAMBIADOR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DE CAL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3841200" y="333000"/>
                <a:ext cx="0" cy="63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9360" y="160632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63760" y="469764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63760" y="524340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841200" y="2879280"/>
                <a:ext cx="0" cy="90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292560" y="2879280"/>
                <a:ext cx="0" cy="90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81640" y="124272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481640" y="251568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401880" y="2697480"/>
                <a:ext cx="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767640" y="2697480"/>
                <a:ext cx="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8230680" y="1424520"/>
                <a:ext cx="73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7682040" y="469764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962560" y="1424520"/>
                <a:ext cx="0" cy="327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463760" y="415224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49360" y="251568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49360" y="206100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463760" y="1333440"/>
                <a:ext cx="3200400" cy="10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LANTA   D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OCESOS   QUIMIC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926800" y="3788640"/>
                <a:ext cx="4755240" cy="1545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49360" y="1151640"/>
                <a:ext cx="10058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Materi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49360" y="1697400"/>
                <a:ext cx="10058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im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49360" y="2151720"/>
                <a:ext cx="10972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Insum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2561040" y="333000"/>
                <a:ext cx="0" cy="63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652480" y="242640"/>
                <a:ext cx="10972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oduc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841200" y="3333960"/>
                <a:ext cx="118872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y Servic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841200" y="3061080"/>
                <a:ext cx="12801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uministr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012400" y="3061080"/>
                <a:ext cx="12801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Electricid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920960" y="3788640"/>
                <a:ext cx="8229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gu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555200" y="4334040"/>
                <a:ext cx="137160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mbustibl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12400" y="4879440"/>
                <a:ext cx="640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i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73080" y="1969920"/>
                <a:ext cx="1371600" cy="72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rr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Frí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573080" y="696960"/>
                <a:ext cx="1371600" cy="72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rr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676200" y="2879280"/>
                <a:ext cx="1461600" cy="63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ervicio 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ent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82040" y="3788640"/>
                <a:ext cx="1461600" cy="63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ervicio 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Enfri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41200" y="3970440"/>
                <a:ext cx="26517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LANTAS DE SERVIC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15520" y="4424760"/>
                <a:ext cx="25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deras, Turbin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ire Comprimid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Oxígeno, Vací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2194920" y="-228600"/>
              <a:ext cx="576036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6" name=""/>
          <p:cNvGraphicFramePr/>
          <p:nvPr/>
        </p:nvGraphicFramePr>
        <p:xfrm>
          <a:off x="876240" y="6172200"/>
          <a:ext cx="802008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6172200"/>
                    <a:ext cx="80200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364000" y="549360"/>
            <a:ext cx="3203640" cy="25192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692280"/>
            <a:ext cx="3203640" cy="25192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GENESIS DE UN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ntecedentes bás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racterísticas de la materia prima y del producto que se des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ternativa de proces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990720" y="533520"/>
          <a:ext cx="7154640" cy="51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33520"/>
                    <a:ext cx="7154640" cy="51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33520" y="5791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ENESIS DE UN PROCESO METALUR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219320" y="228600"/>
          <a:ext cx="67816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"/>
                    <a:ext cx="67816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33520" y="5791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LTERNATIVAS DE PROCESAMIENTO HIDROMETALUR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12680" y="2373480"/>
            <a:ext cx="3038760" cy="3650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14720" y="1425600"/>
            <a:ext cx="4073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3640" y="2427120"/>
            <a:ext cx="220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ompimiento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12680" y="3638520"/>
            <a:ext cx="2979720" cy="5756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ecipitación  Áci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icos, Prote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5760" y="4735440"/>
            <a:ext cx="1560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cen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24960" y="5484960"/>
            <a:ext cx="1716120" cy="57564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rificación A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olu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83200" y="6380280"/>
            <a:ext cx="130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i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12680" y="2954160"/>
            <a:ext cx="3043440" cy="5756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paración Mate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racelular (Desech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72360" y="765000"/>
            <a:ext cx="2945880" cy="39384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ldo de Fer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92280" y="1846440"/>
            <a:ext cx="3038400" cy="3348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59160" y="4707000"/>
            <a:ext cx="2305080" cy="30312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03600" y="6275520"/>
            <a:ext cx="2490840" cy="40788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56000" y="1773360"/>
            <a:ext cx="3213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paración de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30400" y="3375000"/>
            <a:ext cx="0" cy="26352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00480" y="4956120"/>
            <a:ext cx="183492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30400" y="2057400"/>
            <a:ext cx="0" cy="36972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14920" y="1582560"/>
            <a:ext cx="340848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564240" y="4851360"/>
            <a:ext cx="15890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603240" y="1582560"/>
            <a:ext cx="112572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46880" y="2057400"/>
            <a:ext cx="27756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03600" y="1582560"/>
            <a:ext cx="0" cy="3254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76800" y="1266840"/>
            <a:ext cx="0" cy="31572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53920" y="1828800"/>
            <a:ext cx="20311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élulas inmoviliz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élulas reten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18920" y="1319040"/>
            <a:ext cx="157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30400" y="2743200"/>
            <a:ext cx="0" cy="201600"/>
          </a:xfrm>
          <a:prstGeom prst="line">
            <a:avLst/>
          </a:prstGeom>
          <a:ln w="76320">
            <a:solidFill>
              <a:srgbClr val="b50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30400" y="2057400"/>
            <a:ext cx="44784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00480" y="4746600"/>
            <a:ext cx="0" cy="20952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139240" y="1582560"/>
            <a:ext cx="0" cy="326880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24440" y="2057400"/>
            <a:ext cx="0" cy="263196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84640" y="5010120"/>
            <a:ext cx="0" cy="4748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05440"/>
            <a:ext cx="0" cy="36036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00360" y="2004840"/>
            <a:ext cx="95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él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92320" y="3322800"/>
            <a:ext cx="170100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brenad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5484960"/>
            <a:ext cx="181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12680" y="4322880"/>
            <a:ext cx="2979720" cy="5756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tamiento de cuerpos inclu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30400" y="4060800"/>
            <a:ext cx="0" cy="26352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64240" y="5484960"/>
            <a:ext cx="20368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94520" y="6221520"/>
            <a:ext cx="2406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Perm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tos niveles de pure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stabilidad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0"/>
            <a:ext cx="8604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ENESIS DE UN PROCESO BIOTECN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>Miguel</dc:creator>
  <dc:description/>
  <dc:language>en-US</dc:language>
  <cp:lastModifiedBy> Jesús Casas</cp:lastModifiedBy>
  <cp:lastPrinted>2000-11-24T00:59:13Z</cp:lastPrinted>
  <dcterms:modified xsi:type="dcterms:W3CDTF">2003-08-10T17:50:06Z</dcterms:modified>
  <cp:revision>68</cp:revision>
  <dc:subject/>
  <dc:title>Principios y Metodología de Modelación</dc:title>
</cp:coreProperties>
</file>