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media/image12.png" ContentType="image/png"/>
  <Override PartName="/ppt/media/image7.wmf" ContentType="image/x-wmf"/>
  <Override PartName="/ppt/media/image20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29.wmf" ContentType="image/x-wmf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2.wmf" ContentType="image/x-wmf"/>
  <Override PartName="/ppt/media/image27.png" ContentType="image/png"/>
  <Override PartName="/ppt/media/image25.png" ContentType="image/png"/>
  <Override PartName="/ppt/media/image24.png" ContentType="image/png"/>
  <Override PartName="/ppt/media/image23.wmf" ContentType="image/x-wmf"/>
  <Override PartName="/ppt/media/image22.png" ContentType="image/png"/>
  <Override PartName="/ppt/media/image21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wmf" ContentType="image/x-wmf"/>
  <Override PartName="/ppt/media/image14.jpeg" ContentType="image/jpeg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979C-7EC0-4E45-850E-FEF7A53C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67EC-708D-4754-A7FE-B0F5C3EC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55E8-87D6-4510-8438-D3889A8B0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0DBC-B424-495C-9ED8-E218904A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171E-F5F2-46A4-B69D-6CFC4DE3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7EA9-A07A-46E7-AA35-F894F351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C698-3056-4490-BF74-D80FAAB4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DD68-3CEE-4D56-97F5-70231126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6369-C985-4920-96C7-4E30EBBE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8A46-9320-491C-A7A6-20955D2F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2B2C-A630-4CF1-BA7C-8095B591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8B5E-C901-4E0F-A287-389948D7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4E46-6E93-4988-8D2E-102525014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04920" y="220968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TRODUCCION AL DISEÑO CONCEPTUAL DE PROCE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aller de Diseño de Proce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914400" y="838080"/>
          <a:ext cx="7353360" cy="182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73533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9" name=""/>
          <p:cNvGrpSpPr/>
          <p:nvPr/>
        </p:nvGrpSpPr>
        <p:grpSpPr>
          <a:xfrm>
            <a:off x="611280" y="2276640"/>
            <a:ext cx="7705800" cy="5790960"/>
            <a:chOff x="611280" y="2276640"/>
            <a:chExt cx="7705800" cy="5790960"/>
          </a:xfrm>
        </p:grpSpPr>
        <p:graphicFrame>
          <p:nvGraphicFramePr>
            <p:cNvPr id="160" name=""/>
            <p:cNvGraphicFramePr/>
            <p:nvPr/>
          </p:nvGraphicFramePr>
          <p:xfrm>
            <a:off x="755640" y="2276640"/>
            <a:ext cx="7505640" cy="579096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5640" y="2276640"/>
                      <a:ext cx="7505640" cy="579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611280" y="5877000"/>
              <a:ext cx="770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d) Diagrama de Tuberías e Instrumentación (P ID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IAGRAMAS DE ENTRADA (INPUT) Y SALIDA (OUTPUT)</a:t>
            </a:r>
            <a:br>
              <a:rPr sz="4000"/>
            </a:b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IAGRAMA I-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640" y="522936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DIAGRAMA GENERAL ENTRADA-SALIDA </a:t>
            </a: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PROCESO HIDROMETALURGICO DEL COB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95280" y="609480"/>
          <a:ext cx="7910640" cy="41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09480"/>
                    <a:ext cx="7910640" cy="41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DIAGRAMA GENERAL ENTRADA-SALIDA </a:t>
            </a: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PROCESO DE PRODUCCION DE BIOMASA (LEVADURAS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4360" y="1989000"/>
          <a:ext cx="687528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687528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AGRAMAS DE BLO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79360" y="13064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Conven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ada operación se representa por un blo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Las corrientes de flujo principal se representan por líneas flechadas en la dirección del fl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Los flujos van desde la izquierda a la derecha del diagra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e incluye la información crítica para entender el proce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5334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iagrama de Bloques del Proceso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X-SX-EW para Producir Co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600200" y="609480"/>
          <a:ext cx="5719680" cy="47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609480"/>
                    <a:ext cx="571968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95280" y="5715000"/>
            <a:ext cx="87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iagrama de Bloques de producción de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549360"/>
          <a:ext cx="8497800" cy="49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9360"/>
                    <a:ext cx="84978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AGRAMAS DE FLU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3333cc"/>
                </a:solidFill>
                <a:uFillTx/>
                <a:latin typeface="Comic Sans MS"/>
              </a:rPr>
              <a:t>Conve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representan TODOS los equipos de proceso junto son su descripción. Cada equipo tiene un número y un nomb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odas las corrientes de proceso tienen un nú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debe incluir una descripción de las condiciones (temperatura, presión), flujos y composición química, ya sea en el diagrama o una TABLA adju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deben representar TODAS las corrientes de servicios (vapor, aire, calefacción, etc.) que se alimentan a cada equipo de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deben representar los loops de control básicos que aseguran la estabilidad de las condiciones del proceso durante la operación n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10203" t="16572" r="9185" b="17029"/>
          <a:stretch/>
        </p:blipFill>
        <p:spPr>
          <a:xfrm>
            <a:off x="250920" y="334800"/>
            <a:ext cx="8353440" cy="65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956720" cy="537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0" y="4653000"/>
          <a:ext cx="5203800" cy="2435040"/>
        </p:xfrm>
        <a:graphic>
          <a:graphicData uri="http://schemas.openxmlformats.org/drawingml/2006/table">
            <a:tbl>
              <a:tblPr/>
              <a:tblGrid>
                <a:gridCol w="1403280"/>
                <a:gridCol w="720720"/>
                <a:gridCol w="719280"/>
                <a:gridCol w="628560"/>
                <a:gridCol w="866880"/>
                <a:gridCol w="86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r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[kg/día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 [kg/día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erat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2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en-US" sz="3400" spc="-1" strike="noStrike">
                <a:solidFill>
                  <a:srgbClr val="003366"/>
                </a:solidFill>
                <a:latin typeface="Times New Roman"/>
              </a:rPr>
              <a:t>PROCESO INDUSTRIA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84600" y="1600200"/>
            <a:ext cx="2185920" cy="1720800"/>
          </a:xfrm>
          <a:prstGeom prst="ellipse">
            <a:avLst/>
          </a:prstGeom>
          <a:noFill/>
          <a:ln w="50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73200" y="2427120"/>
            <a:ext cx="20750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08680" y="2427120"/>
            <a:ext cx="20746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9200" y="1698480"/>
            <a:ext cx="2447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0560" rIns="70560" tIns="34560" bIns="34560" anchor="t">
            <a:spAutoFit/>
          </a:bodyPr>
          <a:p>
            <a:pPr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ATERIAS PRIM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20040" y="2689200"/>
            <a:ext cx="12650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0560" rIns="70560" tIns="34560" bIns="34560" anchor="t">
            <a:spAutoFit/>
          </a:bodyPr>
          <a:p>
            <a:pPr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NSUM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87560" y="1952640"/>
            <a:ext cx="1653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0560" rIns="70560" tIns="34560" bIns="34560" anchor="t">
            <a:spAutoFit/>
          </a:bodyPr>
          <a:p>
            <a:pPr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imes New Roman"/>
              </a:rPr>
              <a:t>PRODUCT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17800" y="2122560"/>
            <a:ext cx="220212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560" rIns="70560" tIns="34560" bIns="34560" anchor="t">
            <a:spAutoFit/>
          </a:bodyPr>
          <a:p>
            <a:pPr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724280" y="3375000"/>
            <a:ext cx="0" cy="174168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29920" y="4238640"/>
            <a:ext cx="2770920" cy="15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0560" rIns="70560" tIns="34560" bIns="34560" anchor="t">
            <a:spAutoFit/>
          </a:bodyPr>
          <a:p>
            <a:pPr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ONOCIMI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NGENIERÍ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ECURSOS HUMAN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NERGÍ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APITAL, $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28360" y="4005360"/>
            <a:ext cx="164772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0560" rIns="70560" tIns="34560" bIns="34560" anchor="t">
            <a:spAutoFit/>
          </a:bodyPr>
          <a:p>
            <a:pPr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Times New Roman"/>
              </a:rPr>
              <a:t>DISEÑ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5867280" y="307008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Convenciones para la identificación de equip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compre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intercambiadores de c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calentadores a ll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bomb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reac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colum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estanques de almace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estanque de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umeración de los equip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101 A/B identifica un bom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-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01 A/B identifica que la bomba esta ubicada en el área Nº 1 de la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-1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A/B identifica que la bomba es la número 01 de las n existentes en la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-101 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A/B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identifica que hay dos bombas identicas, una de respaldo (backup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9364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Información para las corrientes de flu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20858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Número de la corr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Temperatura (º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esión (b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racción de va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lujo total másico (kg/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lujo molar total (kmol/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lujo molar para cada componente (kmol/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5640" y="2174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acciones molares de los 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acciones másicas de los 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ujo volumé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iedades físicas (densidad, viscosidad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os termodinámicos (calor específico, entalpía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mbre de la corr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26280" y="154620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m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56600" y="1574640"/>
            <a:ext cx="33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chas veces, ademá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34520" y="151920"/>
            <a:ext cx="828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nvenciones para la identificación de las corrientes en los diagra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219400" y="1609560"/>
            <a:ext cx="390996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1523880" y="1589040"/>
          <a:ext cx="6096240" cy="36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89040"/>
                    <a:ext cx="6096240" cy="36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685800" y="228600"/>
            <a:ext cx="7696080" cy="49528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 flipV="1">
            <a:off x="685800" y="30477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5486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iagrama de Flujos del Proceso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X-SX-EW para Producir Co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-793800" y="0"/>
            <a:ext cx="9367920" cy="69897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11280" y="292428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iagrama de Flujo Planta Tratamiento de R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724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agramas P&amp;ID </a:t>
            </a:r>
            <a:r>
              <a:rPr b="1" lang="en-US" sz="4400" spc="-1" strike="noStrike" u="sng">
                <a:solidFill>
                  <a:srgbClr val="3333cc"/>
                </a:solidFill>
                <a:uFillTx/>
                <a:latin typeface="Times New Roman"/>
              </a:rPr>
              <a:t>Conven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96960" y="1981080"/>
          <a:ext cx="7761240" cy="4114800"/>
        </p:xfrm>
        <a:graphic>
          <a:graphicData uri="http://schemas.openxmlformats.org/drawingml/2006/table">
            <a:tbl>
              <a:tblPr/>
              <a:tblGrid>
                <a:gridCol w="2468520"/>
                <a:gridCol w="52927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quipos de pro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ostrar equipos de respaldo, unidades paralelas, detalles principales para cada u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ñerí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amaño (usar estándares), espesor de pared (schedule), material de construcción, aislación (tipo y espes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strumen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dicadores, registradores, controladores y tipo, cañerías o alambres de los instrumen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adas y salidas de las corrientes (aire, vapor, etc.), salidas de las corrientes a las plantas de tratamiento de eflu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31880" y="14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nvenciones para los Instrumentos en los P&amp;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63480" y="3132000"/>
            <a:ext cx="3810240" cy="35323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análi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quem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condu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volt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flu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corr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presión o vací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tempera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W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tiempo o progr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25640" y="3158640"/>
            <a:ext cx="3809880" cy="34974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ala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ele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máx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I 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indic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estación d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ori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r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04760" y="1419120"/>
            <a:ext cx="7374240" cy="1289160"/>
          </a:xfrm>
          <a:prstGeom prst="rect">
            <a:avLst/>
          </a:prstGeom>
          <a:noFill/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38120" y="1542960"/>
            <a:ext cx="297000" cy="262080"/>
          </a:xfrm>
          <a:prstGeom prst="ellipse">
            <a:avLst/>
          </a:prstGeom>
          <a:noFill/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92000" y="150804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strumento en la pla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41360" y="1892160"/>
            <a:ext cx="297000" cy="295560"/>
          </a:xfrm>
          <a:prstGeom prst="ellipse">
            <a:avLst/>
          </a:prstGeom>
          <a:noFill/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28760" y="2313000"/>
            <a:ext cx="297000" cy="262080"/>
          </a:xfrm>
          <a:prstGeom prst="ellipse">
            <a:avLst/>
          </a:prstGeom>
          <a:noFill/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92000" y="1859040"/>
            <a:ext cx="308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strumento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en el panel de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49160" y="2247840"/>
            <a:ext cx="49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strumento en la cara posterior del panel d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38120" y="2057400"/>
            <a:ext cx="298440" cy="0"/>
          </a:xfrm>
          <a:prstGeom prst="line">
            <a:avLst/>
          </a:prstGeom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19040" y="2455920"/>
            <a:ext cx="309600" cy="0"/>
          </a:xfrm>
          <a:prstGeom prst="line">
            <a:avLst/>
          </a:prstGeom>
          <a:ln cap="rnd" w="9360">
            <a:solidFill>
              <a:srgbClr val="cc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79440" y="272736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IMERA LETRA 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200200" y="2751120"/>
            <a:ext cx="27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EGUNDA LETRA (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32720" y="1635120"/>
            <a:ext cx="822240" cy="696960"/>
          </a:xfrm>
          <a:prstGeom prst="ellipse">
            <a:avLst/>
          </a:prstGeom>
          <a:noFill/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10480" y="1787400"/>
            <a:ext cx="73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XY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5881" t="12550" r="5881" b="12156"/>
          <a:stretch/>
        </p:blipFill>
        <p:spPr>
          <a:xfrm>
            <a:off x="0" y="0"/>
            <a:ext cx="8820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52320" y="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agramas P&amp;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85840" y="712800"/>
            <a:ext cx="84852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33520" y="514440"/>
          <a:ext cx="8076960" cy="287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14440"/>
                    <a:ext cx="8076960" cy="28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33520" y="2590920"/>
          <a:ext cx="8076960" cy="4019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590920"/>
                    <a:ext cx="807696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320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n intercambi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189080" y="1411200"/>
            <a:ext cx="57578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 u="sng">
                <a:solidFill>
                  <a:srgbClr val="000000"/>
                </a:solidFill>
                <a:uFillTx/>
                <a:latin typeface="Times New Roman"/>
              </a:rPr>
              <a:t>Otros diagramas y  plan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Lay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Mecánico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Mecánico Ele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Eléct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Isomét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Lay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3029" t="10342" r="3029" b="9507"/>
          <a:stretch/>
        </p:blipFill>
        <p:spPr>
          <a:xfrm>
            <a:off x="684360" y="1003320"/>
            <a:ext cx="74880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924680" cy="466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57200" y="55627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Times New Roman"/>
              </a:rPr>
              <a:t>Esquema del Proceso LIX-SX-EW, Radomiro T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Mecánico Plan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rcRect l="12923" t="18783" r="12920" b="19025"/>
          <a:stretch/>
        </p:blipFill>
        <p:spPr>
          <a:xfrm>
            <a:off x="395280" y="784080"/>
            <a:ext cx="777708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Mecánico Elev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rcRect l="3029" t="10342" r="2019" b="10799"/>
          <a:stretch/>
        </p:blipFill>
        <p:spPr>
          <a:xfrm>
            <a:off x="611280" y="946080"/>
            <a:ext cx="748980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Eléct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rcRect l="41053" t="9431" r="4296" b="11087"/>
          <a:stretch/>
        </p:blipFill>
        <p:spPr>
          <a:xfrm>
            <a:off x="539640" y="890640"/>
            <a:ext cx="7561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10103" t="15513" r="10103" b="15971"/>
          <a:stretch/>
        </p:blipFill>
        <p:spPr>
          <a:xfrm>
            <a:off x="755640" y="1009800"/>
            <a:ext cx="7488360" cy="5848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84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Isomét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228600" y="304920"/>
          <a:ext cx="8744040" cy="560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8744040" cy="56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5654880" cy="62690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858000" y="236232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IX-SX-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STRUCTURA GENERAL DE UN PROCESO PRODU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219320" y="457200"/>
          <a:ext cx="7315200" cy="48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57200"/>
                    <a:ext cx="731520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684360" y="333360"/>
            <a:ext cx="14396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Materias Pr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404640"/>
            <a:ext cx="1655640" cy="64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3429000"/>
            <a:ext cx="7272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515772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Tratamientos de RILes, RI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549360" y="-228600"/>
            <a:ext cx="8594280" cy="5562720"/>
            <a:chOff x="549360" y="-228600"/>
            <a:chExt cx="8594280" cy="5562720"/>
          </a:xfrm>
        </p:grpSpPr>
        <p:grpSp>
          <p:nvGrpSpPr>
            <p:cNvPr id="66" name=""/>
            <p:cNvGrpSpPr/>
            <p:nvPr/>
          </p:nvGrpSpPr>
          <p:grpSpPr>
            <a:xfrm>
              <a:off x="549360" y="242640"/>
              <a:ext cx="8594280" cy="5091480"/>
              <a:chOff x="549360" y="242640"/>
              <a:chExt cx="8594280" cy="5091480"/>
            </a:xfrm>
          </p:grpSpPr>
          <p:sp>
            <p:nvSpPr>
              <p:cNvPr id="67" name=""/>
              <p:cNvSpPr/>
              <p:nvPr/>
            </p:nvSpPr>
            <p:spPr>
              <a:xfrm>
                <a:off x="1555200" y="969840"/>
                <a:ext cx="2926080" cy="1909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761800" y="1060920"/>
                <a:ext cx="2468880" cy="1636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853240" y="1424520"/>
                <a:ext cx="2468880" cy="10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     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RED DE INTERCAMBIADOR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   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DE CAL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3841200" y="333000"/>
                <a:ext cx="0" cy="63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49360" y="1606320"/>
                <a:ext cx="100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63760" y="4697640"/>
                <a:ext cx="146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63760" y="5243400"/>
                <a:ext cx="146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841200" y="2879280"/>
                <a:ext cx="0" cy="90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292560" y="2879280"/>
                <a:ext cx="0" cy="90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81640" y="1242720"/>
                <a:ext cx="128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481640" y="2515680"/>
                <a:ext cx="128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401880" y="2697480"/>
                <a:ext cx="0" cy="109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767640" y="2697480"/>
                <a:ext cx="0" cy="109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8230680" y="1424520"/>
                <a:ext cx="73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7682040" y="4697640"/>
                <a:ext cx="128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962560" y="1424520"/>
                <a:ext cx="0" cy="327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463760" y="4152240"/>
                <a:ext cx="146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49360" y="2515680"/>
                <a:ext cx="100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49360" y="2061000"/>
                <a:ext cx="100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463760" y="1333440"/>
                <a:ext cx="3200400" cy="10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LANTA   D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ROCESOS   QUIMIC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926800" y="3788640"/>
                <a:ext cx="4755240" cy="15454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49360" y="1151640"/>
                <a:ext cx="10058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Materi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49360" y="1697400"/>
                <a:ext cx="10058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rim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49360" y="2151720"/>
                <a:ext cx="10972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Insum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2561040" y="333000"/>
                <a:ext cx="0" cy="63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652480" y="242640"/>
                <a:ext cx="10972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roduct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841200" y="3333960"/>
                <a:ext cx="118872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y Servici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841200" y="3061080"/>
                <a:ext cx="128016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Suministr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012400" y="3061080"/>
                <a:ext cx="128016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Electricid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920960" y="3788640"/>
                <a:ext cx="82296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Agu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555200" y="4334040"/>
                <a:ext cx="137160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ombustibl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12400" y="4879440"/>
                <a:ext cx="6400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Ai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573080" y="1969920"/>
                <a:ext cx="1371600" cy="72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orri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Frí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573080" y="696960"/>
                <a:ext cx="1371600" cy="72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orri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ali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676200" y="2879280"/>
                <a:ext cx="1461600" cy="63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Servicio 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alentamien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82040" y="3788640"/>
                <a:ext cx="1461600" cy="63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Servicio 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Enfriamien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841200" y="3970440"/>
                <a:ext cx="265176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LANTAS DE SERVICI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115520" y="4424760"/>
                <a:ext cx="25603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alderas, Turbin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Aire Comprimid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Oxígeno, Vací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2194920" y="-228600"/>
              <a:ext cx="576036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6" name=""/>
          <p:cNvGraphicFramePr/>
          <p:nvPr/>
        </p:nvGraphicFramePr>
        <p:xfrm>
          <a:off x="876240" y="6172200"/>
          <a:ext cx="802008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6172200"/>
                    <a:ext cx="80200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364000" y="549360"/>
            <a:ext cx="3203640" cy="25192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76360" y="692280"/>
            <a:ext cx="3203640" cy="25192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GENESIS DE UN PRO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ntecedentes bás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racterísticas de la materia prima y del producto que se des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lternativa de proces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990720" y="533520"/>
          <a:ext cx="7154640" cy="51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33520"/>
                    <a:ext cx="7154640" cy="51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33520" y="5791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ENESIS DE UN PROCESO METALUR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219320" y="228600"/>
          <a:ext cx="67816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8600"/>
                    <a:ext cx="67816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533520" y="5791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LTERNATIVAS DE PROCESAMIENTO HIDROMETALUR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12680" y="2373480"/>
            <a:ext cx="3038760" cy="36504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14720" y="1425600"/>
            <a:ext cx="40734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43640" y="2427120"/>
            <a:ext cx="2206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ompimiento Cél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12680" y="3638520"/>
            <a:ext cx="2979720" cy="57564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ecipitación  Áci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icos, Prote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15760" y="4735440"/>
            <a:ext cx="1560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cent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24960" y="5484960"/>
            <a:ext cx="1716120" cy="57564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urificación A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solu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83200" y="6380280"/>
            <a:ext cx="130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in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12680" y="2954160"/>
            <a:ext cx="3043440" cy="57564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paración Mate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racelular (Desech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72360" y="765000"/>
            <a:ext cx="2945880" cy="39384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ldo de Fer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92280" y="1846440"/>
            <a:ext cx="3038400" cy="3348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59160" y="4707000"/>
            <a:ext cx="2305080" cy="30312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03600" y="6275520"/>
            <a:ext cx="2490840" cy="40788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56000" y="1773360"/>
            <a:ext cx="3213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paración de Cél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30400" y="3375000"/>
            <a:ext cx="0" cy="26352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00480" y="4956120"/>
            <a:ext cx="183492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30400" y="2057400"/>
            <a:ext cx="0" cy="36972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14920" y="1582560"/>
            <a:ext cx="340848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564240" y="4851360"/>
            <a:ext cx="15890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603240" y="1582560"/>
            <a:ext cx="112572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46880" y="2057400"/>
            <a:ext cx="27756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03600" y="1582560"/>
            <a:ext cx="0" cy="32544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76800" y="1266840"/>
            <a:ext cx="0" cy="31572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53920" y="1828800"/>
            <a:ext cx="20311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n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élulas inmoviliz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élulas reten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18920" y="1319040"/>
            <a:ext cx="1577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30400" y="2743200"/>
            <a:ext cx="0" cy="201600"/>
          </a:xfrm>
          <a:prstGeom prst="line">
            <a:avLst/>
          </a:prstGeom>
          <a:ln w="76320">
            <a:solidFill>
              <a:srgbClr val="b50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30400" y="2057400"/>
            <a:ext cx="44784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00480" y="4746600"/>
            <a:ext cx="0" cy="20952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139240" y="1582560"/>
            <a:ext cx="0" cy="326880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24440" y="2057400"/>
            <a:ext cx="0" cy="263196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84640" y="5010120"/>
            <a:ext cx="0" cy="47484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05440"/>
            <a:ext cx="0" cy="36036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00360" y="2004840"/>
            <a:ext cx="95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élu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92320" y="3322800"/>
            <a:ext cx="170100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brenad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6920" y="5484960"/>
            <a:ext cx="1810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12680" y="4322880"/>
            <a:ext cx="2979720" cy="57564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tamiento de cuerpos inclu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30400" y="4060800"/>
            <a:ext cx="0" cy="26352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64240" y="5484960"/>
            <a:ext cx="20368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94520" y="6221520"/>
            <a:ext cx="2406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Perm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tos niveles de pure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stabilidad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0"/>
            <a:ext cx="8604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ENESIS DE UN PROCESO BIOTECNOLO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3T19:51:52Z</dcterms:created>
  <dc:creator>Miguel</dc:creator>
  <dc:description/>
  <dc:language>en-US</dc:language>
  <cp:lastModifiedBy> Jesús Casas</cp:lastModifiedBy>
  <cp:lastPrinted>2000-11-24T00:59:13Z</cp:lastPrinted>
  <dcterms:modified xsi:type="dcterms:W3CDTF">2003-08-10T17:50:06Z</dcterms:modified>
  <cp:revision>68</cp:revision>
  <dc:subject/>
  <dc:title>Principios y Metodología de Modelación</dc:title>
</cp:coreProperties>
</file>