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2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29.wmf" ContentType="image/x-wmf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7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1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wmf" ContentType="image/x-wmf"/>
  <Override PartName="/ppt/media/image14.jpeg" ContentType="image/jpe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819-F5B7-4A19-B377-D48D3BDB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82F-9D79-49FB-BF20-290B640A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080-B6AA-4C7F-975E-8C901651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549-9BC7-4FEC-99FF-77B73F19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E8F-6D5A-45C2-8CFB-F41ED6E0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4CC-9FF9-434F-A3E8-6B05AD27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341-4C6B-4963-AD56-BBE8FBB0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2E94-852B-4217-9EBE-94668C4C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B53-93EE-4270-99FC-3EBAA27C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F33-AB0B-41BF-BAC3-A0F8432F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773-B812-4861-9D3C-366CF52F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B13-CBC0-4836-87E8-6705E23C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3387-6108-46F1-86E3-17AFD5A26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04920" y="22096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RODUCCION AL DISEÑO CONCEPTUAL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914400" y="838080"/>
          <a:ext cx="7353360" cy="18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353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611280" y="2276640"/>
            <a:ext cx="7705800" cy="5790960"/>
            <a:chOff x="611280" y="2276640"/>
            <a:chExt cx="7705800" cy="5790960"/>
          </a:xfrm>
        </p:grpSpPr>
        <p:graphicFrame>
          <p:nvGraphicFramePr>
            <p:cNvPr id="160" name=""/>
            <p:cNvGraphicFramePr/>
            <p:nvPr/>
          </p:nvGraphicFramePr>
          <p:xfrm>
            <a:off x="755640" y="2276640"/>
            <a:ext cx="7505640" cy="57909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2276640"/>
                      <a:ext cx="7505640" cy="579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611280" y="5877000"/>
              <a:ext cx="77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d) Diagrama de Tuberías e Instrumentación (P I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S DE ENTRADA (INPUT) Y SALIDA (OUTPUT)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 I-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640" y="522936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HIDROMETALURGICO DEL COB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609480"/>
          <a:ext cx="7910640" cy="41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9480"/>
                    <a:ext cx="791064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DE PRODUCCION DE BIOMASA (LEVADURA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4360" y="1989000"/>
          <a:ext cx="687528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687528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BLO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79360" y="13064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ada operación se representa por un bl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as corrientes de flujo principal se representan por líneas flechadas en la dirección del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os flujos van desde la izquierda a la derecha del dia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e incluye la información crítica para entender el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agrama de Bloques del Proceso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X-SX-EW para Producir C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00200" y="609480"/>
          <a:ext cx="571968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71968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571500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agrama de Bloques de 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549360"/>
          <a:ext cx="84978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4978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representan TODOS los equipos de proceso junto son su descripción. Cada equipo tiene un número y un nom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odas las corrientes de proceso tienen un nú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 incluir una descripción de las condiciones (temperatura, presión), flujos y composición química, ya sea en el diagrama o una TABLA adju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TODAS las corrientes de servicios (vapor, aire, calefacción, etc.) que se alimentan a cada equipo de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los loops de control básicos que aseguran la estabilidad de las condiciones del proceso durante la operación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0203" t="16572" r="9185" b="17029"/>
          <a:stretch/>
        </p:blipFill>
        <p:spPr>
          <a:xfrm>
            <a:off x="250920" y="334800"/>
            <a:ext cx="835344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56720" cy="537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0" y="4653000"/>
          <a:ext cx="5203800" cy="2435040"/>
        </p:xfrm>
        <a:graphic>
          <a:graphicData uri="http://schemas.openxmlformats.org/drawingml/2006/table">
            <a:tbl>
              <a:tblPr/>
              <a:tblGrid>
                <a:gridCol w="1403280"/>
                <a:gridCol w="720720"/>
                <a:gridCol w="719280"/>
                <a:gridCol w="628560"/>
                <a:gridCol w="866880"/>
                <a:gridCol w="86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 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era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2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Times New Roman"/>
              </a:rPr>
              <a:t>PROCESO INDUSTRI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84600" y="1600200"/>
            <a:ext cx="2185920" cy="1720800"/>
          </a:xfrm>
          <a:prstGeom prst="ellipse">
            <a:avLst/>
          </a:prstGeom>
          <a:noFill/>
          <a:ln w="50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73200" y="2427120"/>
            <a:ext cx="20750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08680" y="2427120"/>
            <a:ext cx="20746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9200" y="1698480"/>
            <a:ext cx="2447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4560" bIns="3456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20040" y="2689200"/>
            <a:ext cx="12650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4560" bIns="3456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SUM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87560" y="1952640"/>
            <a:ext cx="1653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4560" bIns="3456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PRODUC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17800" y="2122560"/>
            <a:ext cx="220212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4560" bIns="3456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724280" y="3375000"/>
            <a:ext cx="0" cy="174168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29920" y="4238640"/>
            <a:ext cx="2770920" cy="15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4560" bIns="3456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GENIERÍ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ECURSOS HUMAN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APITAL, $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28360" y="4005360"/>
            <a:ext cx="164772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4560" bIns="3456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867280" y="30700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onvenciones para la identificación de equip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compr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intercambiadores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calentadores a l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bom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reac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colum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estanques de almac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estanque de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meración de los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101 A/B identifica un bom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01 A/B identifica que la bomba esta ubicada en el área Nº 1 de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/B identifica que la bomba es la número 01 de las n existentes en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01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A/B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identifica que hay dos bombas identicas, una de respaldo (backu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9364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nformación para las corriente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0858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úmero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emperatura (º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esión (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racción de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total másico (kg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total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para cada componente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5640" y="2174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cciones molare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cciones másica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jo volu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iedades físicas (densidad, viscosidad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os termodinámicos (calor específico, entalpía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mbre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26280" y="15462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56600" y="157464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as veces, ademá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4520" y="15192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venciones para la identificación de las corrientes en los diagra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19400" y="1609560"/>
            <a:ext cx="390996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523880" y="1589040"/>
          <a:ext cx="6096240" cy="36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89040"/>
                    <a:ext cx="609624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85800" y="228600"/>
            <a:ext cx="7696080" cy="49528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V="1">
            <a:off x="685800" y="30477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5486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agrama de Flujos del Proceso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X-SX-EW para Producir C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-793800" y="0"/>
            <a:ext cx="9367920" cy="69897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11280" y="29242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iagrama de Flujo Planta Tratamiento de R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724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agramas P&amp;ID </a:t>
            </a: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Conve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96960" y="1981080"/>
          <a:ext cx="7761240" cy="4114800"/>
        </p:xfrm>
        <a:graphic>
          <a:graphicData uri="http://schemas.openxmlformats.org/drawingml/2006/table">
            <a:tbl>
              <a:tblPr/>
              <a:tblGrid>
                <a:gridCol w="2468520"/>
                <a:gridCol w="52927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quipos de 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ostrar equipos de respaldo, unidades paralelas, detalles principales para cada 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ñerí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maño (usar estándares), espesor de pared (schedule), material de construcción, aislación (tipo y espes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strumen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dicadores, registradores, controladores y tipo, cañerías o alambres de los instru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adas y salidas de las corrientes (aire, vapor, etc.), salidas de las corrientes a las plantas de tratamiento de eflu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31880" y="14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nvenciones para los Instrumentos en lo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63480" y="3132000"/>
            <a:ext cx="3810240" cy="35323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nál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quem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condu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volt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f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orr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presión o vac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temper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tiempo o pr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5640" y="3158640"/>
            <a:ext cx="3809880" cy="3497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ala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máx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dic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stación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or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04760" y="1419120"/>
            <a:ext cx="7374240" cy="1289160"/>
          </a:xfrm>
          <a:prstGeom prst="rect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8120" y="154296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92000" y="150804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trumento en la pla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41360" y="1892160"/>
            <a:ext cx="297000" cy="29556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28760" y="231300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92000" y="1859040"/>
            <a:ext cx="30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trumento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en el panel d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2247840"/>
            <a:ext cx="49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strumento en la cara posterior del panel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38120" y="2057400"/>
            <a:ext cx="298440" cy="0"/>
          </a:xfrm>
          <a:prstGeom prst="line">
            <a:avLst/>
          </a:prstGeom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19040" y="2455920"/>
            <a:ext cx="309600" cy="0"/>
          </a:xfrm>
          <a:prstGeom prst="line">
            <a:avLst/>
          </a:prstGeom>
          <a:ln cap="rnd" w="9360">
            <a:solidFill>
              <a:srgbClr val="cc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9440" y="272736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IMERA LETRA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00200" y="2751120"/>
            <a:ext cx="27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EGUNDA LETRA 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32720" y="1635120"/>
            <a:ext cx="822240" cy="696960"/>
          </a:xfrm>
          <a:prstGeom prst="ellipse">
            <a:avLst/>
          </a:prstGeom>
          <a:noFill/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10480" y="1787400"/>
            <a:ext cx="7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Y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5881" t="12550" r="5881" b="12156"/>
          <a:stretch/>
        </p:blipFill>
        <p:spPr>
          <a:xfrm>
            <a:off x="0" y="0"/>
            <a:ext cx="8820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2320" y="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agrama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85840" y="712800"/>
            <a:ext cx="84852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33520" y="514440"/>
          <a:ext cx="8076960" cy="28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4440"/>
                    <a:ext cx="807696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33520" y="2590920"/>
          <a:ext cx="8076960" cy="401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590920"/>
                    <a:ext cx="807696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320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n intercambi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89080" y="1411200"/>
            <a:ext cx="5757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u="sng">
                <a:solidFill>
                  <a:srgbClr val="000000"/>
                </a:solidFill>
                <a:uFillTx/>
                <a:latin typeface="Times New Roman"/>
              </a:rPr>
              <a:t>Otros diagramas y  pl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3029" t="10342" r="3029" b="9507"/>
          <a:stretch/>
        </p:blipFill>
        <p:spPr>
          <a:xfrm>
            <a:off x="684360" y="1003320"/>
            <a:ext cx="7488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466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5562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Esquema del Proceso LIX-SX-EW, Radomiro 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12923" t="18783" r="12920" b="19025"/>
          <a:stretch/>
        </p:blipFill>
        <p:spPr>
          <a:xfrm>
            <a:off x="395280" y="784080"/>
            <a:ext cx="777708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3029" t="10342" r="2019" b="10799"/>
          <a:stretch/>
        </p:blipFill>
        <p:spPr>
          <a:xfrm>
            <a:off x="611280" y="946080"/>
            <a:ext cx="7489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41053" t="9431" r="4296" b="11087"/>
          <a:stretch/>
        </p:blipFill>
        <p:spPr>
          <a:xfrm>
            <a:off x="539640" y="890640"/>
            <a:ext cx="7561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10103" t="15513" r="10103" b="15971"/>
          <a:stretch/>
        </p:blipFill>
        <p:spPr>
          <a:xfrm>
            <a:off x="755640" y="1009800"/>
            <a:ext cx="7488360" cy="5848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228600" y="304920"/>
          <a:ext cx="8744040" cy="56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74404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5654880" cy="6269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858000" y="236232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X-SX-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STRUCTURA GENERAL DE UN PROCESO PRODU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19320" y="457200"/>
          <a:ext cx="731520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73152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84360" y="333360"/>
            <a:ext cx="1439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aterias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404640"/>
            <a:ext cx="1655640" cy="6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3429000"/>
            <a:ext cx="7272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51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Tratamientos de RILes, RI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549360" y="-228600"/>
            <a:ext cx="8594280" cy="5562720"/>
            <a:chOff x="549360" y="-228600"/>
            <a:chExt cx="8594280" cy="5562720"/>
          </a:xfrm>
        </p:grpSpPr>
        <p:grpSp>
          <p:nvGrpSpPr>
            <p:cNvPr id="66" name=""/>
            <p:cNvGrpSpPr/>
            <p:nvPr/>
          </p:nvGrpSpPr>
          <p:grpSpPr>
            <a:xfrm>
              <a:off x="549360" y="242640"/>
              <a:ext cx="8594280" cy="5091480"/>
              <a:chOff x="549360" y="242640"/>
              <a:chExt cx="8594280" cy="5091480"/>
            </a:xfrm>
          </p:grpSpPr>
          <p:sp>
            <p:nvSpPr>
              <p:cNvPr id="67" name=""/>
              <p:cNvSpPr/>
              <p:nvPr/>
            </p:nvSpPr>
            <p:spPr>
              <a:xfrm>
                <a:off x="1555200" y="969840"/>
                <a:ext cx="2926080" cy="190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61800" y="1060920"/>
                <a:ext cx="2468880" cy="1636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53240" y="1424520"/>
                <a:ext cx="246888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RED DE INTERCAMBIADOR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DE CAL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84120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9360" y="160632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63760" y="46976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63760" y="524340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4120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92560" y="2879280"/>
                <a:ext cx="0" cy="90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81640" y="124272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481640" y="251568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40188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767640" y="2697480"/>
                <a:ext cx="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8230680" y="1424520"/>
                <a:ext cx="73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7682040" y="4697640"/>
                <a:ext cx="128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962560" y="1424520"/>
                <a:ext cx="0" cy="327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463760" y="4152240"/>
                <a:ext cx="146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49360" y="251568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9360" y="2061000"/>
                <a:ext cx="100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63760" y="1333440"/>
                <a:ext cx="320040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   D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CESOS   QUIMIC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926800" y="3788640"/>
                <a:ext cx="4755240" cy="1545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49360" y="115164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Materi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49360" y="1697400"/>
                <a:ext cx="1005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im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49360" y="215172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Insum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2561040" y="3330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652480" y="242640"/>
                <a:ext cx="10972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oduc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841200" y="3333960"/>
                <a:ext cx="118872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y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412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uministr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12400" y="3061080"/>
                <a:ext cx="1280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lectric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20960" y="3788640"/>
                <a:ext cx="8229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gu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555200" y="4334040"/>
                <a:ext cx="137160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mbustibl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12400" y="4879440"/>
                <a:ext cx="640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73080" y="196992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Frí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573080" y="696960"/>
                <a:ext cx="137160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rr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676200" y="287928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ent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82040" y="3788640"/>
                <a:ext cx="146160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rvic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Enfri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41200" y="3970440"/>
                <a:ext cx="26517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PLANTAS DE 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15520" y="4424760"/>
                <a:ext cx="25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lderas, Turbin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ire Comprimi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Oxígeno, Vací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2194920" y="-228600"/>
              <a:ext cx="57603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876240" y="6172200"/>
          <a:ext cx="802008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6172200"/>
                    <a:ext cx="8020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364000" y="54936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692280"/>
            <a:ext cx="3203640" cy="25192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GENESIS DE UN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tecedentes bás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racterísticas de la materia prima y del producto que se de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ternativa de proces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990720" y="533520"/>
          <a:ext cx="7154640" cy="51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715464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33520" y="5791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ENESIS DE UN PROCESO METALUR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219320" y="228600"/>
          <a:ext cx="67816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"/>
                    <a:ext cx="67816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33520" y="5791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LTERNATIVAS DE PROCESAMIENTO HIDROMETALUR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12680" y="2373480"/>
            <a:ext cx="3038760" cy="3650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14720" y="1425600"/>
            <a:ext cx="4073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3640" y="2427120"/>
            <a:ext cx="220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ompimiento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12680" y="3638520"/>
            <a:ext cx="2979720" cy="5756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cipitación  Áci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icos, Prote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5760" y="4735440"/>
            <a:ext cx="156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cen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24960" y="5484960"/>
            <a:ext cx="1716120" cy="57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83200" y="638028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12680" y="2954160"/>
            <a:ext cx="3043440" cy="5756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paración Mat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racelular (Desech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72360" y="765000"/>
            <a:ext cx="2945880" cy="39384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92280" y="1846440"/>
            <a:ext cx="3038400" cy="3348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59160" y="4707000"/>
            <a:ext cx="2305080" cy="30312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0" y="6275520"/>
            <a:ext cx="2490840" cy="40788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1773360"/>
            <a:ext cx="321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30400" y="3375000"/>
            <a:ext cx="0" cy="2635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00480" y="4956120"/>
            <a:ext cx="183492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30400" y="2057400"/>
            <a:ext cx="0" cy="3697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14920" y="158256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564240" y="4851360"/>
            <a:ext cx="15890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603240" y="1582560"/>
            <a:ext cx="11257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46880" y="2057400"/>
            <a:ext cx="2775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0" y="1582560"/>
            <a:ext cx="0" cy="3254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76800" y="1266840"/>
            <a:ext cx="0" cy="3157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53920" y="1828800"/>
            <a:ext cx="2031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18920" y="1319040"/>
            <a:ext cx="157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30400" y="2743200"/>
            <a:ext cx="0" cy="20160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0400" y="2057400"/>
            <a:ext cx="4478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00480" y="4746600"/>
            <a:ext cx="0" cy="2095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39240" y="1582560"/>
            <a:ext cx="0" cy="326880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24440" y="2057400"/>
            <a:ext cx="0" cy="26319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84640" y="5010120"/>
            <a:ext cx="0" cy="4748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05440"/>
            <a:ext cx="0" cy="360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00360" y="2004840"/>
            <a:ext cx="95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él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92320" y="3322800"/>
            <a:ext cx="170100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548496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12680" y="4322880"/>
            <a:ext cx="2979720" cy="5756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tamiento de cuerpos inclu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0400" y="4060800"/>
            <a:ext cx="0" cy="2635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64240" y="5484960"/>
            <a:ext cx="20368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94520" y="6221520"/>
            <a:ext cx="2406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0"/>
            <a:ext cx="8604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ENESIS DE UN PROCESO BIOTECN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 Jesús Casas</cp:lastModifiedBy>
  <cp:lastPrinted>2000-11-24T00:59:13Z</cp:lastPrinted>
  <dcterms:modified xsi:type="dcterms:W3CDTF">2003-08-10T17:50:06Z</dcterms:modified>
  <cp:revision>68</cp:revision>
  <dc:subject/>
  <dc:title>Principios y Metodología de Modelación</dc:title>
</cp:coreProperties>
</file>