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156AA-F674-45D8-AFA8-AFDCDBA38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324AE-8194-4569-AE63-4DB0385D9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C17EB-973C-4811-9AD3-87F4AE777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FD4FC-F7B8-4FB8-B0D6-61ED032A1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A286D-7424-4807-88E0-E2CB7D551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2BF09-E324-40A4-BF05-29A82BDD9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67C18-A09B-402F-A832-3A4F5EB74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5F381-4412-476B-BD6A-EB3A5570A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ED6CA-FDED-43FD-BB61-E57A58A7C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9A0BE-63EB-4D25-BE68-996911302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60501-A567-45AC-9471-492149D35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B5EB-3A81-40CF-B70F-98672AD39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7638-68EA-43B0-BDB2-F45F1956E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ERMENTACIÓN DE VEGETA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sabe que la sal ejerce dos efectos importantes en su rol preservativo: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rige el curso de las actividades microbianas 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iene el ablandamiento del tejido veget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nque la sal se agrega comúnmente en las fermentaciones vegetales, las concentraciones utilizadas y su efecto sobre la fermentación y calidad del producto varía ampliament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CROORGANISMOS SOBRE LOS VEGETALES USADOS PARA FERMENTACIÓ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60" name=""/>
          <p:cNvGraphicFramePr/>
          <p:nvPr/>
        </p:nvGraphicFramePr>
        <p:xfrm>
          <a:off x="685800" y="1828800"/>
          <a:ext cx="7772400" cy="5732640"/>
        </p:xfrm>
        <a:graphic>
          <a:graphicData uri="http://schemas.openxmlformats.org/drawingml/2006/table">
            <a:tbl>
              <a:tblPr/>
              <a:tblGrid>
                <a:gridCol w="2590920"/>
                <a:gridCol w="2590560"/>
                <a:gridCol w="2590920"/>
              </a:tblGrid>
              <a:tr h="959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croorga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ll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2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erobios total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6 x 10</a:t>
                      </a:r>
                      <a:r>
                        <a:rPr b="1" lang="es-ES" sz="2800" spc="-1" strike="noStrike" baseline="30000">
                          <a:solidFill>
                            <a:srgbClr val="000000"/>
                          </a:solidFill>
                          <a:latin typeface="Times New Roman"/>
                        </a:rPr>
                        <a:t>4</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1.3 x 10</a:t>
                      </a:r>
                      <a:r>
                        <a:rPr b="1" lang="es-ES" sz="2800" spc="-1" strike="noStrike" baseline="30000">
                          <a:solidFill>
                            <a:srgbClr val="000000"/>
                          </a:solidFill>
                          <a:latin typeface="Times New Roman"/>
                        </a:rPr>
                        <a:t>5</a:t>
                      </a:r>
                      <a:r>
                        <a:rPr b="1" lang="es-ES" sz="2800" spc="-1" strike="noStrike">
                          <a:solidFill>
                            <a:srgbClr val="000000"/>
                          </a:solidFill>
                          <a:latin typeface="Times New Roman"/>
                        </a:rPr>
                        <a:t> bact/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erobacteriace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9 x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Bacterias del á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x 10</a:t>
                      </a:r>
                      <a:r>
                        <a:rPr b="1" lang="en-US" sz="2800" spc="-1" strike="noStrike" baseline="30000">
                          <a:solidFill>
                            <a:srgbClr val="000000"/>
                          </a:solidFill>
                          <a:latin typeface="Times New Roman"/>
                        </a:rPr>
                        <a:t>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2 x 10</a:t>
                      </a:r>
                      <a:r>
                        <a:rPr b="1" lang="en-US" sz="2800" spc="-1" strike="noStrike" baseline="30000">
                          <a:solidFill>
                            <a:srgbClr val="000000"/>
                          </a:solidFill>
                          <a:latin typeface="Times New Roman"/>
                        </a:rPr>
                        <a:t>1</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adura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 x 10</a:t>
                      </a:r>
                      <a:r>
                        <a:rPr b="1" lang="en-US" sz="2800" spc="-1" strike="noStrike" baseline="30000">
                          <a:solidFill>
                            <a:srgbClr val="000000"/>
                          </a:solidFill>
                          <a:latin typeface="Times New Roman"/>
                        </a:rPr>
                        <a:t>0</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t; 10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usados en varias formas para hacer pickles, incluyendo fermentación en salmuer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propósito primario de la fermentación es servir como un medio temporal de preservación de los pepinos en tanques hasta que se necesiten para el procesamiento en varias formas, como pickles dulces o ácidos.El producto fermentado puede o no ser pasteurizado dependiendo del uso que se dar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3200400" y="1523880"/>
            <a:ext cx="2133720" cy="358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son cosechados y separados por tamaño, antes de ser colocados en grandes tanques conteniendo una solución salina donde ellos son dejados para su fermentació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pepinos intencionalmente no son lavados antes de salar así los M.O. presentes en la piel reflejan el tipo de suelo y condiciones climáticas a las cuales el fruto fue expuesto, tanto como los métodos de cosecha y manejo utiliza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PEPINO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microflora se encuentra localizada sobre o en la superficie más externa de los pepino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 reportado que también se encuentra una población latente de bacterias en el interior del fruto, probablemente del tipo Enterobacteriaceae.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pepinos son colocados en grandes tanques conteniendo 6-12%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on la sal, los sustratos solubles difunden a la solución permitiendo el desarrollo de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icroflora de los repollos es más numerosa en las hojas externas y disminuye en número hacia el interior y el número relativo de LAB es más alto en el interi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s hojas de repollo pueden ser lavadas, lo que reduce la presencia de M.O. en relación a los LAB y cortada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REPOLLO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 agrega sal seca antes de colocarlas en los estanques de fermentación. La sal constituye entre 2 y 2.25% del peso de las hojas.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cantidad de sal influye en la cantidad de salmuera producida y en la velocidad y tipo de acción microbian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relativamente baja concentración de sal y la mayor disponibilidad de nutrientes de las hojas cortadas resulta en un más rápido crecimiento inicial de los M.O. que en el caso de los pepinos.   </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es un proceso único, a diferencia del caso de los pepinos y los repollos, en parte por la presencia del glucósido fenólico oleuropein, de sabor amar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proceso que se realiza en España para las olivas verdes, las olivas son expuestas  a una solución alcalina con el objeto de degradar este compuesto, por lo tanto eliminando el sabor amargo y luego lavando para eliminar el exceso de álcali. Luego se colocan en una salmuera de 7% de NaCl y se dejan fermentar</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isten dudas acerca de si este compuesto oleuropein inhibe la actividad de la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no se tratan con álcali antes de la sal muera, puede ser debido a que son poco amargas o porque se las deja madurar en el árbol antes de cosecharlas, lo cuál aparentemente reduce el sabor amar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981080" y="762120"/>
            <a:ext cx="53341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OLIV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las olivas la realizan especies de LAB que se encuentran naturalmente en esos ambientes. Las especies dependen de la cantidad de sal utilizada.</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tre las especies de M.O. están </a:t>
            </a:r>
            <a:r>
              <a:rPr b="1" i="1" lang="es-ES" sz="2800" spc="-1" strike="noStrike">
                <a:solidFill>
                  <a:srgbClr val="000000"/>
                </a:solidFill>
                <a:latin typeface="Times New Roman"/>
              </a:rPr>
              <a:t>Lactobacillus plantarum</a:t>
            </a:r>
            <a:r>
              <a:rPr b="1" lang="es-ES" sz="2800" spc="-1" strike="noStrike">
                <a:solidFill>
                  <a:srgbClr val="000000"/>
                </a:solidFill>
                <a:latin typeface="Times New Roman"/>
              </a:rPr>
              <a:t>,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y otros. </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también pueden ser activas en los primeros días de la fermentación</a:t>
            </a:r>
            <a:r>
              <a:rPr b="0" lang="es-ES" sz="2800" spc="-1" strike="noStrike">
                <a:solidFill>
                  <a:srgbClr val="000000"/>
                </a:solidFill>
                <a:latin typeface="Times New Roman"/>
              </a:rPr>
              <a:t>.</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n el caso de usar las olivas no tratadas con álcali, serían las levaduras las responsables de su ferment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han reportado cuatro géneros de bacterias productoras de ácido láctico en la fermentación de vege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species de Streptococcus se encuentran sobre los vegetales frescos y pueden estar presentes en las etapas iniciales de la fermentación.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os otros tres géneros son (Leuconostoc, Pediococcus y Lactobacilos) característicamente aparecen en estas ferment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principales carbohidratos fermentables en los vegetales son glucosa y fructosa, aunque también pueden estar presentes sacarosa y otros azúcares.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 fermentación de glucosa y fructosa produce generalmente ác. láctico, pero también se puede producir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tanol, ác. acético y manitol.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PRIMARIA</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levaduras pueden o no estar presente en esta fermentación, depende de la materia prima y de las condiciones ambienta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especies que participan en la fermentación de los pepinos y las olivas so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pecies de Candida, Rhodotorula, Saccharomyces, Torulopsis, e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ueden producir CO</a:t>
            </a:r>
            <a:r>
              <a:rPr b="1" lang="es-ES" sz="2800" spc="-1" strike="noStrike" baseline="-25000">
                <a:solidFill>
                  <a:srgbClr val="000000"/>
                </a:solidFill>
                <a:latin typeface="Times New Roman"/>
              </a:rPr>
              <a:t>2 </a:t>
            </a:r>
            <a:r>
              <a:rPr b="1" lang="es-ES" sz="2800" spc="-1" strike="noStrike">
                <a:solidFill>
                  <a:srgbClr val="000000"/>
                </a:solidFill>
                <a:latin typeface="Times New Roman"/>
              </a:rPr>
              <a:t>y etanol en condiciones anaerób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UKRU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066680"/>
            <a:ext cx="7772400" cy="464832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natural de chukrut se caracteriza por una progresión en el crecimiento de especies de LAB, comenzando con </a:t>
            </a:r>
            <a:r>
              <a:rPr b="1" i="1" lang="es-ES" sz="2800" spc="-1" strike="noStrike">
                <a:solidFill>
                  <a:srgbClr val="000000"/>
                </a:solidFill>
                <a:latin typeface="Times New Roman"/>
              </a:rPr>
              <a:t>Leuconostoc mesenteroides</a:t>
            </a:r>
            <a:r>
              <a:rPr b="1" lang="es-ES" sz="2800" spc="-1" strike="noStrike">
                <a:solidFill>
                  <a:srgbClr val="000000"/>
                </a:solidFill>
                <a:latin typeface="Times New Roman"/>
              </a:rPr>
              <a:t> (sensible al ácido) y terminando con el ácido tolerante </a:t>
            </a:r>
            <a:r>
              <a:rPr b="1" i="1" lang="es-ES" sz="2800" spc="-1" strike="noStrike">
                <a:solidFill>
                  <a:srgbClr val="000000"/>
                </a:solidFill>
                <a:latin typeface="Times New Roman"/>
              </a:rPr>
              <a:t>Lactobacillus plantarum.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temperatura necesaria para producir un buen chukrut varía entre 13 y 24</a:t>
            </a:r>
            <a:r>
              <a:rPr b="1" lang="es-ES" sz="2800" spc="-1" strike="noStrike" baseline="30000">
                <a:solidFill>
                  <a:srgbClr val="000000"/>
                </a:solidFill>
                <a:latin typeface="Times New Roman"/>
              </a:rPr>
              <a:t>o</a:t>
            </a:r>
            <a:r>
              <a:rPr b="1" lang="es-ES" sz="2800" spc="-1" strike="noStrike">
                <a:solidFill>
                  <a:srgbClr val="000000"/>
                </a:solidFill>
                <a:latin typeface="Times New Roman"/>
              </a:rPr>
              <a:t>C y la concentración de sal entre 1.8 y 2.25%.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hojas cortadas y saladas son colocadas en tanques y tapadas haciendo presión para ayudar en la extracción de los azúcares.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dejan fermentando hasta que alcanzan 1% ác. láct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e puede producir una segunda fermentación, esta vez por levaduras,  debido a la presencia de azucares reductores presentes aun después de la acción de LAB.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Esto se puede evitar agregando ácido sórbico, que inhibe el desarrollo de las levadur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mbién se puede producir una segunda fermentación por acción de bacterias tipo Clostridium que producen ác. butírico de los azúcares disponibl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PINOS FERMENTADOS QUE SUFREN UNA SEGUNDA FERMENTACIÓN (AC. BUTÍRICO)</a:t>
            </a:r>
            <a:endParaRPr b="0" lang="en-US" sz="2800" spc="-1" strike="noStrike">
              <a:solidFill>
                <a:srgbClr val="000000"/>
              </a:solidFill>
              <a:latin typeface="Times New Roman"/>
            </a:endParaRPr>
          </a:p>
        </p:txBody>
      </p:sp>
      <p:graphicFrame>
        <p:nvGraphicFramePr>
          <p:cNvPr id="89" name=""/>
          <p:cNvGraphicFramePr/>
          <p:nvPr/>
        </p:nvGraphicFramePr>
        <p:xfrm>
          <a:off x="685800" y="1600200"/>
          <a:ext cx="7772400" cy="6410160"/>
        </p:xfrm>
        <a:graphic>
          <a:graphicData uri="http://schemas.openxmlformats.org/drawingml/2006/table">
            <a:tbl>
              <a:tblPr/>
              <a:tblGrid>
                <a:gridCol w="1943280"/>
                <a:gridCol w="1942920"/>
                <a:gridCol w="1943280"/>
                <a:gridCol w="1942920"/>
              </a:tblGrid>
              <a:tr h="10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es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revio a  la Fermen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uego de la Ferment. I</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Después de podrirs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luc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7.1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uctos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4.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Mál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6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Acé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3.7  m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05.3 m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Láct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0.1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n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3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c. Butíric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8.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SECUNDARIA</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os vegetales fermentados  alcanzan estabilidad debido a: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usencia de azucares fermentab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H alrededor de 3.8 o mas 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xclusión del Oxígen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Una vez terminada la fermentación es bueno que el producto sea estable, esto dependerá de las condiciones de acidez, presencia de azucares fermentables, concentraciones de sal, etc.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contacto del alimento con el oxígeno debe ser evitado, ya que se puede producir el desarrollo de M.O. capaces de crecer en las condiciones de acidez del producto.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i llegaran a crecer hongos y levaduras formadoras de película sobre el ác. láctico, subiría el pH y crecerían otros M.O. causantes del deterior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OSFERMENTACIÓ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tra forma de evitar el deterioro de los productos fermentados es mediante el uso de CO</a:t>
            </a:r>
            <a:r>
              <a:rPr b="0" lang="es-ES" sz="3200" spc="-1" strike="noStrike" baseline="-25000">
                <a:solidFill>
                  <a:srgbClr val="000000"/>
                </a:solidFill>
                <a:latin typeface="Times New Roman"/>
              </a:rPr>
              <a:t>2</a:t>
            </a:r>
            <a:r>
              <a:rPr b="0" lang="es-ES" sz="3200" spc="-1" strike="noStrike">
                <a:solidFill>
                  <a:srgbClr val="000000"/>
                </a:solidFill>
                <a:latin typeface="Times New Roman"/>
              </a:rPr>
              <a:t>, este inhibirá el desarrollo de los M.O. Aeróbico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tilizando vasijas anaeróbicas.</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algunos casos como el chuckrut se puede</a:t>
            </a:r>
            <a:endParaRPr b="0" lang="en-US" sz="32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alentar con el objeto de pasteuriza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os vegetales han sido preservados mediante salado, con varios grados de fermentación, dependiendo de la concentración de sal utilizada.</a:t>
            </a:r>
            <a:endParaRPr b="0" lang="en-US" sz="3200" spc="-1" strike="noStrike">
              <a:solidFill>
                <a:srgbClr val="000000"/>
              </a:solidFill>
              <a:latin typeface="Times New Roman"/>
            </a:endParaRPr>
          </a:p>
          <a:p>
            <a:pPr marL="325800" indent="-3258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epinos, repollos y olivas dan cuenta del gran volumen de vegetales fermentados en occidente, pero menores cantidades de pimientos, zanahorias y coliflores son preservados con salmuera.</a:t>
            </a:r>
            <a:endParaRPr b="0" lang="en-US" sz="32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 fermentación de vegetales involucra una complejidad de factores físicos, químicos y microbiológicos que han sido bien caracterizados en las últimas déc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Las actividades microbianas durante la fermentación natural y almacenaje de vegetales ha sido dividida en cuatro etapas: iniciación de la fermentación, fermentación primaria, fermentación secundaria y postfer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iciación ferm.</a:t>
            </a:r>
            <a:r>
              <a:rPr b="1" lang="es-ES" sz="2800" spc="-1" strike="noStrike">
                <a:solidFill>
                  <a:srgbClr val="000000"/>
                </a:solidFill>
                <a:latin typeface="Times New Roman"/>
              </a:rPr>
              <a:t>	</a:t>
            </a:r>
            <a:r>
              <a:rPr b="1" lang="es-ES" sz="2800" spc="-1" strike="noStrike">
                <a:solidFill>
                  <a:srgbClr val="000000"/>
                </a:solidFill>
                <a:latin typeface="Times New Roman"/>
              </a:rPr>
              <a:t>Bacterias Gram + y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Primaria</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 ác. Láctico,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evadura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Ferm. Secundaria</a:t>
            </a:r>
            <a:r>
              <a:rPr b="1" lang="es-ES" sz="2800" spc="-1" strike="noStrike">
                <a:solidFill>
                  <a:srgbClr val="000000"/>
                </a:solidFill>
                <a:latin typeface="Times New Roman"/>
              </a:rPr>
              <a:t>	</a:t>
            </a:r>
            <a:r>
              <a:rPr b="1" lang="es-ES" sz="2800" spc="-1" strike="noStrike">
                <a:solidFill>
                  <a:srgbClr val="000000"/>
                </a:solidFill>
                <a:latin typeface="Times New Roman"/>
              </a:rPr>
              <a:t>Levadur.fermentativas</a:t>
            </a:r>
            <a:endParaRPr b="0" lang="en-US" sz="2800" spc="-1" strike="noStrike">
              <a:solidFill>
                <a:srgbClr val="000000"/>
              </a:solidFill>
              <a:latin typeface="Times New Roman"/>
            </a:endParaRPr>
          </a:p>
          <a:p>
            <a:pPr lvl="3" marL="15361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1800" spc="-1" strike="noStrike">
                <a:solidFill>
                  <a:srgbClr val="000000"/>
                </a:solidFill>
                <a:latin typeface="Times New Roman"/>
              </a:rPr>
              <a:t>	</a:t>
            </a:r>
            <a:r>
              <a:rPr b="1" lang="es-ES" sz="2800" spc="-1" strike="noStrike">
                <a:solidFill>
                  <a:srgbClr val="000000"/>
                </a:solidFill>
                <a:latin typeface="Times New Roman"/>
              </a:rPr>
              <a:t>LAB han sido inhibid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or pH bacter á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propiónico.</a:t>
            </a:r>
            <a:r>
              <a:rPr b="1" lang="es-ES" sz="2800" spc="-1" strike="noStrike">
                <a:solidFill>
                  <a:srgbClr val="000000"/>
                </a:solidFill>
                <a:latin typeface="Times New Roman"/>
              </a:rPr>
              <a:t>	</a:t>
            </a:r>
            <a:r>
              <a:rPr b="1" lang="es-ES" sz="2800" spc="-1" strike="noStrike">
                <a:solidFill>
                  <a:srgbClr val="000000"/>
                </a:solidFill>
                <a:latin typeface="Times New Roman"/>
              </a:rPr>
              <a:t>Clostrid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TAPAS DE LAS ACTIVIDADES MICROBIANAS DURANTE LA FERMENTACIÓN NATURAL DE VEGETA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Times New Roman"/>
              </a:rPr>
              <a:t>Etapas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	</a:t>
            </a:r>
            <a:r>
              <a:rPr b="1" lang="es-ES" sz="2800" spc="-1" strike="noStrike" u="sng">
                <a:solidFill>
                  <a:srgbClr val="000000"/>
                </a:solidFill>
                <a:uFillTx/>
                <a:latin typeface="Times New Roman"/>
              </a:rPr>
              <a:t>M.O. Involucrad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Post fermentación </a:t>
            </a:r>
            <a:r>
              <a:rPr b="1" lang="es-ES" sz="2800" spc="-1" strike="noStrike">
                <a:solidFill>
                  <a:srgbClr val="000000"/>
                </a:solidFill>
                <a:latin typeface="Times New Roman"/>
              </a:rPr>
              <a:t>	</a:t>
            </a:r>
            <a:r>
              <a:rPr b="1" lang="es-ES" sz="2800" spc="-1" strike="noStrike">
                <a:solidFill>
                  <a:srgbClr val="000000"/>
                </a:solidFill>
                <a:latin typeface="Times New Roman"/>
              </a:rPr>
              <a:t>Tanques abiertos: Crec.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Superficial de levadura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oxidativas, hongos y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bacterias.</a:t>
            </a: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Tanques anaeróbicos: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ninguno, por el pH y por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	</a:t>
            </a:r>
            <a:r>
              <a:rPr b="1" lang="es-ES" sz="2800" spc="-1" strike="noStrike">
                <a:solidFill>
                  <a:srgbClr val="000000"/>
                </a:solidFill>
                <a:latin typeface="Times New Roman"/>
              </a:rPr>
              <a:t>la acidez. </a:t>
            </a:r>
            <a:endParaRPr b="0" lang="en-US" sz="2800" spc="-1" strike="noStrike">
              <a:solidFill>
                <a:srgbClr val="000000"/>
              </a:solidFill>
              <a:latin typeface="Times New Roman"/>
            </a:endParaRPr>
          </a:p>
          <a:p>
            <a:pPr lvl="3" marL="15681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1" lang="es-ES" sz="1800" spc="-1" strike="noStrike">
                <a:solidFill>
                  <a:srgbClr val="000000"/>
                </a:solidFill>
                <a:latin typeface="Times New Roman"/>
              </a:rPr>
              <a:t>	</a:t>
            </a:r>
            <a:endParaRPr b="0" lang="en-US" sz="1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3" marL="15681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ERMENTACIÓN DE VEGETAL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ante los últimos años se han hecho grandes esfuerzos para desarrollar métodos de cultivos puros y fermentaciones controladas. Pero sistemas controlados como los utilizados en la producción de bebidas alcohólicas o derivados de la leche no han sido usados a escala comercial.</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s vegetales fermentados en muchos casos aumentan su valor nutricional ya que las bacterias pueden aportar vitaminas.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uchos vegetales, en la presencia de concentraciones apropiadas de sal (NaCl) y bajo condiciones ambientales adecuadas sufrirán fermentación por bacterias del ác. láctico (LAB).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El número de LAB es muy bajo inicialmente comparado con el total de M.O.; las LAB eventualmente predominan debido a la producción de ácido y otros productos que restringen el crecimiento y sobrevivencia de otros grupos de M.O.</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CIACIÓN DE LA FERMENTACIÓN</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l hecho que los LAB ganen en número durante estos procesos también es un reflejo de muchos factores, incluyendo poblaciones iniciales de todos los M.O., propiedades físicas y químicas de los vegetales y el ambiente físico y químico en el cuál los vegetales son coloca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da vegetal puede reflejar una respuesta única durante la iniciación de la fermentació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32:06Z</dcterms:created>
  <dc:creator>Blanca Escobar</dc:creator>
  <dc:description/>
  <dc:language>en-US</dc:language>
  <cp:lastModifiedBy>Blanca Escobar</cp:lastModifiedBy>
  <dcterms:modified xsi:type="dcterms:W3CDTF">2007-10-22T15:43:32Z</dcterms:modified>
  <cp:revision>26</cp:revision>
  <dc:subject/>
  <dc:title>FERMENTACIÓN DE VEGETALES</dc:title>
</cp:coreProperties>
</file>