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6A3F-9CE5-475F-9C0F-CA4F39AD9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D721-806E-4AE5-B8CC-91BB4B39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883B-574E-48D1-AF9D-CC599089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7F4F-2115-452F-AF0F-0861A776D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A78C-B11C-4AA5-B264-C30368F1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76CD-1780-4493-A929-8CB5B44C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3879-B73C-4D06-A7F4-801219EA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0B6C-08CB-4C0F-B1E7-CAD94CE6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24F3-20E6-4560-8929-B00625B2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C3DF-C0F2-4153-82A5-C14C0140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7969-A1D4-4457-8A46-7603EB34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3459-3C12-4AF7-9631-05C664E0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C807-2312-41A2-BA26-59FC6D548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OCULANTES MICROBIANOS QUE AUMENTAN EL RENDIMIENTO DE LAS COSECH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Inocular suelo con hongos que forman micorrizas, estos colonizan raíces de las plantas y así aumentan superficie de las raíces disminuyen necesidades de agua y nutrien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ción de ácido giberélico (fitohormona del crecimiento) por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Gibberella fujikuroi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cultivada en medios sól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so de especies de hongo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richoderm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n cultivos en campos estos producen metabolitos:  volátiles y/o difusibles, quitinasas, glucanasas o proteasas que actúan como antagonistas de fitopatógenos (para evitar pesticidas químic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Uso de M.O. como vectores para producir plantas transgénicas (resistentes a ciertas plag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ara evitar la rápida maduración y deterioro de las frutas (para exportac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ducción de fitohorm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utilizan naturales y sintéticas sobre mas de 1.000.000 de hectáreas en el mundo y sobre diferentes variedades de cult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umentan rendimiento, calidad de la producción, modificando el desarrollo de la planta, a través del sistema horm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trol biológico de pestes agríco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uso de pesticidas o insecticidas para eliminar pestes acarrea muchos problemas secundarios sobre el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sticidas microbianos son específicos y son mas baratos que los pesticidas quím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j. Baculo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infecta a un macho de un insecto y este se cruza con la hembra y producen huevos infectados con el virus lo que les impide desarroll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 uso de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Bacillus thuringiensi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para control de plagas (insectos)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Bacillu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duce una toxina especifica para insectos que les causa la muer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toxina es producida durante la esporul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uelo está formado por compuestos orgánicos e inorgánicos y corresponde a la zona fértil que soporta la vida terres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compuestos inorgánicos provienen del interior de la tierra y se mezclan con los compuestos orgánicos provenientes de la descomposición de organismos v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a gramo de suelo contiene mas de 2 billones de bacte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s junto a los hongos saprofíticos tienen gran importancia en la mantención de la fertilidad del su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os los organismos sobre la tierra dependemos entre otros nutrientes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lantas leguminosas  crecen bien en suelos pobres en nitrógeno produciendo su propio fertiliz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. leguminosa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. phase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. lupini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hizobium primero se adhieren a las células de las raíces y así las bacterias penetran a la pla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os suelos se pueden fertilizar usando estas plantas que dejan a estas bacterias en el su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 porotos, alfalfa, soya, man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LONIZACIÓN DE LAS RAICES DE UNA LEGUMINOSA PO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TERIAS RHIZOB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4771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están desarrollando nuevos mutantes de Rhizobium con altas capacidades para fijar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está tratando de cultivar Azotobacter un fijador no simbiótico de nitrógeno, cerca de raíces de maíz, lo que entregará a esta planta no leguminosa altas concentraciones de compuestos nitroge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so de Cianobacterias en cultivos de arro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retende crear plantas con capacidad para fijar nitrógeno transfiriendo genes desde bacterias fijado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: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Klebsiella pneumoniae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contiene 17 genes en un plasmi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or ahora no ha funcionado la transferencia de estos genes a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Saccharomyces cerevisi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tro problema es la sensibilidad de la nitrogenasa al Oxígeno generado en la fotosíntesis.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OCULANTES MICROBIANOS QUE AUMENTAN EL RENDIMIENTO DE LAS COSECH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plantas se pueden beneficiar también con M.O. no fijadores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iertas cepa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seudomonas putid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seudomonas fluoresce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cuando se inoculan en el suelo aumentan las cosecha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en sideróforos, sustancias que enlazan hierro y así lo sacan del suelo, impidiendo que los M.O. crezcan allí y quiten agua y otros nutrientes a las plantas (raíc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4:53:44Z</dcterms:created>
  <dc:creator>Blanca Escobar</dc:creator>
  <dc:description/>
  <dc:language>en-US</dc:language>
  <cp:lastModifiedBy>Blanca Escobar</cp:lastModifiedBy>
  <dcterms:modified xsi:type="dcterms:W3CDTF">2007-11-05T20:45:55Z</dcterms:modified>
  <cp:revision>5</cp:revision>
  <dc:subject/>
  <dc:title>MICROBIOLOGIA AGRICOLA</dc:title>
</cp:coreProperties>
</file>