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6AC-DBE2-474F-8279-4371D209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439-3A97-4A7E-A27D-36B3CFD3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4A4-E73D-4618-8EC4-C3A40D65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537-A5F2-4B92-BFD1-06CAB7EB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999-6E93-4250-BF7F-63F3FFF6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964-98A4-4872-BC57-257A0A8A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86B-87FE-490B-85F6-143982FB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687-000D-42CD-8944-817E937E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8CD-C596-4C96-ACCE-117DB9DC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628-7A7F-4596-AE58-6C243EF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904-36A6-4C56-A82A-1E98E90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BAC-DE54-4199-919D-E9C9E52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7959-1FBA-4329-B62D-5B15AF473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fluoresce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7-11-05T20:45:55Z</dcterms:modified>
  <cp:revision>5</cp:revision>
  <dc:subject/>
  <dc:title>MICROBIOLOGIA AGRICOLA</dc:title>
</cp:coreProperties>
</file>