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B22-6E27-4D5E-B9B3-0A7BB9A3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6DC-20BD-4FA3-9E07-883938C7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C62-B412-4921-A53B-A3552E18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3A9-FE39-452A-9491-D625C98D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F62-A13E-4C9A-85BC-696C0C53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F89-21D9-4F1B-8990-F657E233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A00-40C5-47E6-A240-1E82B528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0C5-3631-472F-BEFD-CCB49615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E476-57EA-49DC-9A0F-ED851C32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2A5-B79C-4921-A2E1-5D38777D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ACF-65E4-43A0-9909-173E3843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1D2-8E1F-4C82-9567-812FE703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71E6-E25F-4154-A5B4-8F3457598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CULANTES MICROBIANOS QUE AUMENTAN EL RENDIMIENTO DE LAS COSECH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nocular suelo con hongos que forman micorrizas, estos colonizan raíces de las plantas y así aumentan superficie de las raíces disminuyen necesidades de agua y nutrien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ción de ácido giberélico (fitohormona del crecimiento) por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Gibberella fujikuro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ultivada en medios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especies de hongo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richoderm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n cultivos en campos estos producen metabolitos:  volátiles y/o difusibles, quitinasas, glucanasas o proteasas que actúan como antagonistas de fitopatógenos (para evitar pesticidas químic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so de M.O. como vectores para producir plantas transgénicas (resistentes a ciertas plag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ra evitar la rápida maduración y deterioro de las frutas (para export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ción de fitohor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utilizan naturales y sintéticas sobre mas de 1.000.000 de hectáreas en el mundo y sobre diferentes variedades de cult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umentan rendimiento, calidad de la producción, modificando el desarrollo de la planta, a través del sistema horm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trol biológico de pestes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uso de pesticidas o insecticidas para eliminar pestes acarrea muchos problemas secundarios sobre el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sticidas microbianos son específicos y son mas baratos que los pesticidas quím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. Bacu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infecta a un macho de un insecto y este se cruza con la hembra y producen huevos infectados con el virus lo que les impide desarroll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 uso de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Bacillus thuringiensi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para control de plagas (insectos)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Bacillu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e una toxina especifica para insectos que les causa la mue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oxina es producida durante la esporu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uelo está formado por compuestos orgánicos e inorgánicos y corresponde a la zona fértil que soporta la vida terres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compuestos inorgánicos provienen del interior de la tierra y se mezclan con los compuestos orgánicos provenientes de la descomposición de organismos v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gramo de suelo contiene mas de 2 billones de bacte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s junto a los hongos saprofíticos tienen gran importancia en la mantención de la fertilidad del su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os los organismos sobre la tierra dependemos entre otros nutrientes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lantas leguminosas  crecen bien en suelos pobres en nitrógeno produciendo su propio fertiliz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. leguminosa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. phase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. lupini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hizobium primero se adhieren a las células de las raíces y así las bacterias penetran a la pla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suelos se pueden fertilizar usando estas plantas que dejan a estas bacterias en el su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 porotos, alfalfa, soya, man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ONIZACIÓN DE LAS RAICES DE UNA LEGUMINOSA PO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RHIZOB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771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stán desarrollando nuevos mutantes de Rhizobium con altas capacidades para fijar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stá tratando de cultivar Azotobacter un fijador no simbiótico de nitrógeno, cerca de raíces de maíz, lo que entregará a esta planta no leguminosa altas concentraciones de compuestos nitroge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Cianobacterias en cultivos de arro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etende crear plantas con capacidad para fijar nitrógeno transfiriendo genes desde bacterias fijado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: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Klebsiella pneumonia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contiene 17 genes en un plasmi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or ahora no ha funcionado la transferencia de estos genes a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Saccharomyces cerevisi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tro problema es la sensibilidad de la nitrogenasa al Oxígeno generado en la fotosíntesis.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CULANTES MICROBIANOS QUE AUMENTAN EL RENDIMIENTO DE LAS COSECH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plantas se pueden beneficiar también con M.O. no fijadores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iertas cep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seudomonas put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seudomonas fluoresce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cuando se inoculan en el suelo aumentan las cosech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en sideróforos, sustancias que enlazan hierro y así lo sacan del suelo, impidiendo que los M.O. crezcan allí y quiten agua y otros nutrientes a las plantas (raíc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4:53:44Z</dcterms:created>
  <dc:creator>Blanca Escobar</dc:creator>
  <dc:description/>
  <dc:language>en-US</dc:language>
  <cp:lastModifiedBy>Blanca Escobar</cp:lastModifiedBy>
  <dcterms:modified xsi:type="dcterms:W3CDTF">2007-11-05T20:45:55Z</dcterms:modified>
  <cp:revision>5</cp:revision>
  <dc:subject/>
  <dc:title>MICROBIOLOGIA AGRICOLA</dc:title>
</cp:coreProperties>
</file>