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992B-7612-4897-BB03-CC3E7640B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A9F2-6D80-4473-B045-37889FE6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20B9-88B5-45EE-8F1A-D10B46798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484D-0BE0-4623-B1B6-39FD2A01A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D2CA-6BAE-487F-8DF0-98211853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BCC5-94BC-464A-B8BD-714F5638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FE42-881B-49C4-A4F8-0677B6CC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1896-3C3A-4D00-9ACD-0837BFBE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95E9-EA08-490F-956F-B86E5EA2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D82E-C39F-4378-B45D-50ED7244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8C46-03F8-4480-9E41-7BA6B785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71F2-77A4-44E4-B027-5C78C264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8D7A-AF2A-483B-8B6E-022AEFC7B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CROBIOLOGIA AGRIC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OCULANTES MICROBIANOS QUE AUMENTAN EL RENDIMIENTO DE LAS COSECH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Inocular suelo con hongos que forman micorrizas, estos colonizan raíces de las plantas y así aumentan superficie de las raíces disminuyen necesidades de agua y nutrien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TECNOLOGÍA EN PROCESOS AGRÍCOLAS (CHI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ducción de ácido giberélico (fitohormona del crecimiento) por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Gibberella fujikuroi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cultivada en medios sól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so de especies de hongos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Trichoderm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en cultivos en campos estos producen metabolitos:  volátiles y/o difusibles, quitinasas, glucanasas o proteasas que actúan como antagonistas de fitopatógenos (para evitar pesticidas químic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TECNOLOGÍA EN PROCESOS AGRÍCOLAS (CHI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Uso de M.O. como vectores para producir plantas transgénicas (resistentes a ciertas plag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ara evitar la rápida maduración y deterioro de las frutas (para exportació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TECNOLOGÍA EN PROCESOS AGRÍCOLAS (CHI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ducción de fitohormo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utilizan naturales y sintéticas sobre mas de 1.000.000 de hectáreas en el mundo y sobre diferentes variedades de cultiv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umentan rendimiento, calidad de la producción, modificando el desarrollo de la planta, a través del sistema horm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TECNOLOGÍA EN PROCESOS AGRÍCOLAS (CHI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trol biológico de pestes agríco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uso de pesticidas o insecticidas para eliminar pestes acarrea muchos problemas secundarios sobre el amb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esticidas microbianos son específicos y son mas baratos que los pesticidas quím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j. Baculo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infecta a un macho de un insecto y este se cruza con la hembra y producen huevos infectados con el virus lo que les impide desarrolla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TECNOLOGÍA EN PROCESOS AGRÍCOLAS (CHI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. uso de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Bacillus thuringiensi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para control de plagas (insectos)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Bacillus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duce una toxina especifica para insectos que les causa la muer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toxina es producida durante la esporul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ICROBIOLOGIA AGRICO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suelo está formado por compuestos orgánicos e inorgánicos y corresponde a la zona fértil que soporta la vida terrest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compuestos inorgánicos provienen del interior de la tierra y se mezclan con los compuestos orgánicos provenientes de la descomposición de organismos viv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ICROBIOLOGIA AGRICO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a gramo de suelo contiene mas de 2 billones de bacte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os junto a los hongos saprofíticos tienen gran importancia en la mantención de la fertilidad del sue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os los organismos sobre la tierra dependemos entre otros nutrientes de nitró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JACIÓN DE NITRÓGENO POR M.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lantas leguminosas  crecen bien en suelos pobres en nitrógeno produciendo su propio fertiliza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. leguminosa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. phaseo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. lupini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JACIÓN DE NITRÓGENO POR M.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hizobium primero se adhieren a las células de las raíces y así las bacterias penetran a la pla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os suelos se pueden fertilizar usando estas plantas que dejan a estas bacterias en el sue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. porotos, alfalfa, soya, maní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LONIZACIÓN DE LAS RAICES DE UNA LEGUMINOSA PO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CTERIAS RHIZOB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4771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JACIÓN DE NITRÓGENO POR M.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están desarrollando nuevos mutantes de Rhizobium con altas capacidades para fijar nitró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está tratando de cultivar Azotobacter un fijador no simbiótico de nitrógeno, cerca de raíces de maíz, lo que entregará a esta planta no leguminosa altas concentraciones de compuestos nitroge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so de Cianobacterias en cultivos de arro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pretende crear plantas con capacidad para fijar nitrógeno transfiriendo genes desde bacterias fijado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JACIÓN DE NITRÓGENO POR M.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.: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Klebsiella pneumoniae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contiene 17 genes en un plasmi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or ahora no ha funcionado la transferencia de estos genes a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Saccharomyces cerevisi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tro problema es la sensibilidad de la nitrogenasa al Oxígeno generado en la fotosíntesis.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OCULANTES MICROBIANOS QUE AUMENTAN EL RENDIMIENTO DE LAS COSECH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s plantas se pueden beneficiar también con M.O. no fijadores de nitró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iertas cepas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Pseudomonas putid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Pseudomonas fluorescen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cuando se inoculan en el suelo aumentan las cosecha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ducen sideróforos, sustancias que enlazan hierro y así lo sacan del suelo, impidiendo que los M.O. crezcan allí y quiten agua y otros nutrientes a las plantas (raíc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4:53:44Z</dcterms:created>
  <dc:creator>Blanca Escobar</dc:creator>
  <dc:description/>
  <dc:language>en-US</dc:language>
  <cp:lastModifiedBy>Blanca Escobar</cp:lastModifiedBy>
  <dcterms:modified xsi:type="dcterms:W3CDTF">2007-11-05T20:45:55Z</dcterms:modified>
  <cp:revision>5</cp:revision>
  <dc:subject/>
  <dc:title>MICROBIOLOGIA AGRICOLA</dc:title>
</cp:coreProperties>
</file>