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FDA-0F32-445E-8CB2-FFB78998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2CE-7B38-48ED-A429-445F6154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46E-FA65-451F-81E7-9D9B74B0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AB9-E507-4C6A-AD8A-2D6A0C43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ED9-6A6A-4BDB-85C7-F2ED1914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026-D7B0-40DF-B5E0-A14262F8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E6D-8051-4C3D-9995-A19B620F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E38-F019-479F-8E38-29F7A070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06A-33DA-4781-B4E0-E98D8DE1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D50-51BD-4F86-AEBA-E83489FF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BA7-3750-4371-8AB6-8CFFD383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9F9-FCC8-4204-8E89-CA826F6F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9E6D-104A-4B6A-879D-44063A14D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fluoresce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7-11-05T20:45:55Z</dcterms:modified>
  <cp:revision>5</cp:revision>
  <dc:subject/>
  <dc:title>MICROBIOLOGIA AGRICOLA</dc:title>
</cp:coreProperties>
</file>