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98A81F-CE3E-49B2-81C0-BEA0F6D92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CBD82-E2AA-49E2-8E77-3CA38CFB5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D196A-BB4F-4D47-8816-8273FDE323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100C4-4FF0-40ED-B1F1-4FDA8F445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95DE20-60DA-4031-9420-FC8C5EA04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DC297-7554-4B8D-93FC-1D9ECE5AA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1E7B7-A020-4F79-80BE-46DB5B962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5AE8E-B50C-40CE-B334-93C95FB52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73FF3-172A-4C23-83B1-B3436B884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BED6-42EF-4907-BC86-112103667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8958-6E59-49B5-B078-5ADBD7772D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B04C38-61F3-4E32-8D0E-856E1DD6CA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B3B67-ED08-4793-BDB4-167FDFCA9C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1" lang="en-US" sz="44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480"/>
            <a:ext cx="77724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7"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nvertasa se produce a partir del cultivo de </a:t>
            </a:r>
            <a:r>
              <a:rPr b="0" i="1" lang="es-ES" sz="2800" spc="-1" strike="noStrike">
                <a:solidFill>
                  <a:srgbClr val="000000"/>
                </a:solidFill>
                <a:latin typeface="Times New Roman"/>
              </a:rPr>
              <a:t>Saccharomyces cerevisiae</a:t>
            </a:r>
            <a:r>
              <a:rPr b="0" lang="es-ES" sz="2800" spc="-1" strike="noStrike">
                <a:solidFill>
                  <a:srgbClr val="000000"/>
                </a:solidFill>
                <a:latin typeface="Times New Roman"/>
              </a:rPr>
              <a:t>, se utiliza para impedir la cristalización de azúcares, pues convierte sacarosa en azúcares más solubles. También se inyecta en el interior de los caramelo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ectinasas, producidas por cepas de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se utiliza para licuar jugos de frutas.</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 producida por cepas de </a:t>
            </a:r>
            <a:r>
              <a:rPr b="0" i="1" lang="es-ES" sz="2800" spc="-1" strike="noStrike">
                <a:solidFill>
                  <a:srgbClr val="000000"/>
                </a:solidFill>
                <a:latin typeface="Times New Roman"/>
              </a:rPr>
              <a:t>Mucor</a:t>
            </a:r>
            <a:r>
              <a:rPr b="0" lang="es-ES" sz="2800" spc="-1" strike="noStrike">
                <a:solidFill>
                  <a:srgbClr val="000000"/>
                </a:solidFill>
                <a:latin typeface="Times New Roman"/>
              </a:rPr>
              <a:t> se utiliza para coagular la leche en la producción de queso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Proteasas, para ablandar carnes de </a:t>
            </a:r>
            <a:r>
              <a:rPr b="0" i="1" lang="es-ES" sz="2800" spc="-1" strike="noStrike">
                <a:solidFill>
                  <a:srgbClr val="000000"/>
                </a:solidFill>
                <a:latin typeface="Times New Roman"/>
              </a:rPr>
              <a:t>Bacillus</a:t>
            </a:r>
            <a:r>
              <a:rPr b="0" lang="es-ES" sz="2800" spc="-1" strike="noStrike">
                <a:solidFill>
                  <a:srgbClr val="000000"/>
                </a:solidFill>
                <a:latin typeface="Times New Roman"/>
              </a:rPr>
              <a:t> y </a:t>
            </a:r>
            <a:r>
              <a:rPr b="0" i="1" lang="es-ES" sz="2800" spc="-1" strike="noStrike">
                <a:solidFill>
                  <a:srgbClr val="000000"/>
                </a:solidFill>
                <a:latin typeface="Times New Roman"/>
              </a:rPr>
              <a:t>Aspergillus</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ctasa, de </a:t>
            </a:r>
            <a:r>
              <a:rPr b="0" i="1" lang="es-ES" sz="2800" spc="-1" strike="noStrike">
                <a:solidFill>
                  <a:srgbClr val="000000"/>
                </a:solidFill>
                <a:latin typeface="Times New Roman"/>
              </a:rPr>
              <a:t>Kluyveromyces fragilis</a:t>
            </a:r>
            <a:r>
              <a:rPr b="0" lang="es-ES" sz="2800" spc="-1" strike="noStrike">
                <a:solidFill>
                  <a:srgbClr val="000000"/>
                </a:solidFill>
                <a:latin typeface="Times New Roman"/>
              </a:rPr>
              <a:t>, para evitar la cristalización de helad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MICROBIANAS Y SUS APLICACIONES</a:t>
            </a:r>
            <a:endParaRPr b="0" lang="en-US" sz="3200" spc="-1" strike="noStrike">
              <a:solidFill>
                <a:srgbClr val="000000"/>
              </a:solidFill>
              <a:latin typeface="Times New Roman"/>
            </a:endParaRPr>
          </a:p>
        </p:txBody>
      </p:sp>
      <p:graphicFrame>
        <p:nvGraphicFramePr>
          <p:cNvPr id="59" name=""/>
          <p:cNvGraphicFramePr/>
          <p:nvPr/>
        </p:nvGraphicFramePr>
        <p:xfrm>
          <a:off x="685800" y="1600200"/>
          <a:ext cx="7772400" cy="7496280"/>
        </p:xfrm>
        <a:graphic>
          <a:graphicData uri="http://schemas.openxmlformats.org/drawingml/2006/table">
            <a:tbl>
              <a:tblPr/>
              <a:tblGrid>
                <a:gridCol w="1943280"/>
                <a:gridCol w="1942920"/>
                <a:gridCol w="1943280"/>
                <a:gridCol w="1942920"/>
              </a:tblGrid>
              <a:tr h="780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i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onad en frío rop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mid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yuda digestiv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Farmaceú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in. Manch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p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gradar gras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chería, 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92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elul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uaviz. y ablandad. Tej.</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NZIMAS MICROBIANAS Y SUS APLICACIONES</a:t>
            </a:r>
            <a:endParaRPr b="0" lang="en-US" sz="2800" spc="-1" strike="noStrike">
              <a:solidFill>
                <a:srgbClr val="000000"/>
              </a:solidFill>
              <a:latin typeface="Times New Roman"/>
            </a:endParaRPr>
          </a:p>
        </p:txBody>
      </p:sp>
      <p:graphicFrame>
        <p:nvGraphicFramePr>
          <p:cNvPr id="61" name=""/>
          <p:cNvGraphicFramePr/>
          <p:nvPr/>
        </p:nvGraphicFramePr>
        <p:xfrm>
          <a:off x="685800" y="1600200"/>
          <a:ext cx="7772400" cy="6059520"/>
        </p:xfrm>
        <a:graphic>
          <a:graphicData uri="http://schemas.openxmlformats.org/drawingml/2006/table">
            <a:tbl>
              <a:tblPr/>
              <a:tblGrid>
                <a:gridCol w="1943280"/>
                <a:gridCol w="1942920"/>
                <a:gridCol w="1943280"/>
                <a:gridCol w="1942920"/>
              </a:tblGrid>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zim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uent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Ap.indus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ustri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ote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na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andador carn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nes</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mpieza herid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dicin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teria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gente doméstic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vand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7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vert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vadura</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lleno blando cara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tería</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8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Gluc. oxidasa</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ngo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im.gluc.y O</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imentació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principal restricción del uso de enzimas como biocatalizadores de proceso radica en su inherente labilidad derivada de su compleja estructura molecular.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estabilidad de una enzima puede definirse como la capacidad de retener su actividad en una condición ambiental determinad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importantes la temperatura y la presencia de compuestos químicos inactiva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Diversas estrategias han sido elaboradas para producir biocatalizadores intrínsecamente más estables y para incrementar la estabilidad durante el proceso catalítico.</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tre las estrategias elaboradas para producir enzimas más estables y para incrementar la estabilidad durante el proceso catalítico se encuentra el uso de M.O. extremófilos y de organismos mutantes y recombinantes, obtenidos por técnicas de mutagénesis dirigida e ingeniería genética, como fuentes de enzimas de elevada estabil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STABILIDAD DE ENZIMAS</a:t>
            </a:r>
            <a:endParaRPr b="0" lang="en-US" sz="36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 estrategia para asegurar la estabilidad es el uso de enzimas soportadas o contenidas en matrices y el uso de enzimas en medios de reacción no convencionales.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movilizadas pueden ser notablemente más estables que sus contrapartes solubles, al reducirse la movilidad molecular y crearse un microambiente eventualmante protecto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69"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microorganismos extremófilos son capaces de crecer a altas temperaturas, en algunos casos por encima de la temperatura de ebullición del ag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hipertermófilos son capaces de crecer a estas temperaturas tan altas porque producen moléculas estables al calor, incluidas enzima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e utiliza el nombre de extremozima para referirse a enzimas que funcionan a temperaturas extremadamente altas, pero también a aquellas que funcionan bien a cualquier condición, frío o altas concentraciones salinas o ph áci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1"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os procesos industriales funcionan mejor a altas temperaturas, por lo que las extremozimas provenientes de M.O. hipertermófilos se están haciendo cada vez más atractivas como biocatalizadores para las aplicaciones industriales y también para uso en investigación, que requieren enzim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y conocidas son la Taq y Pfu polimerasas que se utilizan en la reacción de la PC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ERMOESTABILIDAD DE LA PULULANASA</a:t>
            </a:r>
            <a:endParaRPr b="0" lang="en-US" sz="3600" spc="-1" strike="noStrike">
              <a:solidFill>
                <a:srgbClr val="000000"/>
              </a:solidFill>
              <a:latin typeface="Times New Roman"/>
            </a:endParaRPr>
          </a:p>
        </p:txBody>
      </p:sp>
      <p:pic>
        <p:nvPicPr>
          <p:cNvPr id="73" name="" descr=""/>
          <p:cNvPicPr/>
          <p:nvPr/>
        </p:nvPicPr>
        <p:blipFill>
          <a:blip r:embed="rId1"/>
          <a:stretch/>
        </p:blipFill>
        <p:spPr>
          <a:xfrm>
            <a:off x="1219320" y="1981080"/>
            <a:ext cx="5891040" cy="4572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producidas por M.O. hipertermófilos son: proteasas, celulasas, pululanasas y xilanasas extremadamente termoestab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Thermococcus litoralis</a:t>
            </a:r>
            <a:r>
              <a:rPr b="0" lang="es-ES" sz="2800" spc="-1" strike="noStrike">
                <a:solidFill>
                  <a:srgbClr val="000000"/>
                </a:solidFill>
                <a:latin typeface="Times New Roman"/>
              </a:rPr>
              <a:t>, relacionado con </a:t>
            </a:r>
            <a:r>
              <a:rPr b="0" i="1" lang="es-ES" sz="2800" spc="-1" strike="noStrike">
                <a:solidFill>
                  <a:srgbClr val="000000"/>
                </a:solidFill>
                <a:latin typeface="Times New Roman"/>
              </a:rPr>
              <a:t>Pyrococcus woesei</a:t>
            </a:r>
            <a:r>
              <a:rPr b="0" lang="es-ES" sz="2800" spc="-1" strike="noStrike">
                <a:solidFill>
                  <a:srgbClr val="000000"/>
                </a:solidFill>
                <a:latin typeface="Times New Roman"/>
              </a:rPr>
              <a:t> produce una pululanasa catalíticamente más activa a 118</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Pyrococcus furiosus</a:t>
            </a:r>
            <a:r>
              <a:rPr b="0" lang="es-ES" sz="2800" spc="-1" strike="noStrike">
                <a:solidFill>
                  <a:srgbClr val="000000"/>
                </a:solidFill>
                <a:latin typeface="Times New Roman"/>
              </a:rPr>
              <a:t> produce una ferredoxina, proteína ferro-sulfurada implicada en transporte electrónico, activa a temperaturas similares y que no se desnaturaliza hasta 140</a:t>
            </a:r>
            <a:r>
              <a:rPr b="0" lang="es-ES" sz="2800" spc="-1" strike="noStrike" baseline="30000">
                <a:solidFill>
                  <a:srgbClr val="000000"/>
                </a:solidFill>
                <a:latin typeface="Times New Roman"/>
              </a:rPr>
              <a:t>o</a:t>
            </a:r>
            <a:r>
              <a:rPr b="0" lang="es-ES" sz="2800" spc="-1" strike="noStrike">
                <a:solidFill>
                  <a:srgbClr val="000000"/>
                </a:solidFill>
                <a:latin typeface="Times New Roman"/>
              </a:rPr>
              <a:t>C.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295280" y="228600"/>
            <a:ext cx="6782040" cy="6748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son catalizadores de origen biológico.</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activos en medios acuosos y en condiciones muy suaves de temperatura, presión, pH, etc.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específicos: pueden modificar un único substrato en una mezcla de substratos muy similares e incluso pueden discernir entre dos isómeros de una mezcla racémica de un compuesto quiral.</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on catalizadores muy selectivos: pueden modificar un único enlace o un único grupo funcional en una moléculas que tenga varias posiciones modificables. </a:t>
            </a:r>
            <a:endParaRPr b="0" lang="en-US" sz="2800" spc="-1" strike="noStrike">
              <a:solidFill>
                <a:srgbClr val="000000"/>
              </a:solidFill>
              <a:latin typeface="Times New Roman"/>
            </a:endParaRPr>
          </a:p>
          <a:p>
            <a:pPr>
              <a:lnSpc>
                <a:spcPct val="9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XTREMOZIMAS</a:t>
            </a:r>
            <a:endParaRPr b="0" lang="en-US" sz="36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extremozimas son activas a bajas temperaturas, enzimas psicrófila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tras son activas en presencia de altas concentraciones de sales (de halófilos) o activas a pH muy altos o muy bajos (de alcalófilos y acidófilos respectivamente y muy seguramente serán utilizadas en los próximos años a nivel industrial en situaciones que requieren biocatálisis en condiciones extrema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su utilización en procesos industriales, es mejor utilizar una enzima en forma inmovilizad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inmovilización no sólo hace más fácil realizar la reacción en condiciones a gran escala, sino que además estabiliza la enzima frente a la desnaturalización.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en tres formas de realizar la inmovilizació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Formación de enlaces transversales (polimerización) de las moléculas de la enzima</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unión de las moléculas de enzima entre si se suele hacer mediante reacción química con un agente bifuncional formador de enlaces transversales, como el glutaraldehido, reaccionando grupos aminos con este reac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i se hace la reacción adecuadamente, la enzima puede mantener la mayor parte de su activid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 POR ENLACES CON GLUTARALDEHIDO</a:t>
            </a:r>
            <a:endParaRPr b="0" lang="en-US" sz="3200" spc="-1" strike="noStrike">
              <a:solidFill>
                <a:srgbClr val="000000"/>
              </a:solidFill>
              <a:latin typeface="Times New Roman"/>
            </a:endParaRPr>
          </a:p>
        </p:txBody>
      </p:sp>
      <p:graphicFrame>
        <p:nvGraphicFramePr>
          <p:cNvPr id="83" name=""/>
          <p:cNvGraphicFramePr/>
          <p:nvPr/>
        </p:nvGraphicFramePr>
        <p:xfrm>
          <a:off x="1295280" y="1600200"/>
          <a:ext cx="6553440" cy="5029200"/>
        </p:xfrm>
        <a:graphic>
          <a:graphicData uri="http://schemas.openxmlformats.org/presentationml/2006/ole">
            <p:oleObj progId="PowerPoint.Show.12" r:id="rId1" spid="">
              <p:embed/>
              <p:pic>
                <p:nvPicPr>
                  <p:cNvPr id="84" name="" descr=""/>
                  <p:cNvPicPr/>
                  <p:nvPr/>
                </p:nvPicPr>
                <p:blipFill>
                  <a:blip r:embed="rId2"/>
                  <a:stretch/>
                </p:blipFill>
                <p:spPr>
                  <a:xfrm>
                    <a:off x="1295280" y="1600200"/>
                    <a:ext cx="655344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Unión de la enzima a un soporte</a:t>
            </a:r>
            <a:r>
              <a:rPr b="0" lang="en-US" sz="3200" spc="-1" strike="noStrike">
                <a:solidFill>
                  <a:srgbClr val="000000"/>
                </a:solidFill>
                <a:latin typeface="Times New Roman"/>
              </a:rPr>
              <a:t>. La unión puede ser por absorción, por enlaces iónicos o por enlaces covalen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re los soportes utilizados figuran celulosas modificadas, carbón activado, minerales de la arcilla, óxido de aluminio y perlas de vidrio.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S PARA LA INMOVILIZACIÓN DE ENZIMAS</a:t>
            </a:r>
            <a:endParaRPr b="0" lang="en-US" sz="3600" spc="-1" strike="noStrike">
              <a:solidFill>
                <a:srgbClr val="000000"/>
              </a:solidFill>
              <a:latin typeface="Times New Roman"/>
            </a:endParaRPr>
          </a:p>
        </p:txBody>
      </p:sp>
      <p:pic>
        <p:nvPicPr>
          <p:cNvPr id="88" name="" descr=""/>
          <p:cNvPicPr/>
          <p:nvPr/>
        </p:nvPicPr>
        <p:blipFill>
          <a:blip r:embed="rId1"/>
          <a:stretch/>
        </p:blipFill>
        <p:spPr>
          <a:xfrm>
            <a:off x="1600200" y="1981080"/>
            <a:ext cx="6095880" cy="4572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INMOVILIZADAS</a:t>
            </a:r>
            <a:endParaRPr b="0" lang="en-US" sz="3200" spc="-1" strike="noStrike">
              <a:solidFill>
                <a:srgbClr val="000000"/>
              </a:solidFill>
              <a:latin typeface="Times New Roman"/>
            </a:endParaRPr>
          </a:p>
        </p:txBody>
      </p:sp>
      <p:sp>
        <p:nvSpPr>
          <p:cNvPr id="90"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Inclusión de la enzima</a:t>
            </a:r>
            <a:r>
              <a:rPr b="0" lang="es-ES" sz="2800" spc="-1" strike="noStrike">
                <a:solidFill>
                  <a:srgbClr val="000000"/>
                </a:solidFill>
                <a:latin typeface="Times New Roman"/>
              </a:rPr>
              <a:t>, que implica la incorporación de la enzima a una membrana semipermeable.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pueden encerrarse en microcápsulas, geles, membranas de polímeros semipermeables o polímeros fibrosos como el acetato de celul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ada uno de estos métodos tiene ventajas e inconvenientes y el procedimiento utilizado depende de la enzima y de la aplicación industrial concreta.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ÉLULAS INMOVILIZAD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59984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algunos casos no es necesario usar la enzima purificad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células ricas en enzimas pueden ser inmovilizadas y realizar el proceso industrial en forma continu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Bacillus coagulans</a:t>
            </a:r>
            <a:r>
              <a:rPr b="0" lang="es-ES" sz="2800" spc="-1" strike="noStrike">
                <a:solidFill>
                  <a:srgbClr val="000000"/>
                </a:solidFill>
                <a:latin typeface="Times New Roman"/>
              </a:rPr>
              <a:t> que produce glucosa isomerasa, se utiliza para la producción de jarabe de cereales rico en fructosa.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l jarabe rico en fructosa se hace pasar a través de columnas que contienen las células inmovilizadas y se produce el jarabe de fructos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instalaciones son más pequeña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Utilizando DNA recombinante ha sido posible producir una serie de enzimas de gran utilidad en la actualidad.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Arial Unicode MS"/>
              </a:rPr>
              <a:t>La producción de enzimas por microbiología industrial era ya un negocio floreciente antes de la era del DNA recombinante, pero precisamente la I.G. se adapta perfectamente a los objetivos de mejora de esta biotecnología comercial, y empezó a usarse de modo casi inmediato en cuanto estuvieron a punto las técnic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6"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La ingeniería genética está realizando progresos importantes en la producción de enzimas recombinantes en microorganismos.</a:t>
            </a:r>
            <a:endParaRPr b="0" lang="en-US" sz="3200" spc="-1" strike="noStrike">
              <a:solidFill>
                <a:srgbClr val="000000"/>
              </a:solidFill>
              <a:latin typeface="Times New Roman"/>
            </a:endParaRPr>
          </a:p>
          <a:p>
            <a:pPr marL="329040" indent="-32904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 </a:t>
            </a:r>
            <a:r>
              <a:rPr b="0" lang="es-ES" sz="3200" spc="-1" strike="noStrike">
                <a:solidFill>
                  <a:srgbClr val="333333"/>
                </a:solidFill>
                <a:latin typeface="Times New Roman"/>
                <a:ea typeface="Arial"/>
              </a:rPr>
              <a:t>Para garantizar la seguridad de su uso debe controlarse que los microorganismos de donde se extraen no sean patógenos, ni fabriquen compuestos tóxicos. Los ideales son aquellos que tienen una larga tradición de uso en los alimentos como las levaduras de la industria cervecera y los fermentos láctico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UENTES DE ENZIMAS</a:t>
            </a:r>
            <a:endParaRPr b="0" lang="en-US" sz="3200" spc="-1" strike="noStrike">
              <a:solidFill>
                <a:srgbClr val="000000"/>
              </a:solidFill>
              <a:latin typeface="Times New Roman"/>
            </a:endParaRPr>
          </a:p>
        </p:txBody>
      </p:sp>
      <p:sp>
        <p:nvSpPr>
          <p:cNvPr id="44"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pueden ser de origen vegetal, animal y microbian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vegetal, se encuentran las proteasas, carbohidrasas ( las cuales descomponen residuos de azúcares de carbohidratos superiores, a-amilasas y b-amilasa</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Entre las enzimas de tipo animal están las esterasa ( Lipasa se produce en la mucosa gástrica, el páncreas, fosfotasas: Se obtiene de tejidos animales óseo, muscular, tripsina y quimotripsina se produce en el páncreas )</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Arial"/>
              </a:rPr>
              <a:t>Las enzimas del tipo microbiano provienen de bacterias, arqueas y de hongos. </a:t>
            </a: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Bacillus, Aspergillus y Sacharomyces son tres especies de microorganismos bien conocidas, su manipulación es segura, son de crecimiento rápido y producen grandes cantidades de enzimas, generalmente mediante fermentación. </a:t>
            </a:r>
            <a:endParaRPr b="0" lang="en-US" sz="3200" spc="-1" strike="noStrike">
              <a:solidFill>
                <a:srgbClr val="000000"/>
              </a:solidFill>
              <a:latin typeface="Times New Roman"/>
            </a:endParaRPr>
          </a:p>
          <a:p>
            <a:pPr marL="322200" indent="-322200">
              <a:lnSpc>
                <a:spcPct val="90000"/>
              </a:lnSpc>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33"/>
                </a:solidFill>
                <a:latin typeface="Times New Roman"/>
                <a:ea typeface="Arial"/>
              </a:rPr>
              <a:t>El medio de cultivo óptimo para estos microorganismos es igualmente bien conocido, lo que reduce los costos de experimentación. </a:t>
            </a:r>
            <a:endParaRPr b="0" lang="en-US" sz="3200" spc="-1" strike="noStrike">
              <a:solidFill>
                <a:srgbClr val="000000"/>
              </a:solidFill>
              <a:latin typeface="Times New Roman"/>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ENZIMAS RECOMBINANTES</a:t>
            </a:r>
            <a:endParaRPr b="0" lang="en-US" sz="3600" spc="-1" strike="noStrike">
              <a:solidFill>
                <a:srgbClr val="000000"/>
              </a:solidFill>
              <a:latin typeface="Times New Roman"/>
            </a:endParaRPr>
          </a:p>
        </p:txBody>
      </p:sp>
      <p:sp>
        <p:nvSpPr>
          <p:cNvPr id="100"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Cuando una enzima nueva es identificada en un microorganismo, el gen que codifica para la misma puede ser transferido a cualquiera de las especies anteriores.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De esta manera se puede producir mayor cantidad de dicha enzima en el tanque de fermentación. </a:t>
            </a:r>
            <a:endParaRPr b="0" lang="en-US" sz="3200" spc="-1" strike="noStrike">
              <a:solidFill>
                <a:srgbClr val="000000"/>
              </a:solidFill>
              <a:latin typeface="Times New Roman"/>
            </a:endParaRPr>
          </a:p>
          <a:p>
            <a:pPr marL="329040" indent="-3290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El producto obtenido, la enzima recombinante, es de mayor pureza, lo cual contribuye a una mejor calidad del producto.</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2"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alimentaria: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Quimosina recombinante (rennina) para la elaboración de quesos. Muy empleada en EE.UU y Gran Bretaña (90% de los quesos duros), sustityendo a la escasa quimosina de terneros y a la biotecnológica tradicional obtenida de hongos (</a:t>
            </a:r>
            <a:r>
              <a:rPr b="1" i="1" lang="es-ES_tradnl" sz="2800" spc="-1" strike="noStrike">
                <a:solidFill>
                  <a:srgbClr val="000000"/>
                </a:solidFill>
                <a:latin typeface="Times New Roman"/>
                <a:ea typeface="Arial Unicode MS"/>
              </a:rPr>
              <a:t>Rhizomucor, Endothia parasitica</a:t>
            </a:r>
            <a:r>
              <a:rPr b="1" lang="es-ES_tradnl" sz="2800" spc="-1" strike="noStrike">
                <a:solidFill>
                  <a:srgbClr val="000000"/>
                </a:solidFill>
                <a:latin typeface="Times New Roman"/>
                <a:ea typeface="Arial Unicode MS"/>
              </a:rPr>
              <a:t>). La quimosina recombinante se obtiene en </a:t>
            </a:r>
            <a:r>
              <a:rPr b="1" i="1" lang="es-ES_tradnl" sz="2800" spc="-1" strike="noStrike">
                <a:solidFill>
                  <a:srgbClr val="000000"/>
                </a:solidFill>
                <a:latin typeface="Times New Roman"/>
                <a:ea typeface="Arial Unicode MS"/>
              </a:rPr>
              <a:t>Kluyveromyces lact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Aspergillus niger</a:t>
            </a:r>
            <a:r>
              <a:rPr b="1" lang="es-ES_tradnl" sz="2800" spc="-1" strike="noStrike">
                <a:solidFill>
                  <a:srgbClr val="000000"/>
                </a:solidFill>
                <a:latin typeface="Times New Roman"/>
                <a:ea typeface="Arial Unicode MS"/>
              </a:rPr>
              <a:t> manipulado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Somatotropina bovina recombinante parece estimular la producción de leche de vacas en los EE.UU. (aprobada por la FDA en 199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 la industria de detergentes: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Lipolasa® de Novo-Nordisk (ahora Novozymes) es la primera enzima recombinante aprobada para detergentes. El gen de esta lipasa, aislado de hongo filamentoso </a:t>
            </a:r>
            <a:r>
              <a:rPr b="1" i="1" lang="es-ES_tradnl" sz="2800" spc="-1" strike="noStrike">
                <a:solidFill>
                  <a:srgbClr val="000000"/>
                </a:solidFill>
                <a:latin typeface="Times New Roman"/>
                <a:ea typeface="Arial Unicode MS"/>
              </a:rPr>
              <a:t>Humicola</a:t>
            </a:r>
            <a:r>
              <a:rPr b="1" lang="es-ES_tradnl" sz="2800" spc="-1" strike="noStrike">
                <a:solidFill>
                  <a:srgbClr val="000000"/>
                </a:solidFill>
                <a:latin typeface="Times New Roman"/>
                <a:ea typeface="Arial Unicode MS"/>
              </a:rPr>
              <a:t> se transfirió a </a:t>
            </a:r>
            <a:r>
              <a:rPr b="1" i="1" lang="es-ES_tradnl" sz="2800" spc="-1" strike="noStrike">
                <a:solidFill>
                  <a:srgbClr val="000000"/>
                </a:solidFill>
                <a:latin typeface="Times New Roman"/>
                <a:ea typeface="Arial Unicode MS"/>
              </a:rPr>
              <a:t>Aspergillus oryz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La cutinasa de </a:t>
            </a:r>
            <a:r>
              <a:rPr b="1" i="1" lang="es-ES_tradnl" sz="2800" spc="-1" strike="noStrike">
                <a:solidFill>
                  <a:srgbClr val="000000"/>
                </a:solidFill>
                <a:latin typeface="Times New Roman"/>
                <a:ea typeface="Arial Unicode MS"/>
              </a:rPr>
              <a:t>Fusarium</a:t>
            </a:r>
            <a:r>
              <a:rPr b="1" lang="es-ES_tradnl" sz="2800" spc="-1" strike="noStrike">
                <a:solidFill>
                  <a:srgbClr val="000000"/>
                </a:solidFill>
                <a:latin typeface="Times New Roman"/>
                <a:ea typeface="Arial Unicode MS"/>
              </a:rPr>
              <a:t>, buena degradadora de ácidos grasos, se expresa por ingeniería genética en la levadura </a:t>
            </a:r>
            <a:r>
              <a:rPr b="1" i="1" lang="es-ES_tradnl" sz="2800" spc="-1" strike="noStrike">
                <a:solidFill>
                  <a:srgbClr val="000000"/>
                </a:solidFill>
                <a:latin typeface="Times New Roman"/>
                <a:ea typeface="Arial Unicode MS"/>
              </a:rPr>
              <a:t>Saccharomyces cerevisiae</a:t>
            </a:r>
            <a:r>
              <a:rPr b="1" lang="es-ES_tradnl" sz="2800" spc="-1" strike="noStrike">
                <a:solidFill>
                  <a:srgbClr val="000000"/>
                </a:solidFill>
                <a:latin typeface="Times New Roman"/>
                <a:ea typeface="Arial Unicode MS"/>
              </a:rPr>
              <a: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ZIMAS RECOMBINANTES</a:t>
            </a:r>
            <a:endParaRPr b="0" lang="en-US" sz="32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ea typeface="Arial Unicode MS"/>
              </a:rPr>
              <a:t>Entre las proteasas, hay que destacar la subtilisina de </a:t>
            </a:r>
            <a:r>
              <a:rPr b="1" i="1" lang="es-ES_tradnl" sz="2800" spc="-1" strike="noStrike">
                <a:solidFill>
                  <a:srgbClr val="000000"/>
                </a:solidFill>
                <a:latin typeface="Times New Roman"/>
                <a:ea typeface="Arial Unicode MS"/>
              </a:rPr>
              <a:t>Bacillus licheniformis</a:t>
            </a:r>
            <a:r>
              <a:rPr b="1" lang="es-ES_tradnl" sz="2800" spc="-1" strike="noStrike">
                <a:solidFill>
                  <a:srgbClr val="000000"/>
                </a:solidFill>
                <a:latin typeface="Times New Roman"/>
                <a:ea typeface="Arial Unicode MS"/>
              </a:rPr>
              <a:t> y </a:t>
            </a:r>
            <a:r>
              <a:rPr b="1" i="1" lang="es-ES_tradnl" sz="2800" spc="-1" strike="noStrike">
                <a:solidFill>
                  <a:srgbClr val="000000"/>
                </a:solidFill>
                <a:latin typeface="Times New Roman"/>
                <a:ea typeface="Arial Unicode MS"/>
              </a:rPr>
              <a:t>B. amyloquefaciens</a:t>
            </a:r>
            <a:r>
              <a:rPr b="1" lang="es-ES_tradnl" sz="2800" spc="-1" strike="noStrike">
                <a:solidFill>
                  <a:srgbClr val="000000"/>
                </a:solidFill>
                <a:latin typeface="Times New Roman"/>
                <a:ea typeface="Arial Unicode MS"/>
              </a:rPr>
              <a:t>, que ayuda a eliminar manchas de sangre, comida, etc. Por ingeniería de proteínas ha sido posible mejorar las ya de por sí buenas cualidades de la subtilisina, creando variantes resistentes a la oxidación por peróxido de hidrógeno derivado de los perboratos, resistentes a pH alcalinos y termorresistent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ZIMAS EXTRACELULAR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dos los organismos producen enzimas de actividad muy variada y en general en cantidades bajas para sus procesos celular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 caso particular es el de los M.O. que pueden producir algunas enzimas en concentraciones muy altas y las excretan al medio.</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enzimas extracelulares son capaces de digerir muchos materiales poliméricos insolubles como celulosa, almidón, proteínas; cuyos monómeros son utilizados como nutrientes por los M.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USO DE ENZIMAS</a:t>
            </a:r>
            <a:endParaRPr b="0" lang="en-US" sz="3600" spc="-1" strike="noStrike">
              <a:solidFill>
                <a:srgbClr val="000000"/>
              </a:solidFill>
              <a:latin typeface="Times New Roman"/>
            </a:endParaRPr>
          </a:p>
        </p:txBody>
      </p:sp>
      <p:sp>
        <p:nvSpPr>
          <p:cNvPr id="48"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Una cantidad importante de las enzimas se utilizan en alimentos, p</a:t>
            </a:r>
            <a:r>
              <a:rPr b="0" lang="es-ES_tradnl" sz="2800" spc="-1" strike="noStrike">
                <a:solidFill>
                  <a:srgbClr val="000000"/>
                </a:solidFill>
                <a:latin typeface="Times New Roman"/>
                <a:ea typeface="Times New Roman"/>
              </a:rPr>
              <a:t>ara usar un microorganismo que produzca enzimas de consumo humano, se deben de cumplir una serie de requisitos legales, que se centran en que tal microorganismo debe figurar en la llamada lista “GRAS” (</a:t>
            </a:r>
            <a:r>
              <a:rPr b="0" i="1" lang="es-ES_tradnl" sz="2800" spc="-1" strike="noStrike">
                <a:solidFill>
                  <a:srgbClr val="000000"/>
                </a:solidFill>
                <a:latin typeface="Times New Roman"/>
                <a:ea typeface="Times New Roman"/>
              </a:rPr>
              <a:t>generally aknowledged as secure</a:t>
            </a:r>
            <a:r>
              <a:rPr b="0" lang="es-ES_tradnl" sz="2800" spc="-1" strike="noStrike">
                <a:solidFill>
                  <a:srgbClr val="000000"/>
                </a:solidFill>
                <a:latin typeface="Times New Roman"/>
                <a:ea typeface="Times New Roman"/>
              </a:rPr>
              <a:t>), es decir, que haya demostrado una larga historia de seguridad.</a:t>
            </a: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se utilizan enzimas para producir sustancias de uso médico e industrial, sin tener que usar M.O. completos, esto tiene como ventaja que evita problemas de contaminación y reduce pasos de separ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85800" y="685440"/>
            <a:ext cx="7772400" cy="6172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u="sng">
                <a:solidFill>
                  <a:srgbClr val="000000"/>
                </a:solidFill>
                <a:uFillTx/>
                <a:latin typeface="Times New Roman"/>
              </a:rPr>
              <a:t>Enzima</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Proceso industrial</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	</a:t>
            </a:r>
            <a:r>
              <a:rPr b="0" lang="es-ES" sz="2800" spc="-1" strike="noStrike" u="sng">
                <a:solidFill>
                  <a:srgbClr val="000000"/>
                </a:solidFill>
                <a:uFillTx/>
                <a:latin typeface="Times New Roman"/>
              </a:rPr>
              <a:t>Millones$/año</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Sacarasas e</a:t>
            </a:r>
            <a:r>
              <a:rPr b="0" lang="es-ES" sz="2800" spc="-1" strike="noStrike">
                <a:solidFill>
                  <a:srgbClr val="000000"/>
                </a:solidFill>
                <a:latin typeface="Times New Roman"/>
              </a:rPr>
              <a:t>	</a:t>
            </a:r>
            <a:r>
              <a:rPr b="0" lang="es-ES" sz="2800" spc="-1" strike="noStrike">
                <a:solidFill>
                  <a:srgbClr val="000000"/>
                </a:solidFill>
                <a:latin typeface="Times New Roman"/>
              </a:rPr>
              <a:t>Proc. almidón, endulzantes</a:t>
            </a:r>
            <a:r>
              <a:rPr b="0" lang="es-ES" sz="2800" spc="-1" strike="noStrike">
                <a:solidFill>
                  <a:srgbClr val="000000"/>
                </a:solidFill>
                <a:latin typeface="Times New Roman"/>
              </a:rPr>
              <a:t>	</a:t>
            </a:r>
            <a:r>
              <a:rPr b="0" lang="es-ES" sz="2800" spc="-1" strike="noStrike">
                <a:solidFill>
                  <a:srgbClr val="000000"/>
                </a:solidFill>
                <a:latin typeface="Times New Roman"/>
              </a:rPr>
              <a:t>15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Isomerasas</a:t>
            </a:r>
            <a:r>
              <a:rPr b="0" lang="es-ES" sz="2800" spc="-1" strike="noStrike">
                <a:solidFill>
                  <a:srgbClr val="000000"/>
                </a:solidFill>
                <a:latin typeface="Times New Roman"/>
              </a:rPr>
              <a:t>	</a:t>
            </a:r>
            <a:r>
              <a:rPr b="0" lang="es-ES" sz="2800" spc="-1" strike="noStrike">
                <a:solidFill>
                  <a:srgbClr val="000000"/>
                </a:solidFill>
                <a:latin typeface="Times New Roman"/>
              </a:rPr>
              <a:t>jarabes ricos en fructos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Prote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carn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40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quesos, pescado, tejido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Reninas</a:t>
            </a:r>
            <a:r>
              <a:rPr b="0" lang="es-ES" sz="2800" spc="-1" strike="noStrike">
                <a:solidFill>
                  <a:srgbClr val="000000"/>
                </a:solidFill>
                <a:latin typeface="Times New Roman"/>
              </a:rPr>
              <a:t>	</a:t>
            </a:r>
            <a:r>
              <a:rPr b="0" lang="es-ES" sz="2800" spc="-1" strike="noStrike">
                <a:solidFill>
                  <a:srgbClr val="000000"/>
                </a:solidFill>
                <a:latin typeface="Times New Roman"/>
              </a:rPr>
              <a:t>Coagulación de leche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6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ipasas</a:t>
            </a:r>
            <a:r>
              <a:rPr b="0" lang="es-ES" sz="2800" spc="-1" strike="noStrike">
                <a:solidFill>
                  <a:srgbClr val="000000"/>
                </a:solidFill>
                <a:latin typeface="Times New Roman"/>
              </a:rPr>
              <a:t>	</a:t>
            </a:r>
            <a:r>
              <a:rPr b="0" lang="es-ES" sz="2800" spc="-1" strike="noStrike">
                <a:solidFill>
                  <a:srgbClr val="000000"/>
                </a:solidFill>
                <a:latin typeface="Times New Roman"/>
              </a:rPr>
              <a:t>Detergentes, proc. pieles,</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20</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	</a:t>
            </a:r>
            <a:r>
              <a:rPr b="0" lang="es-ES" sz="2800" spc="-1" strike="noStrike">
                <a:solidFill>
                  <a:srgbClr val="000000"/>
                </a:solidFill>
                <a:latin typeface="Times New Roman"/>
              </a:rPr>
              <a:t>saborizantes, proc. carn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Celulasas</a:t>
            </a:r>
            <a:r>
              <a:rPr b="0" lang="es-ES" sz="2800" spc="-1" strike="noStrike">
                <a:solidFill>
                  <a:srgbClr val="000000"/>
                </a:solidFill>
                <a:latin typeface="Times New Roman"/>
              </a:rPr>
              <a:t>	</a:t>
            </a:r>
            <a:r>
              <a:rPr b="0" lang="es-ES" sz="2800" spc="-1" strike="noStrike">
                <a:solidFill>
                  <a:srgbClr val="000000"/>
                </a:solidFill>
                <a:latin typeface="Times New Roman"/>
              </a:rPr>
              <a:t>jugos de frutas, envejec. tejidos  20</a:t>
            </a:r>
            <a:r>
              <a:rPr b="0" lang="es-E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os procesos de producción de enzimas microbianas se realizan mediante cultivos aeróbic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n general las enzimas se producen en pequeñas cantidades durante la fase de crecimiento activo, pero se acumulan en grandes cantidades en la fase estacionaria del crecimient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inducibles se producen sólo cuando en el medio se encuentra el inductor (sustrato).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s enzimas microbianas que se producen en mayor cantidad son proteasas, utilizadas como aditivos en los detergentes para lavar rop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También los detergentes contienen amilasas, lipasas, reductasas y otras.</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Muchas de estas enzimas son producidas a partir  de bacterias alcalófilas, especialmente de </a:t>
            </a:r>
            <a:r>
              <a:rPr b="0" i="1" lang="es-ES" sz="2800" spc="-1" strike="noStrike">
                <a:solidFill>
                  <a:srgbClr val="000000"/>
                </a:solidFill>
                <a:latin typeface="Times New Roman"/>
              </a:rPr>
              <a:t>Bacillus licheniform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Estas enzimas tienen pH óptimo entre 9 y 10, así permanecen activas al pH alcalino de las soluciones de los detergente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DUCCIÓN DE ENZIMA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milasas, se producen mediante fermentación y se utilizan en la conversión de cereales en el producto final llamado jarabe de cereales rico en fructosa.</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Alfa amilasa provoca ataque inicial al polímero, acortando la cadena y reduciendo la viscosidad del polímero, cl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amilasa produce monómeros de glucosa, sacarificante.</a:t>
            </a:r>
            <a:endParaRPr b="0" lang="en-US" sz="2800" spc="-1" strike="noStrike">
              <a:solidFill>
                <a:srgbClr val="000000"/>
              </a:solidFill>
              <a:latin typeface="Times New Roman"/>
            </a:endParaRPr>
          </a:p>
          <a:p>
            <a:pPr marL="339480" indent="-33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Glucosa isomerasa realiza la conversión final de glucosa en fructosa, isomerizació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7T18:46:06Z</dcterms:created>
  <dc:creator>Blanca Escobar</dc:creator>
  <dc:description/>
  <dc:language>en-US</dc:language>
  <cp:lastModifiedBy>Blanca Escobar</cp:lastModifiedBy>
  <dcterms:modified xsi:type="dcterms:W3CDTF">2004-11-03T20:34:13Z</dcterms:modified>
  <cp:revision>26</cp:revision>
  <dc:subject/>
  <dc:title> PRODUCCIÓN DE ENZIMAS </dc:title>
</cp:coreProperties>
</file>