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D3D43-C931-45D2-8021-2BF9CBD5B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DC36C-6808-41B2-96F1-3F3468CC1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A6B7C-D1B2-4853-8076-7CED7B59D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8139F-1256-4845-A95F-DC3BE93C9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62B1B-0CE9-4569-9E26-A0DE88C31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65066-FE19-4401-B4AA-C07318894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86912-6BE9-42FC-8CE9-4975EB238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FC8E8-7363-48CF-827D-576E4E3F4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79CFF-D3AC-4383-9D18-C7ACE93AD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D1DFB-8820-4C99-92D4-3B2F29A08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A8ABA-14FA-4DBD-BE81-9CE797608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407F-4877-40E9-8B76-2372E9AAE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B386-ECD2-4CB8-B1D7-15BABA63C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7-10-22T15:43:32Z</dcterms:modified>
  <cp:revision>26</cp:revision>
  <dc:subject/>
  <dc:title>FERMENTACIÓN DE VEGETALES</dc:title>
</cp:coreProperties>
</file>