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A34D6-5695-4BBC-A270-786092E1C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723BA-F90C-4702-9E12-4FC117E4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3B606-A0AC-4BAE-A692-51844F01D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CDEB4-11F7-4587-A288-280A81C69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31057-AEC4-467F-BDD0-C6B39B5C2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6200F-4DBE-4EA1-B77F-907B7B080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64351-AFBC-4A86-9A37-58E11D2B0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D3325-8E89-47A1-97C0-42C6154A5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B914A-031B-44E0-AE80-15B1E60A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A20D9-09F5-477E-AAA8-7320F5B9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9F286-0F36-45F5-82FE-DD8D5A77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B84EA-4E3C-4603-951C-4FC187C00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66E8-0E1B-4162-8189-05E47EDF8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7-10-22T15:43:32Z</dcterms:modified>
  <cp:revision>26</cp:revision>
  <dc:subject/>
  <dc:title>FERMENTACIÓN DE VEGETALES</dc:title>
</cp:coreProperties>
</file>