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937-906A-4C4E-8CD0-78B1F905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181-BBF3-4EB9-A94F-3186F736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390F-E94E-4C95-BEED-D5FBB2F1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D39-49D0-4955-A85A-525D6EF0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DF65-A800-4500-8A2C-52A54290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71B-6792-4C8D-A84E-AD883E85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4BA-72DA-4C24-A3C8-FA258CD6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0A1-1705-47AF-BBE2-3990E219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FF7-9262-4F98-A2B1-5EF4BF38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8238-B050-4D78-97E3-2E845390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7D1-BE79-436B-95B5-533E3854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D1F-4BC1-4BEE-89F4-2C74CC0D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3C1D-4A6E-4D4E-8BE6-BCD3DDA34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BIDAS ALCOHOLICA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CIÓN DE VI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QUE PUEDEN PARTICIPAR EN LA FERMENTACIÓN DE LA 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n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, Penicillium, Rhizopus, Muc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aso especial es 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rytis cinere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que puede producir vinos dul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factor que contribuye a la pérdida de la flora nativa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emperatura &gt; 25º inhibe a muchos M.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ccharomyc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ce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8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QUE PUEDEN PARTICIPAR EN LA FERMENTACIÓN DE LA 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lgunos procesos se agrega extracto de levad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a se controla en algunas partes a 7 – 15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as cepas de levaduras producen proteínas del tipo toxinas de 11 a 18 k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agrega a la fruta para evitar pardeamiento enzimático, produce inhibición de M.O. n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aduras también producen S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Bacteriófagos? sobre bacterias del ácido lác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U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ón procede en pocos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 blanc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va blanca (sin pi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 tin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va rosada o negra (con pi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vez fermentado el jugo debe ser clarificado, estabilizado y añejado.  (meses y añ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o sufre una segunda fermentación, la fermentación malo – lác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U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s espumosos  como champaña: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grega mas azúcar, se produce una segund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ón que produce mas C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que carbonata el 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final del proceso de vinificación se agrega S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se filtra para evitar contaminación pos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FERMENT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contaminación del vino puede causar una variedad de problemas de pudrición o dañ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urbidez o la carbonatación del vino embotellado se considera indese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azucares residuales pueden provocar el desarrollo de levaduras causando nuevamente problemas de pudrición o dañ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CERV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ervezas se hacen a partir de la fermentación del almidón presente en la ceb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lmidón no es un azúcar ferm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ducción de cerveza comienza con un malteado, proceso que consiste en hacer germinar artificialmente la cebada, humedeciendo los granos y luego calentándolos (tos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nte este proceso los granos que germinan  producen enzimas que digieren el almidón a azúcares fermentables como glucosa y malto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CERV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durante el malteado se producen proteasas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oculan con las respectivas cep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ermentación demora entre 5 a 10 dí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aldo de fermentación se agrega lúpulo, es antibacteriano, da sabor, aro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úpulo es una planta herbácea trepadora, cuyas flores se utilizan en elaboración de la cervez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CERV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omienzo de la fermentación se realiza un proceso aeróbico, para generar biomasa de levaduras, luego se deja de agregar oxígeno y se transforma en un proceso anaerób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final del proceso se filtra y se pasteuri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azúcares quedan sin fermentar, por lo que algunas cervezas tienen un cierto contenido en azucares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vezas light se obtienen por fermentación de la cebada con otros M.O. además de levad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RAS BEBIDAS OBTENIDAS POR FERMENTACIÓ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ke es una bebida tipo cerveza, originaria de Japón que se bebe fría o temp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ke: bebida  tipo cerveza que se prepara con arroz fermentado con levad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poder fermentar el almidón proveniente del arroz, debe ser transformado previamente, mediante la acción de las amilas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 oryza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que libera azúcares reductore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ones no alcanzan concentraciones de alcohol superiores a 14-18% para aumentarlo deben destilarse las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RAS BEBIDAS OBTENIDAS POR FER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dai: vino o cerveza que se obtiene por fermentación del maí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aíz no contiene azúcares fermentables por lo que debe ser tratado con amilasas las que a su vez generarán gluc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agregar amilasas se mastican los granos de maíz y así pasan las enzimas de la saliva al grano, luego se coloca en grandes tanques donde se produce una fermentación espontáne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hile se prepara en la zona de la Araucanía (8ª a 9ª Region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México se hace también una bebida simila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BIDAS ALCOHOLIC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yoría se obtiene por actividad metabólica de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vinos se preparan por acción directa de las levaduras sobre azucares en jugos de u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VINA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agre: vino agrio o ácido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Su origen hay que buscarlo en Oriente hace 5.000 años, aunque fueron los romanos quienes expandieron su consumo por Europa y lo bautizaron como vinum acre (vino agri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 por oxidación incompleta del alcohol presente en el vi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ocula el vino con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obacter aceticum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en condiciones aeróbicas transforma el alcohol en ácido acét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VINA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ácido acético es un compuesto que, además de transformar el sabor, es el responsable de las propiedades antisépticas y conservantes del vinagre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producto se obtiene por una doble fermentación, primero se produce el alcohol y luego el áci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 pesar de su etimología, no todos los vinagres proceden de una segunda fermentación del v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VINA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amargo líquido admite diferentes paternidades (manzanas, frambuesas, caña de azúcar, maíz, malta, arroz) y las diferencias radican en la concentración de ácido acético que present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vinagre blanco, el más usado en la producción de encurtidos y salsas envasadas, contiene altas dosis, lo que le confiere un sabor más fuerte y pronunciado y mayores propiedades preserv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e color casi transparente, procede de la caña de azúcar, el maíz o la melaza, y es el preferido en el continente americ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NAGRE DE MANZ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obtiene por fermentación de la sidra de manzana. Tiene un menor contenido en ácido acético que el vinagre de v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Las primeras noticias que se tienen sobre el vinagre de manzana provienen de Oriente y datan del año 5.000 antes de Cris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ste líquido aderezante de paladar áspero es el resultado de una doble fermentación alcohólica que convierte al contenido etílico en ácido acéti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NAGRE BALSÁ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auténtico balsámico, con denominación de origen controlada, lleva el nombre tradizionale y se elabora en forma artesanal por una agrupación de selectos vinai (productores del vinagre) de la región de Modena o Reggio, Emilia en Ital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Se elabora a partir del jugo de uvas de la cepa Trebbiano, (no deriva del vino como los vinagres corrientes).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NAGRE BALSÁ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jugo de uvas se hierve por varias horas y el concentrado líquido que resulta de esta cocción comienza el proceso de ferment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vinagre balsámico tradizionale debe envejecer por un período no inferior a 12 años. Durante este tiempo el vinagre es mezclado con vinagres mas jóvenes y trasvasijado a barricas de diferentes tipos de madera.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resultado final es un líquido denso, oscuro y brillante, de textura aterciopelada con un complejo sabor que es dulce y ácido a la vez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ELL PROTEI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ULAS DE UNICELULARES COMO ALI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ELL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microorganismos crecidos en un medio nutritivo, en forma rápida como todos los M.O. que se pueden usar como alimentos para el hombre o para anim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contienen aproximadamente 50% de su peso seco como proteínas, en algunos casos pueden llegar a 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tienen tiempos de generación cort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de bacterias menor a 1 h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para levaduras 1-3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para algas 2-6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ELL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de los hongos es más largo ya que son de crecimiento mas lentos 4-12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animal vacuno de 500 k bien alimentado en 24 hrs. produce 0.5 k prote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k de levaduras producen en 24 hrs. 50 kilos de prote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 los M.O. se usarían como fuente alternativa de prote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ratos utilizados inicialmente: petróleo, pulpa de frutas, suero de leche, licor sulfitico (de la industria del papel), melazas del procesamiento de la remolacha o de azúcar de cañ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que se han utilizado s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as, algunas especie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uli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aduras: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, Rhodotorula, Cand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n problemas de digestibilidad por el alto contenido de ácidos nucle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buena solución es utilizarla para alimentar animales (tiene más proteinas y vitaminas que el pas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ino es el producto de la fermentación microbiana del jugo de u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jugos contienen los azucares fermentables:  glucosa y fruc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organismo mas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no ser un proceso estéril se encuentran muchos otros M.O. los que pueden contribuir positiva o negativam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organolépticas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ilidad del v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producir una segunda fermentación, que puede ser simultánea con la alcohólica o secund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 de la fermentación malolác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conostoc, Lactobacillus y Pediococ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 DE LA FERMENTACIÓN MALOLÁCT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 que transforman el ácido málico en ácido láct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–C-H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H   +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C-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nuye la acid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ayuda ya que aumenta el flavor y aroma del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s que han tenido esta fermentación son mas est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jugo de la fruta es un ambiente hostil para muchos M.O. por su bajo pH: 3-3.5 y por el alto contenido de azucares 20- 23%  p/v (igual cantidad de fructosa que de gluco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ón comienza aeróbica pero llega a ser anaeróbica por alta concentración de C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les de etanol llegan a ser inhibitorios para much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 – 14% v/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lto contenido de alcohol del vino impide su contaminación y degrad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niveles de nitrógeno son suficientes para soportar crecimiento de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cterias o M.O./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tad de la fermentación alcohólica se produce durante la fase estacionaria del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ducción de vino a nivel industrial comienza con la trituración de la fruta con su piel formando una pulpa con 20% azucares ferm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esta fruta se encuentra una gran variedad de M.O. pero las condiciones se van desarrollando de modo de que solo algunos M.O. (levaduras y bacterias) se desarrol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lmente se puede inoc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QUE PUEDEN PARTICIPAR EN LA FERMENTACIÓN DE LA 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s especies de levadur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Kloeckera apicu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Candida pulcher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Torulop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Rhodotor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: especies de Pseudomonas, Bacillus, Lactobacteriu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09:29:12Z</dcterms:created>
  <dc:creator>Blanca Escobar</dc:creator>
  <dc:description/>
  <dc:language>en-US</dc:language>
  <cp:lastModifiedBy>Blanca Escobar</cp:lastModifiedBy>
  <dcterms:modified xsi:type="dcterms:W3CDTF">2004-10-26T15:50:33Z</dcterms:modified>
  <cp:revision>19</cp:revision>
  <dc:subject/>
  <dc:title>BEBIDAS ALCOHOLICAS  </dc:title>
</cp:coreProperties>
</file>