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6FB-E073-4DC8-A2B0-487BB999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AA6-6D16-4016-A502-7CF32533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178-8444-4337-936D-CF94C6B8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974-3BFC-4920-A889-1B7EA9DA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B1B-25FC-478C-8A54-A43B127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54D-2F31-47D6-B2B2-0763413C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CC5-4E41-44E7-BCD0-96E4BEF5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0A3-F48A-46DD-B08C-9FBDE7B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FE8-C681-4E0F-92FB-4296DA35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2F5-4CAE-4DC1-A916-DABE261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1B9-5641-4D95-BC57-8ED1EBF7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CD4-276E-4B3F-9C6D-C2DAA76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2EEA-C930-4BB7-ACEC-BDC26806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 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7-10-04T22:20:31Z</dcterms:modified>
  <cp:revision>27</cp:revision>
  <dc:subject/>
  <dc:title>BIOTECNOLOGIA MICROBIANA</dc:title>
</cp:coreProperties>
</file>