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8CF-3418-403C-80DA-043D2468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BBD-34EB-496F-91F7-F1B66E8D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FE5-9F62-4AE1-93DE-4DD4FBF5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7E6-0997-40CB-8B4C-7DF45A03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F85-AAFE-4F34-88B5-534B512D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9B1-01AA-4D57-B858-559568D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CF7-F5F7-42CC-8170-375A8305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C7B-7677-45D7-92DB-EEB14065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E03-DFBF-4D3C-8D50-C6762507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3BD-09EF-4691-B95E-16472EF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D4B-06B8-47B5-AA34-997E415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31B-2215-406F-9922-BBF1D6B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966B-A0A9-4C9D-97A5-8E9515B78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 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7-10-04T22:20:31Z</dcterms:modified>
  <cp:revision>27</cp:revision>
  <dc:subject/>
  <dc:title>BIOTECNOLOGIA MICROBIANA</dc:title>
</cp:coreProperties>
</file>