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77BD4-CF45-43FC-9F82-C91985D60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7BDB2-3DB5-48ED-BFE8-94DC7487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1F6B8-7973-4C1B-A87C-66CB363B8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49FFA-96FB-4095-8C7B-1B313740E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2A78-D02D-4341-9DE9-61A67C881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CB21C-ECD1-4B06-8495-2CDFF4CCF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036C4-DBA4-446C-9666-FA240A18F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2DB2E-8F69-4D70-84AE-2AC426E6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18B10-C9FE-4192-8373-B8EFDBB2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62CD-1B2B-4D37-AF8D-D234DE987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0362-C576-424B-B876-4C68665F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BEB9-4A2A-45DD-9E8E-16AA6AD84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591B-5458-4927-A10F-6236E8F74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6-10-02T15:08:36Z</dcterms:modified>
  <cp:revision>31</cp:revision>
  <dc:subject/>
  <dc:title>METANOGENESIS </dc:title>
</cp:coreProperties>
</file>