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09070-2CF0-4104-A8F9-670BE3AD5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3A40-B7A3-4953-BD5D-3668AE22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D2132-BF56-4431-9B32-D13D90081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00335-4239-4F91-AD01-041715D88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4FD6-8D53-44FF-A480-956CB4F82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6C67-CB48-41C2-86F4-AAC0F3A4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303B-2991-49C6-98CB-3B76F25F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82CB-63E8-4F64-8EAA-4269B719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F5EC-6906-417B-88BC-A5D63D43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41F5-97A3-4016-A15E-AF761BCE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09DF-5517-4893-A5FD-917E0805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4CCE5-63BD-42B9-B898-FD41C1E12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E269-067C-4E8B-9509-42DC2904A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6-10-02T15:08:36Z</dcterms:modified>
  <cp:revision>31</cp:revision>
  <dc:subject/>
  <dc:title>METANOGENESIS </dc:title>
</cp:coreProperties>
</file>