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E2E-3C30-4E54-B904-FAF06039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841-2F74-470D-BE28-BD7087E3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457-F215-46E3-AA24-B02D7DE9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4E4-438C-4186-8128-9507CF4F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577-D58F-4221-8200-25958E2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9CF-C35D-4EDB-9355-5B7D9A9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F48-C901-4B66-806D-3A22632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E44-38F3-4227-A370-242AE0A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F91-2A8F-4B59-9094-056A0C4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67A-5902-4CE5-BE7D-B8329C5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EEF-7A5E-4F24-92D5-D59F8D1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650-46F3-4A56-9124-E6A75D8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61FA-75C7-454F-B7D6-0FBE6393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(2008) se están tratando cerca del 75% de las aguas servidas mediante tratamientos bi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Santiago dos grandes Plantas de Tratamiento mediante Lodos Activ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e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arf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á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Thiotrix sp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rano en 5 dí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Reynaldo Charrier</cp:lastModifiedBy>
  <dcterms:modified xsi:type="dcterms:W3CDTF">2008-09-26T18:50:56Z</dcterms:modified>
  <cp:revision>41</cp:revision>
  <dc:subject/>
  <dc:title> TRATAMIENTO DE AGUAS SERVIDAS</dc:title>
</cp:coreProperties>
</file>