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C355-7B56-4403-8E81-BE314FBA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BD1-D48E-41B2-897F-A09A4897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AC1-9D7E-42D0-839C-E0650EAE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12FB-5A8A-46F7-9E84-45B8B2E4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E68-4A97-4841-99CE-B0C24CB7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ED6-CA4A-4417-9E07-02AA65D3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443F-3AEA-4DCF-9C5C-F8339E77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179-4020-40BB-AF7A-D4CA179E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8F39-8E0B-495B-9611-7E2F45D9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35D-2FD8-48FF-BFEA-8F5149BA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8AE-5616-4258-BF68-FAFD7AFB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899B-64DE-4523-B8C2-22298553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53B2-E248-4045-B4C9-FB408DBF4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53388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timas de cólera y otras enferm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imiento rol de M.O. en enferm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menzó construcción de plantas de tratamiento (siglo x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 15.000 pla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% pequeña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7 billones ga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tiene tratamiento microbioló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hile (2008) se están tratando cerca del 75% de las aguas servidas mediante tratamientos biológ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300 ml  +  Buffer  pH  7.2  +  Nut. inorgánicos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y saturados con oxi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agregar un cultivo de bacterias heterotróf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seudomonas, Nocardia, Bacillus,   Streptom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agregar inhibidor de bacterias nitrificantes ya que consumen 10mg/l de oxí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2 cloro 6 triclorometil piridi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incuba por 5 dias y se mide el oxigeno por análisis químico o mediante un aparato manométr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hace también sobre diluciones de la mues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=D</a:t>
            </a:r>
            <a:r>
              <a:rPr b="1" lang="es-ES" sz="28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1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-D</a:t>
            </a:r>
            <a:r>
              <a:rPr b="1" lang="es-ES" sz="28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/P(0.3l)= mg O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debiera hacerse siempre con M.O. adap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UMO DE OXIGENO POR HETERÓTROFOS Y AUTÓTROF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3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Tipo de agua DBO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table               0.75 a 1.5 mg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co contaminada 5 a 50    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table negra municipal 100 a 400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Residuos industriales  5 00 a 10 000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EMANDA QUÍMICA DE OXI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antidad de oxigeno necesaria para oxidar todo el carbono presente a CO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, H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y NH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n-US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mide quím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1 g de Hidrato de Carbono o Proteína </a:t>
            </a:r>
            <a:r>
              <a:rPr b="1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1 g C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i COD &gt;&gt; BOD significa que el agua contiene muchos compuestos no biodegrad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ARBONO ORGÁNICO TOT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 orgánico total, se determina por oxidación con calor  +  O</a:t>
            </a:r>
            <a:r>
              <a:rPr b="0" lang="en-U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C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 analiza por infrarro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n resumen se requiere varios métodos para determinar la calidad de las aguas serv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SICIÓN DE HECES HUMANAS Y OR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onente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eces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ntidad/p/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-40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-1.3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umeda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70-80%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93-9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-7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-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 (Fosfato)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0-5.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5-5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-2.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0-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4-5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1-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5-6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/d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-2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ARACTERÍSTICAS TÍPICAS DE AGUAS SERVIDAS DOMÉSTICAS (mg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áme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di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BO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 orgánic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N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 tot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 tot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ólidos tot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7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ólidos susp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POS DE ORGANISMOS DE SIGNIFICADO EN SALUD PUBLICA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Bacterias: Salmonella, Shigella, Vibrio colera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rus :  Hep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 : Giardia, Ame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elmintos: Ascaria, T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DOSIS INFECCIOSAS MÍNIMAS PARA ALGUNOS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PATÓGENOS Y PARÁSIT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rganismo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.I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almonella spp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4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higella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scherichia coli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6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brio cholerae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Giardia lamblia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c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ntamoeba coli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epatitis a viru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  -  10  pf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rulencia: Potencial para causar enferme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) Desechos domés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) Desechos industriales (D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.I: Desechos no tóxicos (Industria de alimento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.I. Desechos tóxic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j.: Procesamiento de carbón, fenoles, amonio, cian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troquímica, Ind. Farmacéu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les tóxicos: Cd, Zn, Cu, 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GUA ES ACEPTABLE PARA BEBER S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iene menos de 10 bacterias intestinales en cada litro de agua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presenta mal sabor, olor, color o turbieda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contiene impurezas químicas en concentraciones que puedan ser peligrosas para la salud del consumido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son corrosivas con respecto al sistema de conducción del agua,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proviene de sistemas acuíferos sujetos a contaminación por aguas negras u otros contaminantes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fecto más perjudicial del agua contaminada ha sido la transmisión de enfermedades por microorganismos que pueden habitar en ella. Por ejemplo: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fiebre tifoidea causada por la bacteria Salmonella typhi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l cólera  causada por la bacteria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io cholerae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disentería provocada por parásitos como las amebas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moeba histolític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la bacteria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gell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gastroenteritis causada por virus, bacterias y protozoarios,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hepatitis infecciosa causada por el virus de la hepatitis y la poliomielitis causada por el virus de la poliomieli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io cholera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vibriocole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4172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moeba hist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moeba" descr=""/>
          <p:cNvPicPr/>
          <p:nvPr/>
        </p:nvPicPr>
        <p:blipFill>
          <a:blip r:embed="rId1"/>
          <a:stretch/>
        </p:blipFill>
        <p:spPr>
          <a:xfrm>
            <a:off x="1816200" y="1981080"/>
            <a:ext cx="5510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POS DE TRATAMIENTO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A AGUAS SERVI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ratamientos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físicos o primarios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: separación, sedimentación, filtración, flo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ratamientos biológicos o secundarios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: degradan la materia orgánica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ratamientos químicos o terciarios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: desinfección, adsorción, precipitació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 Contaminación del agua por microorganismos patógenos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  <a:ea typeface="Arial Unicode MS"/>
              </a:rPr>
              <a:t>    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    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TRATAMIENTOS BIOLÓGIC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. Secundar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gunas de est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ocesos de lodos act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o de filtros por goteo (lombrifilt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. terciacios:  se utilizan para eliminar nutrientes, DBO, patógenos, parásitos y sustancias  tóx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 Santiago dos grandes Plantas de Tratamiento mediante Lodos Activ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Tre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Farf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s un tratamiento aeróbico mediante el cuál se oxida la materia orgánica a C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,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, H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  y NH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4</a:t>
            </a:r>
            <a:r>
              <a:rPr b="0" lang="es-ES" sz="32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introduce el aire mediante aireación  mecá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s células forman flóculos que sedimentan en un tanque clarificador, una parte de estas se desechan, las otras regresan al tanque de aire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Arial Unicode MS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ntamin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 biodegrad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volát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recalcitr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trientes (N y 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ólidos suspend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tógenos microbi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á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IREACIÓN EN UNA PLANT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62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dad del lodo: tiempo de residencia media de los M.O. en el sistema puede ser dias (5-1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 = 1/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epende de la época del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odificaciones a este sistema permiten una mayor oxidación de la materia org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s mayores objetivo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1)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O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xidación de la materia orgánica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2)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F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culación (separación de la bioma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dos contienen tanto bacterias como materia orgánica e inorgá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tículas &lt; 1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-- 1.000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élulas viables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5 –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se piensa también 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1 – 3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nstituyen la mayor parte de los flóculos,  aproximadamente unas 300 cepas difer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ducen polisacáridos y materiales polimér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Géneros mas abund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Zooglea, Pseudomonas, Flavobacterias, Alcaligenes, Achromobacter, Corynebacterias, Thiotrix sp,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netobacter, etc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uchos M.O. filamento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l nivel de aeróbicos decrece en la medida que el flóculo crece por problemas de difusión de oxi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egión interna del flóculo llega a ser anaerób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Aeróbicos totales 10</a:t>
            </a:r>
            <a:r>
              <a:rPr b="1" lang="es-ES" sz="2800" spc="-1" strike="noStrike" baseline="30000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 UFC / mg de l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Zooglea ramigera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produce exopolímeros, se encuentra en aguas servidas y en otros ambientes, 0.1-1% del total de M.O. en  estos proces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Zooglea ramig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416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Bacterias Nitrific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obac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H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oso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ambién se encuentran varias especies que oxidan compuestos reducidos de azuf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Í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o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casionalmente en los lodos crecen a pH bajos, baja toxicidad y desechos deficientes en nitróg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edadores en los lodos:  ciliados, flagelados, ameb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NUTRIENT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ógeno : por métodos químicos o por métodos bi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Nitrificacion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Desnitrificacion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N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Procesos aeróbico y anaerób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Usan varios tan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Fósforo: por métodos químicos o por métodos bi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étodos químicos, precipitación con Fe o Al</a:t>
            </a:r>
            <a:r>
              <a:rPr b="1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</a:t>
            </a:r>
            <a:r>
              <a:rPr b="1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PATÓGEN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ireación y sedimentación afectan a M.O. patógenos y parási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Factores ambientales: luz, pH, M.O. antagón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Formación de flóc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Parásitos se aglomeran en el flóc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80 – 99% de los M.O. indicadores son removidos.  Bacterias son fagocitadas por protozoos y adsorbidas en el flóculo.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TRIBUCIÓN DEL C ORGÁNICO EN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848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PATÓGE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Virus  &gt; 90% se asocia a sólidos, pueden también ser inactivados por bacterias y por ingestión por protozoos y nemáto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 son inactivados, pero floculan y sedimentan pasando a los lodos (concentra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BLEMAS QUE PRESENTAN ESTAS PLAN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elacionados con la separación de sólidos acti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recimiento disperso: los M.O. no forman flóculos, el efluente se ve turb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sa viscosa: mucho material extracelular,             se reduce velocidad de decantación y compac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a la formación de un flóculo normal debe haber un balance entre bacterias floculantes y bacterias  filamentosas para mantener la integridad del flóc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LAGUNAS DE ESTABILIZACIÓN O LAGUNAS DE TRATAMIENT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utilizan en grandes extensiones de terreno,  de bajo precio y son el sistema mas antiguo y económico para tratar las aguas serv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facul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muy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n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de ma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07880" y="293760"/>
            <a:ext cx="832644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urier New"/>
                <a:ea typeface="Arial Unicode MS"/>
              </a:rPr>
              <a:t>LAGUNAS FACULTATIV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Tienen una profundidad de 1-2.5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Pueden ser aeróbicas y anaerób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El agua permanece entre 5-30 dí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n económicas y fáciles de operar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FOTIC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lgas verdes y algas verde az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ductividad de 10-66 g de algas /m</a:t>
            </a:r>
            <a:r>
              <a:rPr b="0" lang="es-ES" sz="32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/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lamydo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ug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cenedes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scill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u prevalencia depende de la luz, T, nutrientes y 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FÓ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ezclado es importante para la manutención de las condiciones aerób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gas consumen N y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 aumenta  con la fotosíntesis lo que ayuda a precipitación de fosf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</a:t>
            </a:r>
            <a:r>
              <a:rPr b="1" lang="en-GB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n-GB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=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HCO</a:t>
            </a:r>
            <a:r>
              <a:rPr b="1" lang="en-GB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n-GB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CO</a:t>
            </a:r>
            <a:r>
              <a:rPr b="1" lang="en-GB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 9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7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.O. que oxidan H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 impor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úmero de algas y bacterias fotosintéticas disminuye con el aumento de la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HETEROTRÓF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 mas importante en la degradación de la materia orgá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Hongos y protozoos parecen menos 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teria Orgánica + O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CO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tros nutrientes que serían usados por al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élulas de bacterias muertas y de algas se van al fondo, sufriendo degradac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HETEROTRÓF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o el Carbono presente en la materia orgánica se transforma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 oxidación completa aerób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r respirac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masa que sedim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DEL ZOOPLANCT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nutre entre otros de bacterias y algas, controlando sus pobl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umentando o disminuyendo turbidez de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BJETIVOS DE LOS PROCESOS DE TRA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ucir el contenido orgánico (DB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5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moción de nutr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o inactivación de M.O. y    parásitos pató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odo el carbono orgánico particulado (60%) se puede separar por sedim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 DE LA TEMPERATURA SOBRE LA OPERACIÓN DE LAS LAGUNA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fecta en la fotosíntesis y a los heterótrofos aeróbicos y anaerób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debajo de 15ºC no se produce la reducción del Carbono y generación  de CH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n frío no hay fotosíntesis y no se produce oxigeno, por lo tanto no se produce degradación 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CIÓN DE SÓLIDOS SUSPENDI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N(40-80%) 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bacterias nitrificantes y desnitrific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volatiliza NH</a:t>
            </a:r>
            <a:r>
              <a:rPr b="0" lang="en-U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  +  Al  o  Fe 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fosfatos insolubles  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(l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gunas 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fundidad : 0.3 – 0.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iempo de residencia 3-5 d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s aguas son mezcladas para permitir penetración de la lu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gunas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6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 10 dí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utiliza para desechos domés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on aireadas con difu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disminuir en 85% la DB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en 5 d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naeróbic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2.5 -  9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: 20 – 50 d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a desechos orgánicos de alta DBO, conteniendo proteínas y grasas, sól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teria  orgánica 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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C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+ CO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+ 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 + N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 requieren aireación y generan pocos lodos, se detiene a 10ºC. De uso indust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gunas terciarias o de madur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-2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: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20 d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u rol es disminuir DBO, los sólidos  suspendidos y nutrientes, e inactivar patóge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CIÓN DE PATÓGEN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rían responsables la temperatura, el pH, luz solar, acción lítica de bacteriófagos, predación, adherencia a sólidos decant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uerte de E. coli aumenta con la T, tiempo de retención, pH decrece con un aumento de la DB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y con la profundidad de la lagu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ireación, compuestos extracelulares de alga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OSIBLES EXPLICACIONES PARA LA REMOCIÓ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rgo tiempo de retención usado en estas lagu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to pH generado por la fotosíntesis y su relación con aguas tampon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edación por zooplan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fecto inactivante de la luz solar.  UV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280-320 mm) destruye las bacterias coliformes.  I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portante en la superfi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tas concentraciones de oxí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CIÓN DE VIRUS O INACTIV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y radiación solar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verano en 5 días el número disminuye 2 logaritmos, en invierno requiere 25 d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us se pueden absorber en sólidos y sedimentar, manteniéndose por mucho tiem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itación del sedimento ayuda a resuspender virus y bacterias patóg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ZO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u remoción varia de 67 – 100% en lagunas  air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esto los lodos contienen M.O. patógenos, protozoos y huevos de parási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s lodos deben ser tra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n digestores anaerób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atados quím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rededor de 1/5 del lodo es mantenido como inóculo para un nuevo pro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BJETIVOS DE LOS PROCESOS DE TRA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odo el carbono orgánico particulado (60%) se puede separar por sedi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es test se utilizan para determinación de carbono orgánico en aguas servid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,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,   C O T  ,  y   DQO o C O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azas de orgánicos se determinan por cromatografía y espectrografía de masa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TINO DE LOS LO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dos provenientes de los tratamientos primario y secundario son tratados por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digestión anaeróbica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la que descompone la materia orgánica 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metan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l lodo no digerido (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estabilizad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) presenta problemas de dis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j. en EEUU a partir de 20.000 plantas de tratamiento de aguas servidas se generan 5-10 millones de ton. secas / año, est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quemados o enterrados, algo se seca y se aplica como fertilizante. (quedan algunos virus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DEL PROC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M.O. patógenos disminuyen muy fuertemente al final del tratamiento secundario, son superados por los otros M.O. por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selección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os efluentes secundarios son usados por algunas comunidades para irrigar cosechas, ya que contienen grandes cantidades de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fósforo y N,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que se usan como fertilizantes y los M.O. ambientales digieren el resto de las soluciones orgán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ratamiento terciario elimina completamente la DBO y son procesos físicos y químicos que producen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agua limpia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AMIENTO DE AGUAS POR EL SISTEMA TOH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stema consta de 2 et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 la primer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l agua residual escurre por gravedad a través de un biofiltro constituído por 4 capas de diversos materiales y que contiene micro y macroorganismos. Aquí se absorbe y procesa la materia orgá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 la segund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apa del tratamiento, el efluente es derivado a una cámara de irradiación ultravioleta en donde se logra la eliminación de las bacterias patógenas en menos de 1 minu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 CON BIOFILTR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705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TOH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PECIAL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tratamiento global del agua servida, no habiendo tratamientos primarios, secundarios ni terciar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formación de lodos, ya que la materia orgánica es consum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ratamiento se hace en un soporte sólido, implica menos espa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biofiltro no se satura, debido a la acción de micro y macroorganis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TOH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PECIAL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cológico porque no usa aditivos químicos no se producen residuos contaminantes, hay muy poco consumo de energía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ficiente porque se alcanza un alto grado de purificación con una remoción de hasta 96% de DBO y sólidos suspend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necesita poco espacio:  el agua servida de 5 personas requiere solo 2m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biofiltro para su trat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conómico porque los costos de construcción y mantenimiento son menores que en los sistemas tradicionales y el agua puede ser re-utilizada inmediatamente para regadí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OLUCIÓN DE LA CARGA MICROBIANA POR TRATAMIENTO CON LUZ ULTRAVIO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3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s la cantidad de oxigeno disuelto consumido por M.O. para oxidación bioquímica de orgán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 </a:t>
            </a: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DBO</a:t>
            </a:r>
            <a:r>
              <a:rPr b="1" lang="es-ES" sz="2800" spc="-1" strike="noStrike" u="sng" baseline="-30000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5</a:t>
            </a: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 carbó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antidad de oxigeno utilizada por una población heterotrófica de M.O. que oxidan compuestos orgánicos en la oscuridad a 20ºC por 5 dí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  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heterótrof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mp. Org. + 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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C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+ NH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MOCIÓN DE CARBONO ORGÁ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4" marL="1830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Biom. bacterias + O</a:t>
            </a:r>
            <a:r>
              <a:rPr b="0" lang="es-ES" sz="3200" spc="-1" strike="noStrike" baseline="-25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 B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iom.Protoz.+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onversió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0.78mg protoz/1mg 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MOCIÓN DEL CARBONO ORGÁ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82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05:21:58Z</dcterms:created>
  <dc:creator>Blanca Escobar</dc:creator>
  <dc:description/>
  <dc:language>en-US</dc:language>
  <cp:lastModifiedBy>Reynaldo Charrier</cp:lastModifiedBy>
  <dcterms:modified xsi:type="dcterms:W3CDTF">2008-09-26T18:50:56Z</dcterms:modified>
  <cp:revision>41</cp:revision>
  <dc:subject/>
  <dc:title> TRATAMIENTO DE AGUAS SERVIDAS</dc:title>
</cp:coreProperties>
</file>