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704-EC4C-4B1E-94FB-F30336CA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4EB-183D-42C8-A32C-177B857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A2F-F775-423D-8D6D-6DB1BB1D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84D-2AE2-4814-907C-74356750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2BF-7839-4D37-BC38-4C0EC63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1EA-83A5-4D4F-8345-27E9BFBC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864-9205-4526-A4F5-F0177126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E3D-43F5-4915-99DE-BAB9FC0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F52-BB86-41A1-AAFF-CD505E9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86C-4972-4DCE-AAA9-4FC078C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8FC-82B2-4172-BDA7-7E0DDB3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481-BB1B-45B6-B52D-82012B9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BC00-EDB2-4C65-B607-F2C35565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(2008) se están tratando cerca del 75% de las aguas servidas mediante tratamientos bi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Santiago dos grandes Plantas de Tratamiento mediante Lodos Activ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e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arf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á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Thiotrix sp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rano en 5 dí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Reynaldo Charrier</cp:lastModifiedBy>
  <dcterms:modified xsi:type="dcterms:W3CDTF">2008-09-26T18:50:56Z</dcterms:modified>
  <cp:revision>41</cp:revision>
  <dc:subject/>
  <dc:title> TRATAMIENTO DE AGUAS SERVIDAS</dc:title>
</cp:coreProperties>
</file>