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52B-0738-4476-843F-C5FD334C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D06-306F-4987-8D70-3F9DB3E5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39B-EA84-4771-AE21-A3E6379E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849-FA23-47EE-A7A5-209716B6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7D1-1651-4DCB-9EAB-ECCB1D2E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5D4-97E9-4D38-9935-E11BFC8C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F36-44E9-46E2-BF5F-7765E8F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E49-7486-4FCD-9831-2E4EC0F2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26C-230E-452B-867D-3733F3D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0AB-232E-4A12-81BB-394AFE3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E66-97E6-45E7-BCAA-FDC1B5D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833-5F32-4F7D-B3CE-A6DEC38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1CD-DE71-48D1-824A-60E7AF754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 encontrar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Reynaldo Charrier</cp:lastModifiedBy>
  <dcterms:modified xsi:type="dcterms:W3CDTF">2008-07-31T15:39:25Z</dcterms:modified>
  <cp:revision>4</cp:revision>
  <dc:subject/>
  <dc:title> SON MICROORGANISMOS ACIDÓFILOS</dc:title>
</cp:coreProperties>
</file>