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DE5-2A35-4366-B4F5-33D30E27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154-1E54-4F03-917B-8849CAF4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F44-027E-49CE-BF2C-36F43F3D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0C7-9CC3-4749-953E-650FF789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809-4B20-481B-9465-B60FD751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88C-6F8B-4EA2-9D55-92AB9456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59E-384B-4B6B-AEC2-AD2F4B56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452-AD0E-4296-8548-D7FCC0A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073-09FA-4A35-929A-6BD1C30A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EAC-05A5-4DB6-89D6-9735ADB6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829-052E-444B-ADB4-7592988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78F-DC8D-4AFC-9FAB-1101F605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52E9-D15D-49AD-88D8-7B3A8C382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H en el cuál se desarrollan fluctúa entre 1.5 y 2.5, con pH óptimo que depende de la fuente de energía que estén utilizando, Fe(II) o azufre re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se obtiene a bajos 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lubilización de sustra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e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í estos M.O. serían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naerobios facult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lo que serían capaces de oxidar los minerales en ausencia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8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pro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 + 2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á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consume el ácido, se detiene la reacción y el pH su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xiviación fér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el mecanismo más efectivo de lixiviación, disuelve los sulfuros metálicos, pero genera una capa de S elemental, que impide que este proceso contin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cuando se consume el Fe(III), se detiene l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EN PRESENCIA DE 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1960 cuando recién comenzaron estudios biológicos sobre participación de M.O. en lixiviación de minerales sulfurados se consideró que los M.O. actuaban mediante alguno o los dos mecanismo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M.O. se adhieren al sólido, generando un biofilm, luego comienzan a disolver directamente el sulfuro o el S element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 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e mecanismo sólo lo ejercen l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.O. capaces de oxidar compuestos reducido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M.O. adheridos así como los que se encuentran en solución, en presencia de oxígeno y d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eden oxidar el Fe(II) a Fe(III), segú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reacción consum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lo qu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uede producir precipitación de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acción que sería 1.000.000 de veces más rápida que la reacción en ausencia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I) es un muy buen oxidante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) resultante de esta reacción puede ser nuevamente oxidado a Fe(III) por las bacterias, así esta cadena de reacciones: oxidación de Fe(II) por bacterias y oxidación de los sulfuros por el Fe(III)  puede continuar dando lugar a la disolución de los sulfuros metálicos mediante 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ión indirecta de l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ASOCIADAS A LOS PROCESOS DE BIO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ixiviación férrica (producto de la acción bacterian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Consumo de ácido por oxidación de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generación de ácido asociada a est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Oxidación de S y generación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ACCIÓN DE ALGUNOS MICROORG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Direct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compuestos de S re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udios realizados a partir de 1995, por W. Sand han determinado o demostrado que el mecanismo directo de oxidación de sulfuros no existiría. Es decir, no existirían mecanismos en ausencia de Fe(III), para disolución de sulf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. Glucurónico de los LP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niría a Fe(III) formando complejos los cuales se encontrarían en el biofilm que producen las células al adherirse al mineral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tención de sustratos en forma 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más alto pH menor cantidad de Fe(II) disponible por precipitación de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a oxidación del Fe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(quí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partir de pH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élulas que no contienen LPS no pueden adherirse al mineral y tampoco pueden disolver los sulfu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élulas  + Miner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ncia (L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 esta teoría células crecidas en S no se adhieren a pirita (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 tampoco la oxidarí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W. Sand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acuerdo a estudios cristalográficos de los sulfuros metálicos, existirían dos grupos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sólo por Fe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tiosulfa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sólo por Fe(III) serían 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W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tiosul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tiosulfato, tetrationato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 Fe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TIO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49440" y="1981080"/>
          <a:ext cx="424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981080"/>
                    <a:ext cx="424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polisulf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rían Cu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u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polisulf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polisulfuro, S elemental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POLISULF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14440" y="1981080"/>
          <a:ext cx="451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981080"/>
                    <a:ext cx="451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H. Tributsch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partir de estudios de microscopia electrónica se ha demostrado que para que se produzca la oxidación del sulfuro es necesario que las bacterias se contacten a través de los EPS con el sulf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el S en el biofilm (E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fragmentos de pirita en el biofilm (EPS-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. TRIBUT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Tributsch existirían tres mecanismo utilizados por las bacterias para la disolución de los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por contac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indirec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S + 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2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cooperativ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ducen simultáneamente ambos mecanismos: por contacto e indirecto; bacterias utilizarían nutrientes solubilizados desde el mi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14400"/>
          <a:ext cx="65530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95280" y="990720"/>
          <a:ext cx="647712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membrana celular de estos M.O. es impermeable a los protones, que se encuentran en el medio de cultivo. (pH 1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H al interior del citoplasma es alrededor d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cterias acidófilas requieren una diferencia de pH entre el medio y el citoplasma, para generar energía (ATP) por fosforilación oxid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S REACCIONES QUÍMICAS DE GENERACIÓN 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(III) COMO SULFATO FÉRRICO (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EXPLICAN LA ACTIVIDAD OXIDATIVA DE ESTAS BACTERIAS SOBRE LOS SULFUROS METÁLICOS</a:t>
            </a:r>
            <a:br>
              <a:rPr sz="36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XIVIACIÓN BACTERIANA DE MINERALES SULFURADOS ES UN PROCESO NATURAL EN EL CUAL PUEDEN PARTICIPAR BACTERIAS, LAS QUE ACTÚAN COMO CATALIZADORES Y LO HACEN ACTIVAMENTE CUANDO EN EL AMBIENTE EN EL CUÁL ELLAS SE ENCUENTRAN, SE DAN CIERTAS CONDICIONES COMO HUMEDAD, TEMPERATURA, DISPONIBILIDAD DE NUTRIENTES, AUSENCIA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ESTOS TÓX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ransferencia de electrones y protones desde el medio al interior de la célula lleva a la generación de un potencial electroquímico de transmembrana debido a lo cuál se produce síntesis de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P + Pi  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TP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S o sulfuros genera ácido, por lo que el pH del medio ambiente puede ser más al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ha descrito crecimiento en medio S algo menor para cultivos a pH 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que un gran número de cepas que participan en los procesos de biolixiviación son capaces de fijar nitrógeno. Esta característica es debida a la presencia de Nitroge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it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minoácido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ases orgánic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os nucle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 capacidad se ha demostrado en cepa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está com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 encontrar presente en la gan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los M.O. com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, Sulfobacillus thermosulfidooxidans y Sulfolobus metallicu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oxidan compuestos de S reducido en condiciones aeróbicas, también lo pueden hacer en ausencia de oxígeno, pero en presencia de Fe(III), que actuaría como aceptor de los electro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0:24:11Z</dcterms:created>
  <dc:creator>Blanca Escobar</dc:creator>
  <dc:description/>
  <dc:language>en-US</dc:language>
  <cp:lastModifiedBy>Reynaldo Charrier</cp:lastModifiedBy>
  <dcterms:modified xsi:type="dcterms:W3CDTF">2008-07-31T15:39:25Z</dcterms:modified>
  <cp:revision>4</cp:revision>
  <dc:subject/>
  <dc:title> SON MICROORGANISMOS ACIDÓFILOS</dc:title>
</cp:coreProperties>
</file>