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A80-CCD2-4849-9563-D9459897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4C4-5BEC-4A64-89DB-7EC6E192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CE0-1510-4656-AB37-B3F80525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8F9-CC64-4EB2-8830-8282F565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1E7-0DD1-40F3-84CA-BA3A521F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E81-2373-4ED3-834C-DC2DFACE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6410-876B-4ED6-8632-A18D44C0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D2A5-024B-4AD6-A589-84CA0007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229-8CCE-4794-B5A4-54CFA4B6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1A8-081F-4292-A55A-47E92385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565-CFAF-46B4-9646-9EBD8B59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7A7F-35AA-47CF-82C7-703F8070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BB80-690A-43AF-94E4-97D30E736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pH en el cuál se desarrollan fluctúa entre 1.5 y 2.5, con pH óptimo que depende de la fuente de energía que estén utilizando, Fe(II) o azufre redu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Qué se obtiene a bajos p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olubilización de sustra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e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(F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ERÓBICOS ESTRICTOS O FACULTA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í estos M.O. serían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naerobios faculta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or lo que serían capaces de oxidar los minerales en ausencia de oxí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S + 8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pro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S + 2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 + 2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 + 2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DE LIXIVI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ixiviación á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 consume el ácido, se detiene la reacción y el pH sub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DE LIXIVI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xiviación fér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el mecanismo más efectivo de lixiviación, disuelve los sulfuros metálicos, pero genera una capa de S elemental, que impide que este proceso contin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más cuando se consume el Fe(III), se detiene la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EN PRESENCIA DE BACTE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r de 1960 cuando recién comenzaron estudios biológicos sobre participación de M.O. en lixiviación de minerales sulfurados se consideró que los M.O. actuaban mediante alguno o los dos mecanismos sigui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M.O. se adhieren al sólido, generando un biofilm, luego comienzan a disolver directamente el sulfuro o el S elemental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S  +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e mecanismo sólo lo ejercen lo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.O. capaces de oxidar compuestos reducidos de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M.O. adheridos así como los que se encuentran en solución, en presencia de oxígeno y d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eden oxidar el Fe(II) a Fe(III), segú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F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1/2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reacción consum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lo qu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puede producir precipitación de 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3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acción que sería 1.000.000 de veces más rápida que la reacción en ausencia de bacte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e(III) es un muy buen oxidante de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e(II) resultante de esta reacción puede ser nuevamente oxidado a Fe(III) por las bacterias, así esta cadena de reacciones: oxidación de Fe(II) por bacterias y oxidación de los sulfuros por el Fe(III)  puede continuar dando lugar a la disolución de los sulfuros metálicos mediante l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ción indirecta de l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CIONES ASOCIADAS A LOS PROCESOS DE BIOLIXIVI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 Lixiviación férrica (producto de la acción bacterian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 Consumo de ácido por oxidación de Fe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 Precipitación de Fe(OH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generación de ácido asociada a esta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 Oxidación de S y generación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CANISMOS DE ACCIÓN DE ALGUNOS MICROORGANIS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Directo: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ferrooxid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thiooxid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M.O. con capacidad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oxidar compuestos de S redu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M.O. con capacidad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oxidar Fe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udios realizados a partir de 1995, por W. Sand han determinado o demostrado que el mecanismo directo de oxidación de sulfuros no existiría. Es decir, no existirían mecanismos en ausencia de Fe(III), para disolución de sulf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. Glucurónico de los LP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t.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 uniría a Fe(III) formando complejos los cuales se encontrarían en el biofilm que producen las células al adherirse al mineral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tención de sustratos en forma solu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más alto pH menor cantidad de Fe(II) disponible por precipitación de Fe(OH)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por la oxidación del Fe(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Fe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1/2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2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 (quími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Fe(OH)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+ 3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partir de pH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s células que no contienen LPS no pueden adherirse al mineral y tampoco pueden disolver los sulfur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élulas  + Mineral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herencia (L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 esta teoría células crecidas en S no se adhieren a pirita (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y tampoco la oxidarí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posición de W. Sand e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acuerdo a estudios cristalográficos de los sulfuros metálicos, existirían dos grupos de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lfuros constituídos por cristales que pueden ser solubilizados sólo por Fe(II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lfuros constituídos por cristales que pueden ser solubilizados por Fe(III) y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W. 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del tiosulfa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ulfuros que serían disueltos sólo por Fe(III) serían 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Mo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W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un producto intermedio importante sería el tiosulf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este mecanismo de lixiviación química y bacteriana, a partir del sulfuro se produce tiosulfato, tetrationato y sulfato como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 Fe 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 presencia de oxíg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EL TIOSULF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449440" y="1981080"/>
          <a:ext cx="424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981080"/>
                    <a:ext cx="424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del polisulf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ulfuros que serían disueltos por Fe(III) y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rían Cu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Cu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un producto intermedio importante sería el polisulf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este mecanismo de lixiviación química y bacteriana, a partir del sulfuro se produce polisulfuro, S elemental y sulfato como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Fe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u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 presencia de oxíg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. 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EL POLISULF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314440" y="1981080"/>
          <a:ext cx="451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4440" y="1981080"/>
                    <a:ext cx="451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posición de H. Tributsch e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partir de estudios de microscopia electrónica se ha demostrado que para que se produzca la oxidación del sulfuro es necesario que las bacterias se contacten a través de los EPS con el sulfu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cas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t.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bacterias almacenarían el S en el biofilm (EP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cas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bacterias almacenarían fragmentos de pirita en el biofilm (EPS-F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. TRIBUTS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gún Tributsch existirían tres mecanismo utilizados por las bacterias para la disolución de los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por contac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indirect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S + 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H2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cooperativ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oducen simultáneamente ambos mecanismos: por contacto e indirecto; bacterias utilizarían nutrientes solubilizados desde el mi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219320" y="914400"/>
          <a:ext cx="655308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6553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295280" y="990720"/>
          <a:ext cx="647712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477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membrana celular de estos M.O. es impermeable a los protones, que se encuentran en el medio de cultivo. (pH 1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H al interior del citoplasma es alrededor de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cterias acidófilas requieren una diferencia de pH entre el medio y el citoplasma, para generar energía (ATP) por fosforilación oxid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LAS REACCIONES QUÍMICAS DE GENERACIÓN D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(III) COMO SULFATO FÉRRICO (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EXPLICAN LA ACTIVIDAD OXIDATIVA DE ESTAS BACTERIAS SOBRE LOS SULFUROS METÁLICOS</a:t>
            </a:r>
            <a:br>
              <a:rPr sz="3600"/>
            </a:b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LIXIVIACIÓN BACTERIANA DE MINERALES SULFURADOS ES UN PROCESO NATURAL EN EL CUAL PUEDEN PARTICIPAR BACTERIAS, LAS QUE ACTÚAN COMO CATALIZADORES Y LO HACEN ACTIVAMENTE CUANDO EN EL AMBIENTE EN EL CUÁL ELLAS SE ENCUENTRAN, SE DAN CIERTAS CONDICIONES COMO HUMEDAD, TEMPERATURA, DISPONIBILIDAD DE NUTRIENTES, AUSENCIA 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UESTOS TÓXIC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ETC.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ransferencia de electrones y protones desde el medio al interior de la célula lleva a la generación de un potencial electroquímico de transmembrana debido a lo cuál se produce síntesis de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DP + Pi  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ATP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137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oxidación de S o sulfuros genera ácido, por lo que el pH del medio ambiente puede ser más al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ha descrito crecimiento en medio S algo menor para cultivos a pH 5.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DAD DE FIJAR NIT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que un gran número de cepas que participan en los procesos de biolixiviación son capaces de fijar nitrógeno. Esta característica es debida a la presencia de Nitrogen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2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itroge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minoácidos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ases orgánic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idos nucle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DAD DE FIJAR NIT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a capacidad se ha demostrado en cepas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thiooxidan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o está comprob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puede encontrar presente en la gan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AERÓBICOS ESTRICTOS O FACULTA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ha demostrado que los M.O. como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ferrooxidans, Sulfobacillus thermosulfidooxidans y Sulfolobus metallicus,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que oxidan compuestos de S reducido en condiciones aeróbicas, también lo pueden hacer en ausencia de oxígeno, pero en presencia de Fe(III), que actuaría como aceptor de los electron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0:24:11Z</dcterms:created>
  <dc:creator>Blanca Escobar</dc:creator>
  <dc:description/>
  <dc:language>en-US</dc:language>
  <cp:lastModifiedBy>Reynaldo Charrier</cp:lastModifiedBy>
  <dcterms:modified xsi:type="dcterms:W3CDTF">2008-07-31T15:39:25Z</dcterms:modified>
  <cp:revision>4</cp:revision>
  <dc:subject/>
  <dc:title> SON MICROORGANISMOS ACIDÓFILOS</dc:title>
</cp:coreProperties>
</file>