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8D1-5E0C-4621-B12B-AF72D107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B0D-EADF-41EB-A1A4-B273DC62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F12-82B4-4030-9195-E9EFD498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DB5-20AB-4029-8AE8-4466BF62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D86-3C94-4CB6-8523-1DF801D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434-56FE-4234-B9F6-936FEE35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684-5216-4B3F-AF49-E0907F7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299-CA63-4B5B-B8EC-368F9F11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8ED-2E1A-4CF0-A4B0-B47049F7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F41-15B1-4F51-A97C-8C843B7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153-C146-4F27-B3FD-2C4903BF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B49-FC7A-48ED-B23B-5724641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D14E-0C60-4098-A1E9-010B41944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 encontrar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Reynaldo Charrier</cp:lastModifiedBy>
  <dcterms:modified xsi:type="dcterms:W3CDTF">2008-07-31T15:39:25Z</dcterms:modified>
  <cp:revision>4</cp:revision>
  <dc:subject/>
  <dc:title> SON MICROORGANISMOS ACIDÓFILOS</dc:title>
</cp:coreProperties>
</file>