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08D-1206-419F-8C06-8A34AAA9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DD8-B659-4178-8121-B9BCC5FB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E66-A4A2-49C6-AFDA-8B36EFA1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665-A75C-42ED-80E6-C66A9918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18C-0600-4C6F-B36D-843E889A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91B-9349-4C37-B6ED-BFE256CA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964-0A06-481A-B729-13D62276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5EF-E3B2-49DF-86AB-9370DE83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3B8-7841-4C4A-819B-B14FC2A7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693-8C6C-4EF4-842E-6D6E9E44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BF0-8B66-461C-8AA4-F5C0284C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F39-780C-4DE1-83FB-FD2087AE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C0D7-2B22-4730-AC01-50ADF6BA0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H en el cuál se desarrollan fluctúa entre 1.5 y 2.5, con pH óptimo que depende de la fuente de energía que estén utilizando, Fe(II) o azufre redu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se obtiene a bajos 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lubilización de sustra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e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í estos M.O. serían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naerobios faculta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lo que serían capaces de oxidar los minerales en ausencia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8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pro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 + 2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xiviación á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consume el ácido, se detiene la reacción y el pH su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xiviación fér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el mecanismo más efectivo de lixiviación, disuelve los sulfuros metálicos, pero genera una capa de S elemental, que impide que este proceso contin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cuando se consume el Fe(III), se detiene l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EN PRESENCIA DE 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1960 cuando recién comenzaron estudios biológicos sobre participación de M.O. en lixiviación de minerales sulfurados se consideró que los M.O. actuaban mediante alguno o los dos mecanismo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M.O. se adhieren al sólido, generando un biofilm, luego comienzan a disolver directamente el sulfuro o el S elemental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S 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e mecanismo sólo lo ejercen l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.O. capaces de oxidar compuestos reducidos d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M.O. adheridos así como los que se encuentran en solución, en presencia de oxígeno y d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eden oxidar el Fe(II) a Fe(III), segú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reacción consum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lo qu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uede producir precipitación de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acción que sería 1.000.000 de veces más rápida que la reacción en ausencia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I) es un muy buen oxidante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) resultante de esta reacción puede ser nuevamente oxidado a Fe(III) por las bacterias, así esta cadena de reacciones: oxidación de Fe(II) por bacterias y oxidación de los sulfuros por el Fe(III)  puede continuar dando lugar a la disolución de los sulfuros metálicos mediante l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ión indirecta de l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ASOCIADAS A LOS PROCESOS DE BIO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ixiviación férrica (producto de la acción bacterian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Consumo de ácido por oxidación de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generación de ácido asociada a est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Oxidación de S y generación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ACCIÓN DE ALGUNOS MICROORG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Direct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compuestos de S redu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udios realizados a partir de 1995, por W. Sand han determinado o demostrado que el mecanismo directo de oxidación de sulfuros no existiría. Es decir, no existirían mecanismos en ausencia de Fe(III), para disolución de sulf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. Glucurónico de los LP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niría a Fe(III) formando complejos los cuales se encontrarían en el biofilm que producen las células al adherirse al mineral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tención de sustratos en forma 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más alto pH menor cantidad de Fe(II) disponible por precipitación de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por la oxidación del Fe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(quím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partir de pH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élulas que no contienen LPS no pueden adherirse al mineral y tampoco pueden disolver los sulfu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élulas  + Minera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herencia (L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 esta teoría células crecidas en S no se adhieren a pirita (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 tampoco la oxidarí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W. Sand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acuerdo a estudios cristalográficos de los sulfuros metálicos, existirían dos grupos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sólo por Fe(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tiosulfa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sólo por Fe(III) serían 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Mo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W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tiosulf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tiosulfato, tetrationato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 Fe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TIOSULF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49440" y="1981080"/>
          <a:ext cx="424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981080"/>
                    <a:ext cx="424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polisulf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rían Cu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u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polisulf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polisulfuro, S elemental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u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POLISULF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14440" y="1981080"/>
          <a:ext cx="451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981080"/>
                    <a:ext cx="451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H. Tributsch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partir de estudios de microscopia electrónica se ha demostrado que para que se produzca la oxidación del sulfuro es necesario que las bacterias se contacten a través de los EPS con el sulfu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el S en el biofilm (E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fragmentos de pirita en el biofilm (EPS-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. TRIBUT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Tributsch existirían tres mecanismo utilizados por las bacterias para la disolución de los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por contac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indirec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S + 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2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cooperativ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ducen simultáneamente ambos mecanismos: por contacto e indirecto; bacterias utilizarían nutrientes solubilizados desde el mi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14400"/>
          <a:ext cx="65530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95280" y="990720"/>
          <a:ext cx="647712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membrana celular de estos M.O. es impermeable a los protones, que se encuentran en el medio de cultivo. (pH 1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H al interior del citoplasma es alrededor d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cterias acidófilas requieren una diferencia de pH entre el medio y el citoplasma, para generar energía (ATP) por fosforilación oxid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S REACCIONES QUÍMICAS DE GENERACIÓN 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(III) COMO SULFATO FÉRRICO (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EXPLICAN LA ACTIVIDAD OXIDATIVA DE ESTAS BACTERIAS SOBRE LOS SULFUROS METÁLICOS</a:t>
            </a:r>
            <a:br>
              <a:rPr sz="36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XIVIACIÓN BACTERIANA DE MINERALES SULFURADOS ES UN PROCESO NATURAL EN EL CUAL PUEDEN PARTICIPAR BACTERIAS, LAS QUE ACTÚAN COMO CATALIZADORES Y LO HACEN ACTIVAMENTE CUANDO EN EL AMBIENTE EN EL CUÁL ELLAS SE ENCUENTRAN, SE DAN CIERTAS CONDICIONES COMO HUMEDAD, TEMPERATURA, DISPONIBILIDAD DE NUTRIENTES, AUSENCIA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UESTOS TÓX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ransferencia de electrones y protones desde el medio al interior de la célula lleva a la generación de un potencial electroquímico de transmembrana debido a lo cuál se produce síntesis de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P + Pi  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ATP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oxidación de S o sulfuros genera ácido, por lo que el pH del medio ambiente puede ser más al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ha descrito crecimiento en medio S algo menor para cultivos a pH 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que un gran número de cepas que participan en los procesos de biolixiviación son capaces de fijar nitrógeno. Esta característica es debida a la presencia de Nitrogen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it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minoácidos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ases orgánic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idos nucle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 capacidad se ha demostrado en cepa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 está com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 encontrar presente en la gan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ha demostrado que los M.O. como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, Sulfobacillus thermosulfidooxidans y Sulfolobus metallicu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e oxidan compuestos de S reducido en condiciones aeróbicas, también lo pueden hacer en ausencia de oxígeno, pero en presencia de Fe(III), que actuaría como aceptor de los electron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0:24:11Z</dcterms:created>
  <dc:creator>Blanca Escobar</dc:creator>
  <dc:description/>
  <dc:language>en-US</dc:language>
  <cp:lastModifiedBy>Reynaldo Charrier</cp:lastModifiedBy>
  <dcterms:modified xsi:type="dcterms:W3CDTF">2008-07-31T15:39:25Z</dcterms:modified>
  <cp:revision>4</cp:revision>
  <dc:subject/>
  <dc:title> SON MICROORGANISMOS ACIDÓFILOS</dc:title>
</cp:coreProperties>
</file>