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69.png" ContentType="image/png"/>
  <Override PartName="/ppt/media/image2.png" ContentType="image/png"/>
  <Override PartName="/ppt/media/image14.png" ContentType="image/png"/>
  <Override PartName="/ppt/media/image24.png" ContentType="image/png"/>
  <Override PartName="/ppt/media/image58.wmf" ContentType="image/x-wmf"/>
  <Override PartName="/ppt/media/image20.png" ContentType="image/png"/>
  <Override PartName="/ppt/media/image5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57.wmf" ContentType="image/x-wmf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7.wmf" ContentType="image/x-wmf"/>
  <Override PartName="/ppt/media/image27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61.wmf" ContentType="image/x-wmf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9C7-417F-45AD-96E0-D81396D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99F-9CC0-493D-8D91-5D42AE8F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374-C4FE-4F72-BEF1-53B09B98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DF0-2575-46DA-8D75-5D4508CF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1F3-DCD3-4694-BE12-D394EE7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E77-4C33-4745-9CC6-9D820F1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866-9805-4BC7-B380-3F0BE984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551-ADBC-49E2-AAEC-5496E8CB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D54-E44C-4C32-B86D-1464DE0D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827-AEC5-4317-AACE-A6A4B34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F54-8014-44F3-B095-4E8ACE5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93F-FC0A-42A0-9D1B-E5B4B26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656-93D6-4783-A78F-C99797E493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bioinfo.org.cn/book/biochemistry/contents.htm" TargetMode="External"/><Relationship Id="rId2" Type="http://schemas.openxmlformats.org/officeDocument/2006/relationships/hyperlink" Target="http://www.aw-bc.com/mathews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5240" y="1560600"/>
            <a:ext cx="6569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c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 l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Morgan S.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A, 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8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55040" y="6324480"/>
            <a:ext cx="66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cadenas laterales de estos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 son capaces de establecer puentes de Hidr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xid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2 cisteínas vecinas permite for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entes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furo. Estos enlaces pueden unir covalentemente cadenas polipeptídicas diferentes o también imponerle restricciones espaciales a una misma cadena polipeptíd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569360" cy="543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83440" y="304920"/>
            <a:ext cx="604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agua tiene la estructura de un dipolo el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gracias a la alta electroneg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oxígeno en relación al hidrógeno, de modo que los electrones de enlace tien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acercarse hacia el oxígeno. Este dipolo no posee cargas formales sino que se gen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 por una distribución asimétrica de los electrones de enlace. Permite la form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65160" y="762120"/>
            <a:ext cx="7213680" cy="533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8240" y="304920"/>
            <a:ext cx="75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s de polaridad. Una m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ula lineal será apolar cuando los vectores que forman el dipolo se anu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58880" y="711360"/>
            <a:ext cx="402624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8720" y="1962000"/>
            <a:ext cx="802656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1500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0492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s cadenas laterales no polares interact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an a través de interacciones hidrofóbicas, tales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de Van der Waals, que corresponden a interacciones débiles, en estrechos rang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cia (en el radio de Van der Waals). Los grupos apolares son incapaces de formar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es, tales como puentes de Hidrógeno o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819520" cy="407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47200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724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residuos a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ticos absorben luz ultravioleta, alrededor de los 280 nm de longitud de onda. Estos grupos son capaces de formar interacciones hidrofóbicas, principalmente entre grupos aro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447920"/>
            <a:ext cx="8972640" cy="3047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563868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bsorbancia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tensidad de luz incidente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nsidad de luz transmitida al atravesar la muestra en un trayec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380880"/>
            <a:ext cx="845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foro es una molécula capaz de absorber luz en un cierto rango de longitudes de onda característico, en el espectro UV-VIS. La absorbancia de un compuesto en solución es medida en un espectrofotómetro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920" y="35812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o: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terio: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7200" y="3581280"/>
            <a:ext cx="214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ciona rangos estre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ongitud de o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&gt; 0; I &lt;  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560" y="495288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o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4994280"/>
            <a:ext cx="38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   (Ec. de Lambert-Be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019920" cy="37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5520" y="457200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 zwitterion predomina a pH fisi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143000"/>
            <a:ext cx="66452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ciones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icas de Proteínas: Aminoácidos; Quiralidad; Polaridad; Interacciones no covalentes; Absorbancia; Acidez y Basicidad; Enlace Peptídico; Estructura I, II, III, IV; Plegamiento; Denaturación; Clasificación de Proteínas;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71500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480" y="762120"/>
            <a:ext cx="80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cua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Henderson-Hasselbach rige la disociación de cualquier ácido o base débil a un pH determinado. Sin embargo, no predice el comportamiento de un poliácido, tal como una proteí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320" y="510552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,        HA         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14800" y="5083200"/>
            <a:ext cx="1822320" cy="785880"/>
            <a:chOff x="4114800" y="5083200"/>
            <a:chExt cx="1822320" cy="785880"/>
          </a:xfrm>
        </p:grpSpPr>
        <p:sp>
          <p:nvSpPr>
            <p:cNvPr id="86" name=""/>
            <p:cNvSpPr/>
            <p:nvPr/>
          </p:nvSpPr>
          <p:spPr>
            <a:xfrm>
              <a:off x="4114800" y="5083200"/>
              <a:ext cx="18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952520" y="5464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38480" y="5500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4400" y="5218200"/>
            <a:ext cx="13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lo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89320" cy="5980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920" y="457200"/>
            <a:ext cx="4759200" cy="621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20000" y="2286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 = - lo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82840" y="4724280"/>
            <a:ext cx="593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s latera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as, pueden formar interacciones iónicas, dependientes del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10080" cy="403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46800" y="4835520"/>
            <a:ext cx="65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s cadenas laterales tienen propieda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-base, pueden formar interacciones i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6640" y="1989000"/>
            <a:ext cx="3181320" cy="4077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388620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8600" y="762120"/>
            <a:ext cx="79556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unto iso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corresponde al valor de pH al cuál una molécula tiene carga neta (z) igual a c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zwitterion simple, pI = (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p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2 (a); Para un aminoácido de cadena lateral ácido-base, pI es el 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os pK entre la especie con carga +1 y -1 (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7880" y="1643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        +1                           0                          -1                                     +2                   +1                    0     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culo 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o iso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trico (pI) de un aminoá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7200" y="59911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3516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26880" y="25909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iveles de la estructura de 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y métodos de an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62400" cy="38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77120" y="4726080"/>
            <a:ext cx="73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tido se define por la formación de al menos un enlace peptí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enlace peptídico se forma entre un grup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x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es de dos aminoác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57520" y="1162080"/>
            <a:ext cx="3828960" cy="4076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9000" y="263520"/>
            <a:ext cx="75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tructura primaria de un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su secuencia de aminoácidos, es carácterística de cada proteína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determinada mediante métodos químicos o fí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585720"/>
            <a:ext cx="7183440" cy="6183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0320" y="152280"/>
            <a:ext cx="829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egrad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Edman (c) es un método químico para determinar la secuencia de aminoácidos (estructura prim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a cadena polipeptíd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026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537080" cy="36716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932360" y="1079640"/>
            <a:ext cx="4103640" cy="4797360"/>
            <a:chOff x="4932360" y="1079640"/>
            <a:chExt cx="4103640" cy="479736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932360" y="1079640"/>
              <a:ext cx="4103640" cy="30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0" t="37752" r="0" b="0"/>
            <a:stretch/>
          </p:blipFill>
          <p:spPr>
            <a:xfrm>
              <a:off x="4932360" y="3961080"/>
              <a:ext cx="4103640" cy="191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79280" y="4089240"/>
            <a:ext cx="4753080" cy="231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2286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pectromet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masas es un método físico usado para determinar la estructura primaria de una proteí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744560"/>
            <a:ext cx="8763120" cy="443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3640" y="212760"/>
            <a:ext cx="82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enlace pe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o define a un péptido, y tiene carácter parcial de doble enlace. Por ello, el enlace peptídico es plano y no permite la libre rotación de sus sustituy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920" y="762120"/>
            <a:ext cx="8785080" cy="2612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414036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en torno al Carbono alfa permiten flexibilidad conformacional a la cadena principal (cadena polipeptídica, sin considerar los grupos de cadena lateral, carácterísticos de cada aminoá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24844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0200" y="152280"/>
            <a:ext cx="834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subconjunto restringido de valores para lo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gulos de torsión de la cadena principal son observados en proteína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ueden distinguir rangos de valores esperados para cada estructura secund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455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0" y="1219320"/>
            <a:ext cx="439272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para ser funcional adopta una 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da, llamada usualmente su estado n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aturación: El estado nativo se puede pe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la acción de la temperatura, fuerza iónica, deterg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oxidantes, y caotróp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incipio de Anfins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estructura tridimensional de una proteí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á determinada por la secuencia de aminoácidos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numerosos progresos, el código de plegamien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decir, la predicción del estado nativo en base a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encia de aminoácidos aún no ha sido elucid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24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08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la estructura de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0120" y="4454640"/>
            <a:ext cx="121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: sec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3200" y="4454640"/>
            <a:ext cx="17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: Estructura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ilizada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ntes de Hi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cadena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establecidos po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po amida form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el enlace pept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76200" y="4378320"/>
            <a:ext cx="2512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: Estructura 3D de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a 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a. Involucra arreglo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 II (estructura super-I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interacciones de cadena later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nte puentes de Hidróge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hidrofóbic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acciones iónicas (pu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inos) y eventualmen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ntes disúlf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0800" y="4378320"/>
            <a:ext cx="253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: Ensamble de cad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p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icas en un comple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al. Todas las inter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II pueden 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s en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79440" y="1306440"/>
            <a:ext cx="4022640" cy="5064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22840" y="1077840"/>
            <a:ext cx="20732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004080" y="3135240"/>
            <a:ext cx="1054080" cy="3417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12920" y="38088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ucturas secundarias: el alfa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938160"/>
            <a:ext cx="7467480" cy="5919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4640" y="22860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tiparale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los puentes de H corren perpendiculares a la cadena princip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 hoj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arreglo de varias hebra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19920" cy="578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6160" y="304920"/>
            <a:ext cx="75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j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rale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os puentes de H corren oblicuos a la cadena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4840" y="212760"/>
            <a:ext cx="69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ac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xperimental del contenido de estructuras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82720" cy="5181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30360" y="1254240"/>
            <a:ext cx="4390200" cy="25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estructuras secundarias de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pued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 determinadas mediante dicroísmo circular,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écnica, en principio, similar al de la espectrofot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o que ahora se incide luz circularmente polar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bre la muestra. Para la luz polarizada en cada sent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zquierda o derecha), una molécula quiralpresenta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ores de su coeficiente de extinción mo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La diferencia entre ambas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es graficada co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longitud de onda incidente y se obtiene un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dicroísmo circular. En la figura se muestran los espec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s carácterísticos de alfa hélice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 hoja b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y una cad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estructurada (random coil, r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68480" y="0"/>
            <a:ext cx="34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6680" y="620640"/>
            <a:ext cx="4189320" cy="2671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3924360" cy="2962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3373560"/>
            <a:ext cx="4319280" cy="3079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4920" y="3573360"/>
            <a:ext cx="4321080" cy="26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3560" y="228600"/>
            <a:ext cx="89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rucutra Super Secundaria (super-II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rrespopnde a arrreglos regulares de estructur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06760" y="0"/>
            <a:ext cx="5637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5720" y="187200"/>
            <a:ext cx="4021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sume que la estructura n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e al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mo energ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. Sin embargo, numerosos mínimos 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n ser identificados. Algunos de ellos pu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sponder a intermediarios en el ca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legamiento de la proteí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doja de Levinth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tiempo en segundos, requeri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una proteína explore todas las conform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bles se estima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n = número de residu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ructura 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 una proteína de 100 residu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 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8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o es mucho más que la edad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o, estimada alrededor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ños = 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 imposible que una proteí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lore todo su espacio conform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 adoptar su estado nativo.  Ci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minos de plegamiento debería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dentificados para cada proteí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32080" y="1332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odos de separación de proteínas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Electroforesis, cromatografías y Técnicas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1430280"/>
            <a:ext cx="3533760" cy="3533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572000" y="1419120"/>
            <a:ext cx="3544920" cy="354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28800" y="533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3059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TUBUL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-AC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OURESCEI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DA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0628" t="44685" r="4088" b="31096"/>
          <a:stretch/>
        </p:blipFill>
        <p:spPr>
          <a:xfrm>
            <a:off x="5021280" y="3019320"/>
            <a:ext cx="2863800" cy="131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260" t="15521" r="52288" b="60260"/>
          <a:stretch/>
        </p:blipFill>
        <p:spPr>
          <a:xfrm>
            <a:off x="1774800" y="3019320"/>
            <a:ext cx="2874960" cy="131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39800" y="476280"/>
            <a:ext cx="6172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MUNOHISTOQUIMICA/INMUNOFLUORESC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TECTA LA PRESENCIA DE UNA PROTEINA EN UNA CELULA/TEJIDO/ORGANISMO PERMITIENDO CONOCER SU EXPRESION ESPA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5440" y="20606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MUNOFLUORESC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59160" y="2492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) 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4880" y="24922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) IND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6320" y="47293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CUB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8560" y="52387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3800" y="5715000"/>
            <a:ext cx="18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ISUALIZACION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CROSCO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6708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28840" y="4335480"/>
            <a:ext cx="12826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1" idx="2"/>
            <a:endCxn id="162" idx="0"/>
          </p:cNvCxnSpPr>
          <p:nvPr/>
        </p:nvCxnSpPr>
        <p:spPr>
          <a:xfrm>
            <a:off x="4784400" y="5033520"/>
            <a:ext cx="108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2" idx="2"/>
            <a:endCxn id="163" idx="0"/>
          </p:cNvCxnSpPr>
          <p:nvPr/>
        </p:nvCxnSpPr>
        <p:spPr>
          <a:xfrm>
            <a:off x="4784400" y="5543640"/>
            <a:ext cx="10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64720" y="4572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troforesis en soluc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0240" y="1025640"/>
            <a:ext cx="79182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foresis es una 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cnica de separación de proteínas y ácidos nucléicos basados en su mi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un campo eléctrico. En solu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E, campo eléctrico; z, carga eléctrica del analito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viscosidad del medio; r, radio de Stokes (sim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 radio hidrodinámico), v, velocidad de mig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uego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= z/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       (Tiselius,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es la migración electroforética en solución, o también llamada migración específ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240" y="3276720"/>
            <a:ext cx="85550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lectroforesis en solu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fue reemplazada por la electroforesis en gel. En el caso de separar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realiza electroforesis denaturante en geles de poliacrilamida (SDS-PAGE, del inglés “SDS-Polyacryl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l electroforesis). El gel funciona como soporte y es un medio poroso capaz de filtrar las proteínas por su tam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as moléculas pequeñas atraviesan el gel más rápido), mientras que el campo eléctrico aplicado sobre el ge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su separación por carga. La acción del detergente aniónico, SDS permite imprimirle a la proteína denatu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carga eléctrica negativa, aproximadamente proporcional a su masa. En SDS-PAGE, se cumple aproximadamente 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(A - logMW)/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nde MW, peso molecular en daltons (g/mol); A = logMWo, una especie de tamaño tal que no migraría en el g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migración en mm. Lueg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s inversamente proporcional al logMW, con una pendient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/A, y un intercepto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53360" y="290520"/>
            <a:ext cx="1574640" cy="378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767120" y="3938760"/>
            <a:ext cx="3799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79280" y="404640"/>
            <a:ext cx="7372440" cy="5851800"/>
            <a:chOff x="179280" y="404640"/>
            <a:chExt cx="7372440" cy="58518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79280" y="404640"/>
              <a:ext cx="7372440" cy="585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8828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2280"/>
            <a:ext cx="902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ESTERN BLO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erencia electrof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tica de proteínas desde un gel a u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ólida (ej. nitrocelulosa). Proteínas específicas son identificadas después de incubarlas con anticuerpos específicos y revelarla reacción antígeno-anticuerpo mediante una reacción coloreada o quimio-luminisc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ro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es un polímer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)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noá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Propiedades de los aminoá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504960" y="3808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STERN B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92320"/>
            <a:ext cx="755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 INCUBACION CON EL ANTICUERPO PRI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4. INCUBACION CON UN ANTICUERPO SECUNDARIO ACOPLADO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ENZIMA (FOSFATASA ALCALINA O PEROXID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. DETEC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760" y="27795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539424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TE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MOBI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3720" y="562932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1640" y="508176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PRIM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5234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280" y="3924360"/>
            <a:ext cx="22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ICUERPO SECU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8840" y="3301920"/>
            <a:ext cx="15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Z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FA/PEROXID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74960" y="3524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40654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74960" y="3124080"/>
            <a:ext cx="2352600" cy="296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429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627120"/>
            <a:ext cx="7232760" cy="6235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4640" y="228600"/>
            <a:ext cx="77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s pr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nas también pueden ser separadas por su punto isoeléct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835520" cy="548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375000" cy="5791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52280"/>
            <a:ext cx="44956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electroenfo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a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migran en un campo eléctrico a través de una gradiente de pH. Las proteínas dejan de migrar cuando encuentran el pH que corresponde a su pI (z=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54040" y="87480"/>
            <a:ext cx="4015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foresis 2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es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 de un isoelectroenfo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corre un SDS-PAGE y se obtiene una se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2 dimensiones. Permite el análisis de mues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niendo muchas proteínas distintas. Se usa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óm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607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00080" y="228600"/>
            <a:ext cx="67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s también pueden ser separadas sólo por su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2880" y="60480"/>
            <a:ext cx="61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Filtración en Gel (o de exclusión molecul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7320" y="457200"/>
            <a:ext cx="426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matriz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da porosa permite incluir en ella proteí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bajo peso molecular (eluyen tardiamente de la colum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que recoren un camino más largo), y excluir proteín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 peso molecular (que no caben en los poros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 sólida. La separación ocurre en solu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696440" cy="5226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38240" y="5181480"/>
            <a:ext cx="6997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v = (Ve - Vo)/(Vt-Vo); donde Vo, volumen de exclu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; Ve, volumen de elución; Vt, volumen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06200" y="154080"/>
            <a:ext cx="539568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intercambio cati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sólida (fase estacionaria) está cargada negativ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mdo que interactúa con cationes (cationes son retardados en la column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entras que los aniones son repelidos y eluyen inmediat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ationes pueden ser eluidos después de adicionar cat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interactúen con la matriz, permitiendo la elución de proteínas básic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o es, cargadas positivamente. El mismo principio es usado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r cromatografías de intercambio aniónico, sólo que en este ca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atriz está cargada positivamente y permite el intercambio de an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teínas cargadas negativamente, proteínas ácida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9360" y="2625840"/>
            <a:ext cx="26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os son casos de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intercambio ió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24000" y="3049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200" y="1254240"/>
            <a:ext cx="39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un ligand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o de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 de interés está unido coval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matriz sólida. La proteína que une el lig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anece incluída en la columna, y puede 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uida por la adición de ligando soluble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fase móvil (solución). Se utiliza en los últimos p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una purificación. Es ampliamente usad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urificación de proteínas recombin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2356" t="0" r="4008" b="0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1066680"/>
            <a:ext cx="3809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romatogra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 ocupa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proteínas en estado nativo, de modo que per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r proteínas que interactúan con otras for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jos que pueden tener un significado fun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ués de un análisis electroforético, los 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complejo pueden llegar a ser ident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58920" y="914400"/>
            <a:ext cx="5856480" cy="5943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1560" y="187200"/>
            <a:ext cx="79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de afinidad se puede usar a gran escala para probar interacciones pr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a -proteína de una co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roductos génicos. Es una aproximación usada en análisis proteó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038480" cy="334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5080" y="4343400"/>
            <a:ext cx="666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e un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o une un grupo carboxil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grupo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84132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840" y="304920"/>
            <a:ext cx="83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la medida que se progresa en la purifica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proteínas, se pierde actividad total, pero se gana actividad espec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640320" y="10018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munoprecipit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440" y="18288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dem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.davidson.edu/courses/GENOMICS/IMPfolder/IMP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2880" y="28954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incipio es similar al de la cromatogra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de afinidad, sólo que se hace en ausencia de una colum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ticuerpo específico se une a bolitas de sefarosa. Dado el tamaño de las partículas de sefaros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la precipitación del antígeno específico, y tambien permite co-precipitar otras proteínas que interactúan 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ína de inte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2330" t="3795" r="1589" b="0"/>
          <a:stretch/>
        </p:blipFill>
        <p:spPr>
          <a:xfrm>
            <a:off x="1187280" y="1523880"/>
            <a:ext cx="52642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0080" y="177840"/>
            <a:ext cx="858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Doble 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brido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ermite identificar interacciones entre proteín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viv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roteína de fusión con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io de unión a DNA sirve como carnada, mientras que una proteína de fusión con un dominio de activación sirve co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a. Cuando el dominio de activación y el dominio de unión a DNA se encuentran cerca, producto d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 la proteína carnada y la proteína presa, se activa la transcripción de un gen reportero que evidencia que la inte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urrió. Todo el sistema debe ser expresado en una misma célula, usualmente en levad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8800" y="351000"/>
            <a:ext cx="89805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efactos del sistema de doble híb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posi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un factor de transcripción es usado como 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interacciones in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cebo o la presa afectan la viabilida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entos aleatorios de origen descono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lsos nega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dimento estérico entre las proteínas de fusión previene la función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estabilidad de las proteínas de f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a en la localización subcelular relevante para la actividad del repor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ntificación de los Artefa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 Confirmar la reproducibilidad de la inte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 Uso de múltiples repor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 Uso de métodos independientes para determinar 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33480" y="1143000"/>
            <a:ext cx="91951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ble híbr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mple, barato y sens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s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ctrometría de Mas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o, sofist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ent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ips de proteína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finid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ten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fisiológico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*) Requiere purificación de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hninger, A. (1994) Principles of Biochemistry. 3rd 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info.org.cn/book/biochemistry/conten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hews &amp; van Holde (1999).  Bio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w-bc.com/mathew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97512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440" y="136440"/>
            <a:ext cx="862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estructura te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drica regular del átomo de carbono permite enlazar un máximo de 4 sustituyentes distintos. Dos isómeros son posibles. Uno, y su imagen en el espejo (enantiómeros). La relación de enantiomería es llamada quir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026560" cy="430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6480" y="4038480"/>
            <a:ext cx="708588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ami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 denota quiral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pacidad de desviar el plano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uz polarizada hacia l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levo-rot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22756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609480"/>
            <a:ext cx="2819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cialmente, con 20 ami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podrían form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400 d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8000 tripéptidos difer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1.27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ínas diferentes conten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0 residuos de aminoác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número de átomos del uni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estimada en 9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aminoácidos pueden diferenciarse por su polar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iedades ácido-b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rofobicidad, tamaño, flexibilidad conformacional, reactividad química, capacidad de formar puentes de hidró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3:52:12Z</dcterms:created>
  <dc:creator>Paulina La Bella</dc:creator>
  <dc:description/>
  <dc:language>en-US</dc:language>
  <cp:lastModifiedBy>Gina</cp:lastModifiedBy>
  <dcterms:modified xsi:type="dcterms:W3CDTF">2008-08-25T20:04:02Z</dcterms:modified>
  <cp:revision>51</cp:revision>
  <dc:subject/>
  <dc:title>Diapositiva 1</dc:title>
</cp:coreProperties>
</file>