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wmf" ContentType="image/x-wmf"/>
  <Override PartName="/ppt/media/image9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32.png" ContentType="image/png"/>
  <Override PartName="/ppt/media/image69.png" ContentType="image/png"/>
  <Override PartName="/ppt/media/image2.png" ContentType="image/png"/>
  <Override PartName="/ppt/media/image14.png" ContentType="image/png"/>
  <Override PartName="/ppt/media/image24.png" ContentType="image/png"/>
  <Override PartName="/ppt/media/image58.wmf" ContentType="image/x-wmf"/>
  <Override PartName="/ppt/media/image20.png" ContentType="image/png"/>
  <Override PartName="/ppt/media/image59.wmf" ContentType="image/x-wmf"/>
  <Override PartName="/ppt/media/image21.png" ContentType="image/png"/>
  <Override PartName="/ppt/media/image22.png" ContentType="image/png"/>
  <Override PartName="/ppt/media/image23.png" ContentType="image/png"/>
  <Override PartName="/ppt/media/image57.wmf" ContentType="image/x-wmf"/>
  <Override PartName="/ppt/media/image74.png" ContentType="image/png"/>
  <Override PartName="/ppt/media/image25.png" ContentType="image/png"/>
  <Override PartName="/ppt/media/image62.png" ContentType="image/png"/>
  <Override PartName="/ppt/media/image73.png" ContentType="image/png"/>
  <Override PartName="/ppt/media/image72.png" ContentType="image/png"/>
  <Override PartName="/ppt/media/image70.png" ContentType="image/png"/>
  <Override PartName="/ppt/media/image68.wmf" ContentType="image/x-wmf"/>
  <Override PartName="/ppt/media/image28.png" ContentType="image/png"/>
  <Override PartName="/ppt/media/image71.png" ContentType="image/png"/>
  <Override PartName="/ppt/media/image29.png" ContentType="image/png"/>
  <Override PartName="/ppt/media/image67.wmf" ContentType="image/x-wmf"/>
  <Override PartName="/ppt/media/image27.png" ContentType="image/png"/>
  <Override PartName="/ppt/media/image31.png" ContentType="image/png"/>
  <Override PartName="/ppt/media/image66.png" ContentType="image/png"/>
  <Override PartName="/ppt/media/image65.png" ContentType="image/png"/>
  <Override PartName="/ppt/media/image26.png" ContentType="image/png"/>
  <Override PartName="/ppt/media/image63.png" ContentType="image/png"/>
  <Override PartName="/ppt/media/image60.jpeg" ContentType="image/jpeg"/>
  <Override PartName="/ppt/media/image64.png" ContentType="image/png"/>
  <Override PartName="/ppt/media/image15.png" ContentType="image/png"/>
  <Override PartName="/ppt/media/image3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.png" ContentType="image/png"/>
  <Override PartName="/ppt/media/image13.png" ContentType="image/png"/>
  <Override PartName="/ppt/media/image33.png" ContentType="image/png"/>
  <Override PartName="/ppt/media/image54.jpeg" ContentType="image/jpeg"/>
  <Override PartName="/ppt/media/image61.wmf" ContentType="image/x-wmf"/>
  <Override PartName="/ppt/media/image3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F4EBB-72FD-40EA-A53B-4B0B17B7C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A7844-EA20-4B5C-A05A-F67BCFB2E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5AADD-3361-4EF8-A90B-E7DEBB894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77E83-5419-41FD-8C5F-F64E882C0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2189A-3CE7-4412-AA3B-DD3A2FAED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1DF45-D461-4C9F-B5BC-D9B3281E2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6C9D9-6416-447D-8186-15F811FFF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321D2-288A-43BC-8FA9-3A0FF7F19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AFFA1-5712-4FC5-B45B-E6F4BC052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0FD2E-2E04-4D25-9B45-FDE956105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54AFB-30A8-436A-93EA-B8560F974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5F2CC-8A9B-40F4-9007-02BE0088C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D5E4F-1737-43B7-A0CE-EEF6E69671E5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1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slideLayout" Target="../slideLayouts/slideLayout8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image" Target="../media/image47.png"/><Relationship Id="rId4" Type="http://schemas.openxmlformats.org/officeDocument/2006/relationships/image" Target="../media/image48.png"/><Relationship Id="rId5" Type="http://schemas.openxmlformats.org/officeDocument/2006/relationships/slideLayout" Target="../slideLayouts/slideLayout1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png"/><Relationship Id="rId3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2.png"/><Relationship Id="rId3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4.jpeg"/><Relationship Id="rId3" Type="http://schemas.openxmlformats.org/officeDocument/2006/relationships/image" Target="../media/image55.png"/><Relationship Id="rId4" Type="http://schemas.openxmlformats.org/officeDocument/2006/relationships/slideLayout" Target="../slideLayouts/slideLayout8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7.wmf"/><Relationship Id="rId2" Type="http://schemas.openxmlformats.org/officeDocument/2006/relationships/image" Target="../media/image58.wmf"/><Relationship Id="rId3" Type="http://schemas.openxmlformats.org/officeDocument/2006/relationships/image" Target="../media/image59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image" Target="../media/image61.wmf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4.png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image" Target="../media/image67.wmf"/><Relationship Id="rId3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68.wmf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69.png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70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71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7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73.pn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74.pn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hyperlink" Target="http://www.bioinfo.org.cn/book/biochemistry/contents.htm" TargetMode="External"/><Relationship Id="rId2" Type="http://schemas.openxmlformats.org/officeDocument/2006/relationships/hyperlink" Target="http://www.aw-bc.com/mathews/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965240" y="1560600"/>
            <a:ext cx="6569280" cy="173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roducci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 a las Proteín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rlos Morgan S., Ph.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TA, Universidad de Ch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828800" y="304920"/>
            <a:ext cx="5589720" cy="58672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355040" y="6324480"/>
            <a:ext cx="660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s cadenas laterales de estos amino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ácidos son capaces de establecer puentes de Hidróge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8382240" cy="42451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304920" y="5257800"/>
            <a:ext cx="8610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 oxidac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 de 2 cisteínas vecinas permite forma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uentes di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úlfuro. Estos enlaces pueden unir covalentemente cadenas polipeptídicas diferentes o también imponerle restricciones espaciales a una misma cadena polipeptídic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57200" y="1066680"/>
            <a:ext cx="7569360" cy="543564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683440" y="304920"/>
            <a:ext cx="60436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El agua tiene la estructura de un dipolo el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éctrico gracias a la alta electronegativi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l oxígeno en relación al hidrógeno, de modo que los electrones de enlace tiend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 acercarse hacia el oxígeno. Este dipolo no posee cargas formales sino que se gen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a por una distribución asimétrica de los electrones de enlace. Permite la formació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 puentes de Hidrógen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965160" y="762120"/>
            <a:ext cx="7213680" cy="53337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588240" y="304920"/>
            <a:ext cx="7503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jemplos de polaridad. Una mo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écula lineal será apolar cuando los vectores que forman el dipolo se anula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558880" y="711360"/>
            <a:ext cx="4026240" cy="54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558720" y="1962000"/>
            <a:ext cx="8026560" cy="29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676520" y="1143000"/>
            <a:ext cx="5715000" cy="55720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09480" y="304920"/>
            <a:ext cx="8077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Las cadenas laterales no polares interact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úan a través de interacciones hidrofóbicas, tales co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teracciones de Van der Waals, que corresponden a interacciones débiles, en estrechos rangos 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stancia (en el radio de Van der Waals). Los grupos apolares son incapaces de formar interacci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olares, tales como puentes de Hidrógeno o interacciones iónic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5715000" y="380880"/>
            <a:ext cx="2819520" cy="40770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228600" y="457200"/>
            <a:ext cx="5472000" cy="370836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228600" y="4724280"/>
            <a:ext cx="8458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s residuos aro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áticos absorben luz ultravioleta, alrededor de los 280 nm de longitud de onda. Estos grupos son capaces de formar interacciones hidrofóbicas, principalmente entre grupos aromátic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08000" y="1447920"/>
            <a:ext cx="8972640" cy="304776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380880" y="5638680"/>
            <a:ext cx="83059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, absorbancia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intensidad de luz incidente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tensidad de luz transmitida al atravesar la muestra en un trayec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3840" y="380880"/>
            <a:ext cx="84582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 cro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foro es una molécula capaz de absorber luz en un cierto rango de longitudes de onda característico, en el espectro UV-VIS. La absorbancia de un compuesto en solución es medida en un espectrofotómetro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88920" y="3581280"/>
            <a:ext cx="1238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amento 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ngsteno: V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uterio: U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807200" y="3581280"/>
            <a:ext cx="2145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ecciona rangos estrech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longitud de ond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200" y="502920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A &gt; 0; I &lt;  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743560" y="4952880"/>
            <a:ext cx="202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log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o/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18280" y="4994280"/>
            <a:ext cx="382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l   (Ec. de Lambert-Be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752480" y="304920"/>
            <a:ext cx="6019920" cy="37908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605520" y="4572000"/>
            <a:ext cx="798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 forma de zwitterion predomina a pH fisio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g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066680" y="1143000"/>
            <a:ext cx="6645240" cy="35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ni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ciones 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ásicas de Proteínas: Aminoácidos; Quiralidad; Polaridad; Interacciones no covalentes; Absorbancia; Acidez y Basicidad; Enlace Peptídico; Estructura I, II, III, IV; Plegamiento; Denaturación; Clasificación de Proteínas; Fun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828800" y="2819520"/>
            <a:ext cx="5715000" cy="21715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609480" y="762120"/>
            <a:ext cx="80200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 ecuac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 de Henderson-Hasselbach rige la disociación de cualquier ácido o base débil a un pH determinado. Sin embargo, no predice el comportamiento de un poliácido, tal como una proteín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69320" y="5105520"/>
            <a:ext cx="308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de,        HA          H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 A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514600" y="5257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2514600" y="53341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4114800" y="5083200"/>
            <a:ext cx="1822320" cy="785880"/>
            <a:chOff x="4114800" y="5083200"/>
            <a:chExt cx="1822320" cy="785880"/>
          </a:xfrm>
        </p:grpSpPr>
        <p:sp>
          <p:nvSpPr>
            <p:cNvPr id="86" name=""/>
            <p:cNvSpPr/>
            <p:nvPr/>
          </p:nvSpPr>
          <p:spPr>
            <a:xfrm>
              <a:off x="4114800" y="5083200"/>
              <a:ext cx="1822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 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Ka =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[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][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]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>
              <a:off x="4952520" y="5464080"/>
              <a:ext cx="76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938480" y="550080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[HA]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6314400" y="5218200"/>
            <a:ext cx="130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 = -log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5410080" y="609480"/>
            <a:ext cx="3289320" cy="59803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34920" y="457200"/>
            <a:ext cx="4759200" cy="62118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2520000" y="228600"/>
            <a:ext cx="177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 = - log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[H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  <a:ea typeface="ＭＳ Ｐゴシック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2209680" y="304920"/>
            <a:ext cx="4762800" cy="40384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1482840" y="4724280"/>
            <a:ext cx="593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as lateral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ácidas, pueden formar interacciones iónicas, dependientes del 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828800" y="609480"/>
            <a:ext cx="5410080" cy="40388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946800" y="4835520"/>
            <a:ext cx="652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tas cadenas laterales tienen propiedad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ácido-base, pueden formar interacciones iónic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836640" y="1989000"/>
            <a:ext cx="3181320" cy="40770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724280" y="2133720"/>
            <a:ext cx="3886200" cy="40766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768600" y="762120"/>
            <a:ext cx="7955640" cy="6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 punto isoe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éctrico (pI) corresponde al valor de pH al cuál una molécula tiene carga neta (z) igual a cer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n un zwitterion simple, pI = (pK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+ pK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)/2 (a); Para un aminoácido de cadena lateral ácido-base, pI es el promed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 los pK entre la especie con carga +1 y -1 (b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77880" y="1643040"/>
            <a:ext cx="7924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 =         +1                           0                          -1                                     +2                   +1                    0                     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219320" y="228600"/>
            <a:ext cx="708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álculo del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unto iso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éctrico (pI) de un aminoáci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437200" y="599112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(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324000" y="115920"/>
            <a:ext cx="8351640" cy="671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226880" y="2590920"/>
            <a:ext cx="676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Niveles de la estructura de las pro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nas y métodos de análi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057400" y="380880"/>
            <a:ext cx="5162400" cy="386244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1077120" y="4726080"/>
            <a:ext cx="738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 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éptido se define por la formación de al menos un enlace peptídic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l enlace peptídico se forma entre un grupo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mino y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rboxil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venientes de dos aminoácid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2657520" y="1162080"/>
            <a:ext cx="3828960" cy="407664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459000" y="263520"/>
            <a:ext cx="7590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 estructura primaria de una prot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na es su secuencia de aminoácidos, es carácterística de cada proteína 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uede ser determinada mediante métodos químicos o físico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371600" y="585720"/>
            <a:ext cx="7183440" cy="618336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220320" y="152280"/>
            <a:ext cx="8290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 degradac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 de Edman (c) es un método químico para determinar la secuencia de aminoácidos (estructura primari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n una cadena polipeptídic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58720" y="1206360"/>
            <a:ext cx="8026560" cy="444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228600" y="533520"/>
            <a:ext cx="4537080" cy="3671640"/>
          </a:xfrm>
          <a:prstGeom prst="rect">
            <a:avLst/>
          </a:prstGeom>
          <a:ln w="0">
            <a:noFill/>
          </a:ln>
        </p:spPr>
      </p:pic>
      <p:grpSp>
        <p:nvGrpSpPr>
          <p:cNvPr id="112" name=""/>
          <p:cNvGrpSpPr/>
          <p:nvPr/>
        </p:nvGrpSpPr>
        <p:grpSpPr>
          <a:xfrm>
            <a:off x="4932360" y="1079640"/>
            <a:ext cx="4103640" cy="4797360"/>
            <a:chOff x="4932360" y="1079640"/>
            <a:chExt cx="4103640" cy="4797360"/>
          </a:xfrm>
        </p:grpSpPr>
        <p:pic>
          <p:nvPicPr>
            <p:cNvPr id="113" name="" descr=""/>
            <p:cNvPicPr/>
            <p:nvPr/>
          </p:nvPicPr>
          <p:blipFill>
            <a:blip r:embed="rId2"/>
            <a:stretch/>
          </p:blipFill>
          <p:spPr>
            <a:xfrm>
              <a:off x="4932360" y="1079640"/>
              <a:ext cx="4103640" cy="3078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" name="" descr=""/>
            <p:cNvPicPr/>
            <p:nvPr/>
          </p:nvPicPr>
          <p:blipFill>
            <a:blip r:embed="rId3"/>
            <a:srcRect l="0" t="37752" r="0" b="0"/>
            <a:stretch/>
          </p:blipFill>
          <p:spPr>
            <a:xfrm>
              <a:off x="4932360" y="3961080"/>
              <a:ext cx="4103640" cy="19159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179280" y="4089240"/>
            <a:ext cx="4753080" cy="231624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457200" y="228600"/>
            <a:ext cx="815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 espectromet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a de masas es un método físico usado para determinar la estructura primaria de una proteí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228600" y="1744560"/>
            <a:ext cx="8763120" cy="443556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593640" y="212760"/>
            <a:ext cx="8245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l enlace pep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dico define a un péptido, y tiene carácter parcial de doble enlace. Por ello, el enlace peptídico es plano y no permite la libre rotación de sus sustituyent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358920" y="762120"/>
            <a:ext cx="8785080" cy="261288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609480" y="4140360"/>
            <a:ext cx="8305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ángulos de torsión en torno al Carbono alfa permiten flexibilidad conformacional a la cadena principal (cadena polipeptídica, sin considerar los grupos de cadena lateral, carácterísticos de cada aminoácid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981080" y="685800"/>
            <a:ext cx="5248440" cy="61722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430200" y="152280"/>
            <a:ext cx="8340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 subconjunto restringido de valores para lo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ángulos de torsión de la cadena principal son observados en proteínas 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 pueden distinguir rangos de valores esperados para cada estructura secundari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0" y="914400"/>
            <a:ext cx="4724280" cy="455436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4572000" y="1219320"/>
            <a:ext cx="4392720" cy="36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 prot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na para ser funcional adopta una estructu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finida, llamada usualmente su estado nativ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naturación: El estado nativo se puede per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or la acción de la temperatura, fuerza iónica, detergentes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gentes oxidantes, y caotrópico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Principio de Anfins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La estructura tridimensional de una proteí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está determinada por la secuencia de aminoácidos”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ese a numerosos progresos, el código de plegamiento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s decir, la predicción del estado nativo en base a l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cuencia de aminoácidos aún no ha sido elucidad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0" y="1066680"/>
            <a:ext cx="9144000" cy="32418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2438280" y="380880"/>
            <a:ext cx="472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iveles de la estructura de prot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ín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50120" y="4454640"/>
            <a:ext cx="1211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: secuencia 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ino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ácid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753200" y="4454640"/>
            <a:ext cx="17380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I: Estructura 3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tabilizada p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entes de Hid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ge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 cadena princip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establecidos por 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rupo amida forma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or el enlace peptídi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976200" y="4378320"/>
            <a:ext cx="251244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II: Estructura 3D de un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a polipep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dic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leta. Involucra arreglos 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structura II (estructura super-II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 interacciones de cadena lateral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diante puentes de Hidrógeno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teracciones hidrofóbicas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teracciones iónicas (puen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alinos) y eventualmente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uentes disúlfur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580800" y="4378320"/>
            <a:ext cx="25354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V: Ensamble de caden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ipep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dicas en un complej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uncional. Todas las interacci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esentes en III pueden est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esentes en I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279440" y="1306440"/>
            <a:ext cx="4022640" cy="50641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5622840" y="1077840"/>
            <a:ext cx="2073240" cy="21859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6004080" y="3135240"/>
            <a:ext cx="1054080" cy="341784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2212920" y="380880"/>
            <a:ext cx="434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structuras secundarias: el alfa 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él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914400" y="938160"/>
            <a:ext cx="7467480" cy="591984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674640" y="228600"/>
            <a:ext cx="798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Hoja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antiparalel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(los puentes de H corren perpendiculares a la cadena principal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na hoja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es el arreglo de varias hebras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066680" y="838080"/>
            <a:ext cx="6919920" cy="578484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596160" y="304920"/>
            <a:ext cx="759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oja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paralel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Los puentes de H corren oblicuos a la cadena princip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834840" y="212760"/>
            <a:ext cx="695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terminac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 experimental del contenido de estructuras secundar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5105520" y="990720"/>
            <a:ext cx="3582720" cy="518148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630360" y="1254240"/>
            <a:ext cx="4390200" cy="254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s estructuras secundarias de prot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nas pued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r determinadas mediante dicroísmo circular, u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écnica, en principio, similar al de la espectrofotometrí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ólo que ahora se incide luz circularmente polariza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bre la muestra. Para la luz polarizada en cada sentid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izquierda o derecha), una molécula quiralpresenta d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alores de su coeficiente de extinción mola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y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. La diferencia entre ambas (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) es graficada contr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 longitud de onda incidente y se obtiene un espect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 dicroísmo circular. En la figura se muestran los espec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ros carácterísticos de alfa hélice (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), hoja b (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) y una cade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sestructurada (random coil, rc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868480" y="0"/>
            <a:ext cx="3407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0" y="241200"/>
            <a:ext cx="9144000" cy="591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66680" y="620640"/>
            <a:ext cx="4189320" cy="267192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4643280" y="549360"/>
            <a:ext cx="3924360" cy="296208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324000" y="3373560"/>
            <a:ext cx="4319280" cy="307980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4"/>
          <a:stretch/>
        </p:blipFill>
        <p:spPr>
          <a:xfrm>
            <a:off x="4714920" y="3573360"/>
            <a:ext cx="4321080" cy="268128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223560" y="228600"/>
            <a:ext cx="892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strucutra Super Secundaria (super-II)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Correspopnde a arrreglos regulares de estructuras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3506760" y="0"/>
            <a:ext cx="5637240" cy="685800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135720" y="187200"/>
            <a:ext cx="4021200" cy="64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 asume que la estructura nati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responde al 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nimo energéti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lobal. Sin embargo, numerosos mínimos loc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ueden ser identificados. Algunos de ellos pued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rresponder a intermediarios en el cami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 plegamiento de la proteín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aradoja de Levinthal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l tiempo en segundos, requerido pa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e una proteína explore todas las conformaci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osibles se estima co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 = 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  <a:ea typeface="ＭＳ Ｐゴシック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/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  <a:ea typeface="ＭＳ Ｐゴシック"/>
              </a:rPr>
              <a:t>13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donde n = número de residuos en l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Estructura I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ara una proteína de 100 residuos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 = 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  <a:ea typeface="ＭＳ Ｐゴシック"/>
              </a:rPr>
              <a:t>87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Esto es mucho más que la edad 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Universo, estimada alrededor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20x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  <a:ea typeface="ＭＳ Ｐゴシック"/>
              </a:rPr>
              <a:t>9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años = 6x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  <a:ea typeface="ＭＳ Ｐゴシック"/>
              </a:rPr>
              <a:t>17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Luego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Es imposible que una proteín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explore todo su espacio conformac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para adoptar su estado nativo.  Cier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aminos de plegamiento deberían s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identificados para cada proteína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1432080" y="1332000"/>
            <a:ext cx="687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étodos de separación de proteínas</a:t>
            </a:r>
            <a:r>
              <a:rPr b="0" lang="en-US" sz="1800" spc="-1" strike="noStrike">
                <a:solidFill>
                  <a:srgbClr val="000000"/>
                </a:solidFill>
                <a:latin typeface="ヒラギノ角ゴ Pro W3"/>
                <a:ea typeface="ＭＳ Ｐゴシック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ヒラギノ角ゴ Pro W3"/>
                <a:ea typeface="ＭＳ Ｐゴシック"/>
              </a:rPr>
              <a:t>Electroforesis, cromatografías y Técnicas de afinida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838080" y="1430280"/>
            <a:ext cx="3533760" cy="353376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4572000" y="1419120"/>
            <a:ext cx="3544920" cy="354492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1828800" y="533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0000"/>
          </a:bodyPr>
          <a:p>
            <a:pPr marL="205560" indent="-20556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INMUNOFLUORESCEN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5560" indent="-20556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105520"/>
            <a:ext cx="8305920" cy="12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7000"/>
          </a:bodyPr>
          <a:p>
            <a:pPr marL="229680" indent="-2296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ANTICUERPO PRIMARIO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ANTI-TUBULINA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ANTI-ACTI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ANTICUERPO SECUNDAR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FLOURESCEINA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RODAMI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rcRect l="50628" t="44685" r="4088" b="31096"/>
          <a:stretch/>
        </p:blipFill>
        <p:spPr>
          <a:xfrm>
            <a:off x="5021280" y="3019320"/>
            <a:ext cx="2863800" cy="131616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2"/>
          <a:srcRect l="2260" t="15521" r="52288" b="60260"/>
          <a:stretch/>
        </p:blipFill>
        <p:spPr>
          <a:xfrm>
            <a:off x="1774800" y="3019320"/>
            <a:ext cx="2874960" cy="131616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1639800" y="476280"/>
            <a:ext cx="6172200" cy="12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INMUNOHISTOQUIMICA/INMUNOFLUORESCENC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DETECTA LA PRESENCIA DE UNA PROTEINA EN UNA CELULA/TEJIDO/ORGANISMO PERMITIENDO CONOCER SU EXPRESION ESPACI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215440" y="2060640"/>
            <a:ext cx="243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INMUNOFLUORESCENC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459160" y="2492280"/>
            <a:ext cx="12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A) DIREC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744880" y="2492280"/>
            <a:ext cx="138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B) INDIREC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126320" y="4729320"/>
            <a:ext cx="131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INCUBAC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318560" y="5238720"/>
            <a:ext cx="930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LAVA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853800" y="5715000"/>
            <a:ext cx="1861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VISUALIZACION 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MICROSCOPI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367080" y="4335480"/>
            <a:ext cx="1282680" cy="393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5028840" y="4335480"/>
            <a:ext cx="1282680" cy="393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6" name=""/>
          <p:cNvCxnSpPr>
            <a:stCxn id="161" idx="2"/>
            <a:endCxn id="162" idx="0"/>
          </p:cNvCxnSpPr>
          <p:nvPr/>
        </p:nvCxnSpPr>
        <p:spPr>
          <a:xfrm>
            <a:off x="4784400" y="5033520"/>
            <a:ext cx="1080" cy="205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7" name=""/>
          <p:cNvCxnSpPr>
            <a:stCxn id="162" idx="2"/>
            <a:endCxn id="163" idx="0"/>
          </p:cNvCxnSpPr>
          <p:nvPr/>
        </p:nvCxnSpPr>
        <p:spPr>
          <a:xfrm>
            <a:off x="4784400" y="5543640"/>
            <a:ext cx="1080" cy="172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2664720" y="457200"/>
            <a:ext cx="34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lectroforesis en soluci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ón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teor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í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70240" y="1025640"/>
            <a:ext cx="7918200" cy="195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foresis es una 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écnica de separación de proteínas y ácidos nucléicos basados en su migr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n un campo eléctrico. En solució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Ez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= 6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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r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Donde E, campo eléctrico; z, carga eléctrica del analito;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, viscosidad del medio; r, radio de Stokes (simil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l radio hidrodinámico), v, velocidad de migració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Luego,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o = z/6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r       (Tiselius, 193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Donde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o es la migración electroforética en solución, o también llamada migración específica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99240" y="3276720"/>
            <a:ext cx="8555040" cy="228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 electroforesis en soluc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 fue reemplazada por la electroforesis en gel. En el caso de separar proteín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 realiza electroforesis denaturante en geles de poliacrilamida (SDS-PAGE, del inglés “SDS-Polyacrylam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el electroforesis). El gel funciona como soporte y es un medio poroso capaz de filtrar las proteínas por su tamañ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las moléculas pequeñas atraviesan el gel más rápido), mientras que el campo eléctrico aplicado sobre el gel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ermite su separación por carga. La acción del detergente aniónico, SDS permite imprimirle a la proteína denatura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na carga eléctrica negativa, aproximadamente proporcional a su masa. En SDS-PAGE, se cumple aproximadamente qu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=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o (A - logMW)/A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Donde MW, peso molecular en daltons (g/mol); A = logMWo, una especie de tamaño tal que no migraría en el gel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, migración en mm. Luego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es inversamente proporcional al logMW, con una pendiente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o/A, y un intercepto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DS-P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250920" y="836640"/>
            <a:ext cx="4521240" cy="504036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6453360" y="290520"/>
            <a:ext cx="1574640" cy="378612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3"/>
          <a:stretch/>
        </p:blipFill>
        <p:spPr>
          <a:xfrm>
            <a:off x="4767120" y="3938760"/>
            <a:ext cx="379908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"/>
          <p:cNvGrpSpPr/>
          <p:nvPr/>
        </p:nvGrpSpPr>
        <p:grpSpPr>
          <a:xfrm>
            <a:off x="179280" y="404640"/>
            <a:ext cx="7372440" cy="5851800"/>
            <a:chOff x="179280" y="404640"/>
            <a:chExt cx="7372440" cy="5851800"/>
          </a:xfrm>
        </p:grpSpPr>
        <p:pic>
          <p:nvPicPr>
            <p:cNvPr id="176" name="" descr=""/>
            <p:cNvPicPr/>
            <p:nvPr/>
          </p:nvPicPr>
          <p:blipFill>
            <a:blip r:embed="rId1"/>
            <a:stretch/>
          </p:blipFill>
          <p:spPr>
            <a:xfrm>
              <a:off x="179280" y="404640"/>
              <a:ext cx="7372440" cy="58518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4267080" y="1600200"/>
            <a:ext cx="4267440" cy="426708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609480" y="1219320"/>
            <a:ext cx="2882880" cy="228600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3"/>
          <a:stretch/>
        </p:blipFill>
        <p:spPr>
          <a:xfrm>
            <a:off x="609480" y="3733920"/>
            <a:ext cx="2895840" cy="289548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0" y="152280"/>
            <a:ext cx="90266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WESTERN BLO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Transferencia electrofor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ética de proteínas desde un gel a una matriz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ólida (ej. nitrocelulosa). Proteínas específicas son identificadas después de incubarlas con anticuerpos específicos y revelarla reacción antígeno-anticuerpo mediante una reacción coloreada o quimio-luminiscen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295280" y="1828800"/>
            <a:ext cx="7315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a pro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na es un polímero d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L)-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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minoácid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. Propiedades de los aminoáci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3504960" y="380880"/>
            <a:ext cx="221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WESTERN BL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85800" y="1192320"/>
            <a:ext cx="75564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3. INCUBACION CON EL ANTICUERPO PRIMAR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4. INCUBACION CON UN ANTICUERPO SECUNDARIO ACOPLADO A UNA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  ENZIMA (FOSFATASA ALCALINA O PEROXIDAS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5. DETECC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56760" y="2779560"/>
            <a:ext cx="107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PROTEIN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482840" y="5394240"/>
            <a:ext cx="1390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PROTEIN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INMOBILIZAD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763720" y="5629320"/>
            <a:ext cx="493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881640" y="5081760"/>
            <a:ext cx="199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ANTICUERPO PRIMAR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849400" y="5234040"/>
            <a:ext cx="493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20280" y="3924360"/>
            <a:ext cx="225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ANTICUERPO SECUNDAR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338840" y="3301920"/>
            <a:ext cx="1535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ENZI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(FA/PEROXIDAS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874960" y="35244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874960" y="4065480"/>
            <a:ext cx="493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2874960" y="3124080"/>
            <a:ext cx="2352600" cy="29606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5486400" y="3124080"/>
            <a:ext cx="3429000" cy="29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1371600" y="627120"/>
            <a:ext cx="7232760" cy="623556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674640" y="228600"/>
            <a:ext cx="7748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as prot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ínas también pueden ser separadas por su punto isoeléctr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0" y="1066680"/>
            <a:ext cx="4835520" cy="548964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5410080" y="1066680"/>
            <a:ext cx="3375000" cy="579132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0" y="152280"/>
            <a:ext cx="449568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soelectroenfoqu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 Las prot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nas migran en un campo eléctrico a través de una gradiente de pH. Las proteínas dejan de migrar cuando encuentran el pH que corresponde a su pI (z=0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54040" y="87480"/>
            <a:ext cx="401544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lectroforesis 2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 Despu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és de un isoelectroenfoq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 corre un SDS-PAGE y se obtiene una separ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n 2 dimensiones. Permite el análisis de muestr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eniendo muchas proteínas distintas. Se usa 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teómic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228600" y="609480"/>
            <a:ext cx="8458200" cy="607716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1000080" y="228600"/>
            <a:ext cx="677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s pro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nas también pueden ser separadas sólo por su tamañ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5016600" y="0"/>
            <a:ext cx="4127400" cy="68580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452880" y="60480"/>
            <a:ext cx="6110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romatograf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a de Filtración en Gel (o de exclusión molecula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27320" y="457200"/>
            <a:ext cx="42696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a matriz 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lida porosa permite incluir en ella proteín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 bajo peso molecular (eluyen tardiamente de la colum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orque recoren un camino más largo), y excluir proteínas 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yor peso molecular (que no caben en los poros de 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ase sólida. La separación ocurre en solució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152280" y="1523880"/>
            <a:ext cx="49532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609480" y="0"/>
            <a:ext cx="7696440" cy="522612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038240" y="5181480"/>
            <a:ext cx="6997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av = (Ve - Vo)/(Vt-Vo); donde Vo, volumen de exclus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; Ve, volumen de elución; Vt, volumen tot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256440" cy="685800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3706200" y="154080"/>
            <a:ext cx="5395680" cy="21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omatogra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a de intercambio catiónic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 matriz sólida (fase estacionaria) está cargada negativamen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 mdo que interactúa con cationes (cationes son retardados en la columna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ientras que los aniones son repelidos y eluyen inmediatamen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s cationes pueden ser eluidos después de adicionar cati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e interactúen con la matriz, permitiendo la elución de proteínas básicas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sto es, cargadas positivamente. El mismo principio es usado pa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alizar cromatografías de intercambio aniónico, sólo que en este caso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 matriz está cargada positivamente y permite el intercambio de ani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proteínas cargadas negativamente, proteínas ácidas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29360" y="2625840"/>
            <a:ext cx="2663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bos son casos de cromatograf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 intercambio iónic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4267080" y="0"/>
            <a:ext cx="4357800" cy="685800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1224000" y="304920"/>
            <a:ext cx="28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omatogra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a de afinida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58200" y="1254240"/>
            <a:ext cx="39189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 este caso, un ligando espe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fico de u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teína de interés está unido covalentemen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 la matriz sólida. La proteína que une el ligan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ermanece incluída en la columna, y puede s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luida por la adición de ligando soluble 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 fase móvil (solución). Se utiliza en los últimos pas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 una purificación. Es ampliamente usado 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 purificación de proteínas recombinant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rcRect l="2356" t="0" r="4008" b="0"/>
          <a:stretch/>
        </p:blipFill>
        <p:spPr>
          <a:xfrm>
            <a:off x="4103640" y="0"/>
            <a:ext cx="5040360" cy="685800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228600" y="1066680"/>
            <a:ext cx="38098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 cromatogra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a de afinidad ocupa muestr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 proteínas en estado nativo, de modo que perm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dentificar proteínas que interactúan con otras forman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lejos que pueden tener un significado funcion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spués de un análisis electroforético, los compone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l complejo pueden llegar a ser identificad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2158920" y="914400"/>
            <a:ext cx="5856480" cy="594360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241560" y="187200"/>
            <a:ext cx="7923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 principio de afinidad se puede usar a gran escala para probar interacciones prot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na -proteína de una colec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productos génicos. Es una aproximación usada en análisis proteómico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514600" y="609480"/>
            <a:ext cx="4038480" cy="33498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523880" y="441972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225080" y="4343400"/>
            <a:ext cx="6663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amin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ácido denota que un mis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rbono une un grupo carboxilo 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n grupo ami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841320"/>
            <a:ext cx="9144000" cy="601668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249840" y="304920"/>
            <a:ext cx="835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 la medida que se progresa en la purificac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 de proteínas, se pierde actividad total, pero se gana actividad específ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3640320" y="1001880"/>
            <a:ext cx="2460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munoprecipitac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919440" y="1828800"/>
            <a:ext cx="7212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 demo e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bio.davidson.edu/courses/GENOMICS/IMPfolder/IMP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42880" y="2895480"/>
            <a:ext cx="8064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 principio es similar al de la cromatograf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a de afinidad, sólo que se hace en ausencia de una column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n anticuerpo específico se une a bolitas de sefarosa. Dado el tamaño de las partículas de sefarosa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ermite la precipitación del antígeno específico, y tambien permite co-precipitar otras proteínas que interactúan c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 proteína de interé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rcRect l="2330" t="3795" r="1589" b="0"/>
          <a:stretch/>
        </p:blipFill>
        <p:spPr>
          <a:xfrm>
            <a:off x="1187280" y="1523880"/>
            <a:ext cx="5264280" cy="53341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460080" y="177840"/>
            <a:ext cx="85856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stema de Doble H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brido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Permite identificar interacciones entre proteínas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 vivo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na proteína de fusión con 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ominio de unión a DNA sirve como carnada, mientras que una proteína de fusión con un dominio de activación sirve co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esa. Cuando el dominio de activación y el dominio de unión a DNA se encuentran cerca, producto de la interac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ntre la proteína carnada y la proteína presa, se activa la transcripción de un gen reportero que evidencia que la interac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currió. Todo el sistema debe ser expresado en una misma célula, usualmente en levadur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18800" y="351000"/>
            <a:ext cx="8980560" cy="57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Artefactos del sistema de doble híbri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Falsos positiv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i un factor de transcripción es usado como ceb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or interacciones inespecíf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i el cebo o la presa afectan la viabilidad celula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ventos aleatorios de origen desconoci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Falsos negativ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mpedimento estérico entre las proteínas de fusión previene la función del reporte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nestabilidad de las proteínas de fus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alla en la localización subcelular relevante para la actividad del reporte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Identificación de los Artefact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1. Confirmar la reproducibilidad de la interac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2. Uso de múltiples reporte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3. Uso de métodos independientes para determinar especific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-33480" y="1143000"/>
            <a:ext cx="9195120" cy="45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Método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Ventajas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Desventaj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oble híbrido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imple, barato y sensible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alsos positi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in v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spectrometría de Masas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etecta complejos proteico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aro, sofistic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y lento (*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in v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hips de proteínas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ndiciones definida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otencialmen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in vitro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no fisiológico (*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(*) Requiere purificación de proteín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i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ehninger, A. (1994) Principles of Biochemistry. 3rd e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bioinfo.org.cn/book/biochemistry/contents.ht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Mathews &amp; van Holde (1999).  Biochemistr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aw-bc.com/mathews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3975120" cy="52578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36440" y="136440"/>
            <a:ext cx="8626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 estructura tetr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édrica regular del átomo de carbono permite enlazar un máximo de 4 sustituyentes distintos. Dos isómeros son posibles. Uno, y su imagen en el espejo (enantiómeros). La relación de enantiomería es llamada quiralida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609480" y="380880"/>
            <a:ext cx="8026560" cy="43056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996480" y="4038480"/>
            <a:ext cx="7085880" cy="20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-amin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ácido denota quiralidad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 capacidad de desviar el plano de l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uz polarizada hacia la izquier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levo-rotación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5227560" cy="53337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5638680" y="609480"/>
            <a:ext cx="2819520" cy="42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tencialmente, con 20 amino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ácid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 podrían forma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  <a:ea typeface="ＭＳ Ｐゴシック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=400 dipéptidos diferen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  <a:ea typeface="ＭＳ Ｐゴシック"/>
              </a:rPr>
              <a:t>3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=8000 tripéptidos diferen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  <a:ea typeface="ＭＳ Ｐゴシック"/>
              </a:rPr>
              <a:t>10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=1.27x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  <a:ea typeface="ＭＳ Ｐゴシック"/>
              </a:rPr>
              <a:t>13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teínas diferentes contenien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00 residuos de aminoácido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l número de átomos del univers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s estimada en 9x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  <a:ea typeface="ＭＳ Ｐゴシック"/>
              </a:rPr>
              <a:t>78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s aminoácidos pueden diferenciarse por su polaridad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piedades ácido-base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idrofobicidad, tamaño, flexibilidad conformacional, reactividad química, capacidad de formar puentes de hidrógen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18T13:52:12Z</dcterms:created>
  <dc:creator>Paulina La Bella</dc:creator>
  <dc:description/>
  <dc:language>en-US</dc:language>
  <cp:lastModifiedBy>Gina</cp:lastModifiedBy>
  <dcterms:modified xsi:type="dcterms:W3CDTF">2008-08-25T20:04:02Z</dcterms:modified>
  <cp:revision>51</cp:revision>
  <dc:subject/>
  <dc:title>Diapositiva 1</dc:title>
</cp:coreProperties>
</file>