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D0B8-034C-42EB-980F-1A5BA87B9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12A5-EE53-41FE-BCA3-6101D305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873B-6563-4BBA-AEC7-6BAFFF7E0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2686-8192-4E73-8B8B-F8B758EB7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6C1A-044F-452D-9FE8-67108EE5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71F2-9E99-4F18-9B71-B2022912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74F8-74BD-4A42-B1E4-713549F1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0B0E-32CE-4807-AE8C-E8F2B78C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11A5-0AD3-45C6-8F57-EBA86399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C200-EA68-49D8-B19B-4D2A1B70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67D2-0AF8-4692-B29B-2CF39658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453C-8D55-42D6-BCB0-8D8603DB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B348-DD96-4AF9-9A27-61EEEF07EC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ims003.jpg"/>
          <p:cNvPicPr/>
          <p:nvPr/>
        </p:nvPicPr>
        <p:blipFill>
          <a:blip r:embed="rId1"/>
          <a:srcRect l="52227" t="2960" r="0" b="53121"/>
          <a:stretch/>
        </p:blipFill>
        <p:spPr>
          <a:xfrm>
            <a:off x="3500280" y="571680"/>
            <a:ext cx="5351760" cy="5219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6"/>
          <p:cNvSpPr/>
          <p:nvPr/>
        </p:nvSpPr>
        <p:spPr>
          <a:xfrm>
            <a:off x="428760" y="1214280"/>
            <a:ext cx="29289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Este archivo es solo un conjunto de imágenes que creo les servirá para fijar ideas  gráficamente respecto de los eclips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No es una presentación como t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428760" y="5857920"/>
            <a:ext cx="289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Fuent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Calibri"/>
              </a:rPr>
              <a:t>Universe</a:t>
            </a: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 – R.Freedman, W. Kauffm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dims003.jpg"/>
          <p:cNvPicPr/>
          <p:nvPr/>
        </p:nvPicPr>
        <p:blipFill>
          <a:blip r:embed="rId1"/>
          <a:srcRect l="5504" t="53700" r="6054" b="2068"/>
          <a:stretch/>
        </p:blipFill>
        <p:spPr>
          <a:xfrm>
            <a:off x="304920" y="498600"/>
            <a:ext cx="8481960" cy="450216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2000160" y="5362560"/>
            <a:ext cx="507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El eclipse es posible solo en la configuración de más arriba y en la de la izquierda por que la línea de los nodos apunta hacia el sol y la luna esta en un no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dims004.jpg"/>
          <p:cNvPicPr/>
          <p:nvPr/>
        </p:nvPicPr>
        <p:blipFill>
          <a:blip r:embed="rId1"/>
          <a:srcRect l="2450" t="0" r="2450" b="0"/>
          <a:stretch/>
        </p:blipFill>
        <p:spPr>
          <a:xfrm>
            <a:off x="571680" y="428760"/>
            <a:ext cx="8215200" cy="464976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1428840" y="5143680"/>
            <a:ext cx="6500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Geometría del Eclipse:  aquí se ven claramente los distintos sectores de sombra, y los 3 tipos de eclipses lunares posib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enumb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arc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dims005.jpg"/>
          <p:cNvPicPr/>
          <p:nvPr/>
        </p:nvPicPr>
        <p:blipFill>
          <a:blip r:embed="rId1"/>
          <a:srcRect l="5229" t="1247" r="3276" b="3048"/>
          <a:stretch/>
        </p:blipFill>
        <p:spPr>
          <a:xfrm>
            <a:off x="500040" y="357120"/>
            <a:ext cx="4687920" cy="52866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5429160" y="642960"/>
            <a:ext cx="3214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Geometría del eclipse Sola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orque la Luna y el Sol tienen el mismo diámetro angular en el cielo,  la Luna puede tapar justo el disco so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ero también por esta razón, solo la punta del cono de umbra llega a la Tierra, de tal modo que el eclipse total se ve solo en una pequeña reg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Mientras dura el eclipse (más de 1 hr) este punto se mueve en la superficie terrest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dims006.jpg"/>
          <p:cNvPicPr/>
          <p:nvPr/>
        </p:nvPicPr>
        <p:blipFill>
          <a:blip r:embed="rId1"/>
          <a:srcRect l="1971" t="0" r="2777" b="5318"/>
          <a:stretch/>
        </p:blipFill>
        <p:spPr>
          <a:xfrm>
            <a:off x="1071720" y="285840"/>
            <a:ext cx="7143480" cy="479268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2286000" y="5354640"/>
            <a:ext cx="41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Mapa de las trayectorias de los eclipses solares totales de diversos añ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01:19:17Z</dcterms:created>
  <dc:creator>Windows User</dc:creator>
  <dc:description/>
  <dc:language>en-US</dc:language>
  <cp:lastModifiedBy>Windows User</cp:lastModifiedBy>
  <dcterms:modified xsi:type="dcterms:W3CDTF">2008-08-27T01:56:29Z</dcterms:modified>
  <cp:revision>4</cp:revision>
  <dc:subject/>
  <dc:title>Slide 1</dc:title>
</cp:coreProperties>
</file>