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6562-5F72-4D35-8EF1-DB09D9FC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DE28-7FD6-4A67-8C93-03D74BBC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B0C6-A2A0-42D8-A5CB-06AB0E0C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AA78-D0E9-443E-A395-2A49F7B9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B1CF-7E4A-4312-91C2-CACF8745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2E42-BC8C-47FC-965D-9B4D7B0E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18FF-D4DB-4712-A99B-6F99170E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C769-3B65-48BB-B47E-305E8134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622A-A840-418B-B071-F1179AA8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B86F-6C61-4D11-9D12-62D51D38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A955-BE01-4ECC-9DBA-46894537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782E-B913-4B94-ABDF-624B9AAA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C889-2C1D-4A9C-B342-BF99804A6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ims003.jpg"/>
          <p:cNvPicPr/>
          <p:nvPr/>
        </p:nvPicPr>
        <p:blipFill>
          <a:blip r:embed="rId1"/>
          <a:srcRect l="52227" t="2960" r="0" b="53121"/>
          <a:stretch/>
        </p:blipFill>
        <p:spPr>
          <a:xfrm>
            <a:off x="3500280" y="571680"/>
            <a:ext cx="5351760" cy="5219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428760" y="1214280"/>
            <a:ext cx="2928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Este archivo es solo un conjunto de imágenes que creo les servirá para fijar ideas  gráficamente respecto de los eclip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No es una presentación como t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428760" y="5857920"/>
            <a:ext cx="289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Fuent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Calibri"/>
              </a:rPr>
              <a:t>Universe</a:t>
            </a: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 – R.Freedman, W. Kauffm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ims003.jpg"/>
          <p:cNvPicPr/>
          <p:nvPr/>
        </p:nvPicPr>
        <p:blipFill>
          <a:blip r:embed="rId1"/>
          <a:srcRect l="5504" t="53700" r="6054" b="2068"/>
          <a:stretch/>
        </p:blipFill>
        <p:spPr>
          <a:xfrm>
            <a:off x="304920" y="498600"/>
            <a:ext cx="8481960" cy="45021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2000160" y="5362560"/>
            <a:ext cx="507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l eclipse es posible solo en la configuración de más arriba y en la de la izquierda por que la línea de los nodos apunta hacia el sol y la luna esta en un no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ims004.jpg"/>
          <p:cNvPicPr/>
          <p:nvPr/>
        </p:nvPicPr>
        <p:blipFill>
          <a:blip r:embed="rId1"/>
          <a:srcRect l="2450" t="0" r="2450" b="0"/>
          <a:stretch/>
        </p:blipFill>
        <p:spPr>
          <a:xfrm>
            <a:off x="571680" y="428760"/>
            <a:ext cx="8215200" cy="464976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1428840" y="5143680"/>
            <a:ext cx="650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Geometría del Eclipse:  aquí se ven claramente los distintos sectores de sombra, y los 3 tipos de eclipses lunares posib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enumb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ar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ims005.jpg"/>
          <p:cNvPicPr/>
          <p:nvPr/>
        </p:nvPicPr>
        <p:blipFill>
          <a:blip r:embed="rId1"/>
          <a:srcRect l="5229" t="1247" r="3276" b="3048"/>
          <a:stretch/>
        </p:blipFill>
        <p:spPr>
          <a:xfrm>
            <a:off x="500040" y="357120"/>
            <a:ext cx="4687920" cy="5286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5429160" y="642960"/>
            <a:ext cx="3214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Geometría del eclipse Sola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orque la Luna y el Sol tienen el mismo diámetro angular en el cielo,  la Luna puede tapar justo el disco so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ero también por esta razón, solo la punta del cono de umbra llega a la Tierra, de tal modo que el eclipse total se ve solo en una pequeña reg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ientras dura el eclipse (más de 1 hr) este punto se mueve en la superficie terres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dims006.jpg"/>
          <p:cNvPicPr/>
          <p:nvPr/>
        </p:nvPicPr>
        <p:blipFill>
          <a:blip r:embed="rId1"/>
          <a:srcRect l="1971" t="0" r="2777" b="5318"/>
          <a:stretch/>
        </p:blipFill>
        <p:spPr>
          <a:xfrm>
            <a:off x="1071720" y="285840"/>
            <a:ext cx="7143480" cy="47926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286000" y="53546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apa de las trayectorias de los eclipses solares totales de diversos añ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1:19:17Z</dcterms:created>
  <dc:creator>Windows User</dc:creator>
  <dc:description/>
  <dc:language>en-US</dc:language>
  <cp:lastModifiedBy>Windows User</cp:lastModifiedBy>
  <dcterms:modified xsi:type="dcterms:W3CDTF">2008-08-27T01:56:29Z</dcterms:modified>
  <cp:revision>4</cp:revision>
  <dc:subject/>
  <dc:title>Slide 1</dc:title>
</cp:coreProperties>
</file>