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7.png" ContentType="image/png"/>
  <Override PartName="/ppt/media/image30.wmf" ContentType="image/x-wmf"/>
  <Override PartName="/ppt/media/image25.png" ContentType="image/png"/>
  <Override PartName="/ppt/media/image23.wmf" ContentType="image/x-wmf"/>
  <Override PartName="/ppt/media/image28.wmf" ContentType="image/x-wmf"/>
  <Override PartName="/ppt/media/image6.jpeg" ContentType="image/jpeg"/>
  <Override PartName="/ppt/media/image10.png" ContentType="image/png"/>
  <Override PartName="/ppt/media/image13.png" ContentType="image/png"/>
  <Override PartName="/ppt/media/image11.png" ContentType="image/png"/>
  <Override PartName="/ppt/media/image29.wmf" ContentType="image/x-wmf"/>
  <Override PartName="/ppt/media/image4.wmf" ContentType="image/x-wmf"/>
  <Override PartName="/ppt/media/image5.png" ContentType="image/png"/>
  <Override PartName="/ppt/media/image8.jpeg" ContentType="image/jpeg"/>
  <Override PartName="/ppt/media/image17.wmf" ContentType="image/x-wmf"/>
  <Override PartName="/ppt/media/image9.png" ContentType="image/png"/>
  <Override PartName="/ppt/media/image12.png" ContentType="image/png"/>
  <Override PartName="/ppt/media/image32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png" ContentType="image/png"/>
  <Override PartName="/ppt/media/image15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C02-6F8B-4DB8-854D-E6116514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ECC-594B-40FC-9A6D-5A09A3C6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6C2-87F6-4819-8B2A-A888EFB8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068-E464-479D-B52B-405A7C0C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AD80-0156-4985-918B-31F4ACC7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11EB-38B6-4745-B878-5565F19F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A85F-99A1-4E67-82D1-B45C9A24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1915-0604-4B77-A087-CC042D3D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529B-D6AD-4F8D-906D-C0D2010F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86CD-D284-43B6-93A3-C1E48F60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43CC-69D8-43A2-A636-B0CCE8FC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654-3685-4D11-9B53-D5F9AC07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22D5-2129-42C3-9A3E-EB0C257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EBF4-519A-4149-A515-8806FBB1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D365-B2F8-4915-94B7-83C359F2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C89B-FDFE-430B-AD72-482EC14E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D9A2-8390-421C-A093-5D0D3154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AD0-7A2F-4AD8-AC3D-2FE85AA0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926-5EB4-4F96-A8AE-8E7998F2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40B-E979-44C1-A4B4-2459868D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36D-2EC2-4960-9E57-C74D21E6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2B0-0130-4174-972A-367077DF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342-32D2-4597-A2B5-02A7C422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9A2-476B-457F-8579-77A752BD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972B-BED7-4BF2-8DE6-63366BA05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2D68-D1B8-4C44-9E68-D56D23988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QI33A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apítulo 1: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Estructura Atómic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pectros de emis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tro vi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3656160" cy="1965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171880" y="2349360"/>
            <a:ext cx="48006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63640" y="1773360"/>
            <a:ext cx="74167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róg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47840" y="1413000"/>
            <a:ext cx="8246880" cy="685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38120" y="3100320"/>
            <a:ext cx="8310600" cy="689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47840" y="4905360"/>
            <a:ext cx="82278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332000" y="1665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148360" y="333360"/>
          <a:ext cx="3276360" cy="74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333360"/>
                    <a:ext cx="32763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474920" y="8715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e visible (Balm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5148360" y="1003320"/>
          <a:ext cx="276372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003320"/>
                    <a:ext cx="27637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84360" y="11970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rie ultravioleta (Ly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21686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rie visible (Balm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31766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rie infrarroja (Pasch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4149720"/>
            <a:ext cx="417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órmula de Rydberg (gener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 = 109,678 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148360" y="1992240"/>
          <a:ext cx="2827080" cy="6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992240"/>
                    <a:ext cx="28270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157720" y="2924280"/>
          <a:ext cx="27878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7720" y="2924280"/>
                    <a:ext cx="2787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708360" y="5084640"/>
          <a:ext cx="4516560" cy="98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5084640"/>
                    <a:ext cx="451656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Arial"/>
              </a:rPr>
              <a:t>Variación de la probabilidad del electrón con la distancia al núcleo, en los orbitales 1s, 2s y 3s de un átomo de hidrógen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035000" y="2300400"/>
            <a:ext cx="6993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Arial"/>
              </a:rPr>
              <a:t>Principio de exclusión de Paul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9640" y="1413000"/>
          <a:ext cx="8229600" cy="4525920"/>
        </p:xfrm>
        <a:graphic>
          <a:graphicData uri="http://schemas.openxmlformats.org/drawingml/2006/table">
            <a:tbl>
              <a:tblPr/>
              <a:tblGrid>
                <a:gridCol w="1511280"/>
                <a:gridCol w="1739880"/>
                <a:gridCol w="3467160"/>
                <a:gridCol w="1511280"/>
              </a:tblGrid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, 0,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, 0,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, -1, 0, 1,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, 0,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, -1, 0, 1,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, -2, -1, 0, 1, 2,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697800" cy="1193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332000" y="2448000"/>
            <a:ext cx="66247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Arial"/>
              </a:rPr>
              <a:t>Energías de los orbitales atóm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122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2122560" y="1801800"/>
          <a:ext cx="430056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1801800"/>
                    <a:ext cx="430056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971640" y="3429000"/>
            <a:ext cx="7345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: función de onda del electr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: energía total del electr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: energía potencial del electr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: masa del electrón (m = 9,109 x 10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k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: constante de Planck (h = 6,6256 x 10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rg 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Ecuación de onda de Schröding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195640" y="2584440"/>
            <a:ext cx="3911400" cy="2573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859280" y="20080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º electrones en el ni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Atomo polielectrónico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Orden de llenado de los Orbita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066080" cy="28288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55640" y="551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orbital 4s se llena antes que el 3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684360" y="981000"/>
            <a:ext cx="3027240" cy="5035320"/>
            <a:chOff x="684360" y="981000"/>
            <a:chExt cx="3027240" cy="50353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rcRect l="0" t="0" r="56243" b="0"/>
            <a:stretch/>
          </p:blipFill>
          <p:spPr>
            <a:xfrm>
              <a:off x="684360" y="981000"/>
              <a:ext cx="3027240" cy="50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708360" y="981000"/>
              <a:ext cx="0" cy="47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216400" y="981000"/>
            <a:ext cx="3027600" cy="5035320"/>
            <a:chOff x="5216400" y="981000"/>
            <a:chExt cx="3027600" cy="5035320"/>
          </a:xfrm>
        </p:grpSpPr>
        <p:pic>
          <p:nvPicPr>
            <p:cNvPr id="280" name="" descr=""/>
            <p:cNvPicPr/>
            <p:nvPr/>
          </p:nvPicPr>
          <p:blipFill>
            <a:blip r:embed="rId2"/>
            <a:srcRect l="0" t="0" r="56243" b="0"/>
            <a:stretch/>
          </p:blipFill>
          <p:spPr>
            <a:xfrm>
              <a:off x="5216400" y="981000"/>
              <a:ext cx="3027600" cy="50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8242200" y="981000"/>
              <a:ext cx="0" cy="47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640400" y="2781360"/>
            <a:ext cx="57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68760" y="40068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nfiguración electrónica en el estado fundamenta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6165720"/>
            <a:ext cx="856908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conjunto de orbitales degenerados (d) lleno es muy estable; un conjunto de orbitales medio lleno, tambié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rcRect l="0" t="0" r="53118" b="0"/>
          <a:stretch/>
        </p:blipFill>
        <p:spPr>
          <a:xfrm>
            <a:off x="1403280" y="68400"/>
            <a:ext cx="2700360" cy="6721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51869" b="0"/>
          <a:stretch/>
        </p:blipFill>
        <p:spPr>
          <a:xfrm>
            <a:off x="4813200" y="44280"/>
            <a:ext cx="278316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39760" y="549360"/>
            <a:ext cx="879624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72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n coordenadas esféricas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3427560"/>
            <a:ext cx="8229600" cy="26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: distancia del electrón al núcl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ángulo azimutal   0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ángulo polar        0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1844640"/>
          <a:ext cx="84391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4391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úmeros cuántic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: número cuántico princip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 = 1, 2, 3, …,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: número cuántico azimu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 = 0, 1, 2, …, n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número cuántico magné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= -l, …, 0, …, +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número cuántico de s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= -1/2, +1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Imagen:Orbital s.png"/>
          <p:cNvPicPr/>
          <p:nvPr/>
        </p:nvPicPr>
        <p:blipFill>
          <a:blip r:embed="rId1"/>
          <a:srcRect l="0" t="0" r="40309" b="0"/>
          <a:stretch/>
        </p:blipFill>
        <p:spPr>
          <a:xfrm>
            <a:off x="2305080" y="3429000"/>
            <a:ext cx="4532400" cy="2219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5640" y="2781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al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55548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Orbitales p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Imagen:Orbitales p.png"/>
          <p:cNvPicPr/>
          <p:nvPr/>
        </p:nvPicPr>
        <p:blipFill>
          <a:blip r:embed="rId1"/>
          <a:stretch/>
        </p:blipFill>
        <p:spPr>
          <a:xfrm>
            <a:off x="1490760" y="2428920"/>
            <a:ext cx="6162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Orbitales 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52320" y="6359400"/>
            <a:ext cx="29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Arial"/>
              </a:rPr>
              <a:t>(http://www.guiller3.blogspot.com/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190600" y="1762200"/>
            <a:ext cx="540576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Orbitales f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Imagen:Orbitales f.jpg"/>
          <p:cNvPicPr/>
          <p:nvPr/>
        </p:nvPicPr>
        <p:blipFill>
          <a:blip r:embed="rId1"/>
          <a:stretch/>
        </p:blipFill>
        <p:spPr>
          <a:xfrm>
            <a:off x="790560" y="2092320"/>
            <a:ext cx="752652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-2735280" y="178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5280" y="5083920"/>
            <a:ext cx="61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unciones de onda de un átomo de hidrógeno. El número cuántico principal (n) está indicado a la derecha de cada fila, y el número cuántico azimutal (l) se denota por una letra en la parte superior de cada colum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62120" y="1052640"/>
            <a:ext cx="40197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4:34:25Z</dcterms:created>
  <dc:creator>Ivan Garcia</dc:creator>
  <dc:description/>
  <dc:language>en-US</dc:language>
  <cp:lastModifiedBy>Notestore</cp:lastModifiedBy>
  <dcterms:modified xsi:type="dcterms:W3CDTF">2008-03-17T00:55:31Z</dcterms:modified>
  <cp:revision>17</cp:revision>
  <dc:subject/>
  <dc:title>Diapositiva 1</dc:title>
</cp:coreProperties>
</file>