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3652B-4149-4231-B8D9-EE8A9161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F8B9B-CD65-43C0-9C36-00647AB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619B9-752F-4D8E-9377-A3616256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C0EF3-7885-4E7C-8B7E-3F5D4F21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9F3C1-4FEE-4D8E-ABA5-06958E00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E8A7C-A187-4437-A20D-22ABBEFD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69B89-952E-4132-A02A-BE102E24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8B749-5E96-4824-BCE0-4632AAB2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E9EC9-3C59-4083-9849-F2AF5FD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5D909-6F87-4077-862C-7268C21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4BCBB-5AFD-47DD-AD17-7197EB4E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66A98-700F-450A-B114-2D363855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EXPLOTACIÓN DE MINA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52BE-3692-4DB4-8D89-27B99FB58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ros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4-05T20:31:01Z</dcterms:modified>
  <cp:revision>280</cp:revision>
  <dc:subject/>
  <dc:title>Muestreo y Control de Calidad</dc:title>
</cp:coreProperties>
</file>