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2DA-1299-4C0E-87B3-D42CADA6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38E-FCCB-4D5B-A6C5-AC55CAA7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CEF-EDDD-444C-96E0-5C46F4F4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1A9-210D-4B7E-A0ED-932DC189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693C-661D-481A-93A0-41D7D7E5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2C55-6908-4EE3-B605-0BE56982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F854-A6B3-4197-B6B0-F2603AEB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C031-6C04-420D-BB63-ACD2392D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9B67-1733-458C-80BC-13C5AE02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AB98-524B-4E41-A62F-E40D3D9E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95E4-ED2A-4203-AD7C-C480C483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C5E-7936-414E-AC0B-482FEEF1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4A70-1948-416F-82E9-0DDD95E5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6518-18F7-40FE-849B-D86D177F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42EA-BEFA-4652-A4D6-09EE692D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A29A-9A80-44F1-B8C4-EA153DBF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99B6-FF98-4980-92D8-618D5970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C04-AC57-47E6-B920-B68CBF6A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D7C-A476-4C3B-B59A-F082AA7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E36-0C6B-47E2-960E-F0C36F89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71E-9AE2-4DA9-BCE3-BF77B9B3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A60-EF3D-4E0E-B16E-9F564827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A71-C7AC-4B2A-BE0A-45B83F8D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318-5E44-4AF6-A9F0-C9062FC5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5D3F-8256-4164-A5D5-7E44036E95F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ED72-CA23-4583-B60A-0CC3FB8288D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apítulo 2b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Peligros natural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Terremot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terremotos son causados por una súbita liberación de energía acumulada lentamente por deformaciones a lo largo de una falla en la corteza terrestr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Peligros asociad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l sacudimiento del suel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l fallamient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os deslizamientos da tier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a licuefacción de material no consolidad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a subsidencia o depresión de superfici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os tsunamis u ondas sísmicas marítimas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Inund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Inundaciones costeras: 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as inundaciones marinas originadas por tormentas, son un aumento anormal del nivel del mar, asociado con los huracanes y otras tormentas marítimas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la destrucción debido a las inundaciones marinas es atribuible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al impacto de las olas y al choque físico con objetos asociados al paso de las ola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a las fuerzas hidrostáticas/dinámicas y los efectos del agua al levantar y acarrear objetos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Inund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Inundaciones de ríos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s inundaciones terrestres ocurren cuando se excede la capacidad de los lechos de los ríos para conducir el agua y esta rebalsa las riberas. Las inundaciones son fenómenos naturales que pueden ocurrir a Intervalos irregulares en cualquier riachuelo o río. El asentamiento en llanuras de inundación es la causa principal de los danos producidos por las inundacion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Arial"/>
              </a:rPr>
              <a:t>Tsunami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tsunamis son ondas marinas de período largo generadas por eventos tales como los terremotos, actividad volcánica o deslizamientos de tierra submarinos. La cresta de estas ondas puede ser superior a alturas de 25 metros al llegar a aguas poco profundas. Las características singulares de los tsunamis (longitudes de onda generalmente mayores de 100 km, velocidades en el océano profundo hasta de 700 km por hora, y alturas de ola muy pequeñas en agua profunda) hacen que su detección y monitoreo sea muy difíci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La probabilidad se refiere al grado de certeza de ocurrencia de un evento en particular. Usualmente está basada en la frecuencia histórica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probabilidad de un huracán en un año dado podría 10%, si los huracanes han ocurrido en dos de los últimos 20 años.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riesgo es generalmente definido como la probabilidad de pérdida. En términos económicos esto se refiere a una disminución del ingreso debido a pérdidas que resultan de un peligro natur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aversión al riesgo se refiere a la actitud individual hacia el riesgo. La mayoría de las personas son contrarias al riesgo, es decir, están llanas a aceptar algún costo para evitar el riesgo. Pero hay un amplio espectro en los grados de aversión: para evitar un nivel dado de riesgo, algunas personas pagarán más que otr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valuación es la cuantificación de un riesgo. Requiere determinar tanto las consecuencias de un evento como las probabilidades de que ocurra.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manejo de riesgo se refiere a acciones tomadas para reducir las consecuencias o la probabilidad de eventos desfavorables. De igual manera, el manejo del peligro natural se refiere a las actividades que se ejecute para reducir los efectos negativos de los peligro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Un proyecto de inversión es el uso de capital para crear bienes capaces de generar un flujo de beneficios en el tiempo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278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Los peligros naturales, como los recursos naturales, son parte de lo que ofrecen nuestros sistemas natural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Pueden ser considerados como recursos negativo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Los peligros naturales constituyen un elemento de los "problemas ambientales": alteran los ecosistemas naturales e incrementan el impacto de su degradación, reflejan el daño hecho por los humanos a su medio ambiente y pueden afectar a gran número de person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2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mportantes áreas del mundo se encuentran sujetas a los riesgos naturales: terremotos, erupciones volcánicas, sequías,  inundaciones y huracan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iste una estrecha relación mutua entre el deterioro del ambiente y los peligros naturales: la erosión del suelo, la deforestación, la desertificación y la degradación costanera, aumentan el riesgo de los eventos extremos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 la vez los peligros naturales aceleran la degradación ambienta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l potencial para ocasionar pérdidas humanas y económicas se relaciona directamente con su vulnerabilidad ante los peligro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7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urante las últimas décadas, los eventos extremos han aumentado en número e impacto, obstaculizando gravemente el proceso de desarrollo y requiriendo una substancial reasignación de recursos destinados para el desarrollo, el socorro y la recuperació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a vulnerabilidad ante los desastres naturales aumenta debido a la continua degradación ambiental, al crecimiento demográfico, a la ubicación de inversiones en áreas vulnerables, y a la concentración de infraestructura e industrias en áreas sujetas a los desastres.</a:t>
            </a: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Times New Roman"/>
              </a:rPr>
              <a:t>¿Qué son peligros naturales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Los peligros naturales son "aquellos elementos del medio ambiente físico perjudiciales al hombre y causados por fuerzas ajenas a él" (Burton 1978)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Todos los fenómenos atmosféricos, hidrológicos, geológicos (especialmente sísmicos y volcánicos) u originados por el fuego que, por razón del lugar en que ocurren, su severidad y frecuencia, pueden afectar de manera adversa a los seres humanos, a sus estructuras o actividades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Times New Roman"/>
              </a:rPr>
              <a:t>¿Qué son peligros naturales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"/>
              </a:rPr>
              <a:t>En algunos países se utiliza el término amenaza natural en sustitución de la de peligro natural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l calificativo </a:t>
            </a:r>
            <a:r>
              <a:rPr b="1" lang="en-US" sz="3200" spc="-1" strike="noStrike">
                <a:solidFill>
                  <a:srgbClr val="f83a26"/>
                </a:solidFill>
                <a:latin typeface="Times New Roman"/>
                <a:ea typeface="Times New Roman"/>
              </a:rPr>
              <a:t>natur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es utilizado para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xcluir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de la definición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eligros originados por los seres humano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ales como guerras, polución y contaminación química, o peligros no necesariamente relacionados con el entorno físico: tales los casos de enfermedades infecciosa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Arial"/>
              </a:rPr>
              <a:t>¿Cuan naturales son los peligros naturales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A pesar de la calificación de "naturales", estos peligros tienen ciertos elementos de participación human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3 concept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vento físico: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 fenómeno natural que no afecta a los seres humano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Peligro natural: 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fenómeno natural que ocurre en un </a:t>
            </a:r>
            <a:r>
              <a:rPr b="0" lang="en-US" sz="2400" spc="-1" strike="noStrike">
                <a:solidFill>
                  <a:srgbClr val="f83a26"/>
                </a:solidFill>
                <a:latin typeface="Arial"/>
                <a:ea typeface="Times New Roman"/>
              </a:rPr>
              <a:t>área poblada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 o con </a:t>
            </a:r>
            <a:r>
              <a:rPr b="0" lang="en-US" sz="2400" spc="-1" strike="noStrike">
                <a:solidFill>
                  <a:srgbClr val="f83a26"/>
                </a:solidFill>
                <a:latin typeface="Arial"/>
                <a:ea typeface="Times New Roman"/>
              </a:rPr>
              <a:t>infraestructura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 que puede ser dañad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Desastre natural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, es un peligro natural que causa un número inaceptable de muertes o daños a propiedades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7840" y="90792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Atmosfér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de graniz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Huracan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Ray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ornad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tropicale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Sísm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Ruptura de fall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cudimiento del terren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Esparcimiento later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Licuefac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sunami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eich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55640" y="836640"/>
            <a:ext cx="44960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Geológicos/hidrológicos</a:t>
            </a: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Avalanchas por derrubi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Suelos expansiv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Deslizamientos de tierra (“aluvión”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Caída de roc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Deslizamientos submarin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Hundimient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24280" y="907560"/>
            <a:ext cx="419112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Volcán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tra (ceniza, "lapilli"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Gas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de lav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de lod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Proyectiles y explosiones latera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piroclástic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Incendi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Chamarasc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Bosqu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Past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ban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7360" y="836640"/>
            <a:ext cx="44193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Hidrológic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Inundaciones coster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Desertific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liniz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equí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Erosión y sediment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Inundaciones de rí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marinas y marejadas</a:t>
            </a: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22:57Z</dcterms:created>
  <dc:creator>ING. Minas </dc:creator>
  <dc:description/>
  <dc:language>en-US</dc:language>
  <cp:lastModifiedBy>Ingrid</cp:lastModifiedBy>
  <dcterms:modified xsi:type="dcterms:W3CDTF">2008-04-09T18:37:52Z</dcterms:modified>
  <cp:revision>28</cp:revision>
  <dc:subject/>
  <dc:title>Gestión Ambiental en Minería MI55D</dc:title>
</cp:coreProperties>
</file>