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003E-332D-466B-90A4-C5F9EEDC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F21-C24C-475C-B68C-0EEC8F91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95DC-06FB-4349-B02E-67141F6E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98C-3041-47A2-9B16-59D2F816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6061-8CA1-42F8-9D32-DD577CC2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53E9-3474-4735-9C5B-FE7C0C9D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0478-8BC9-42D3-AAE1-C9F51E52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3E14-69B5-49E4-9E7F-803003B9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A18C-0A17-4E47-A5FB-D8E05013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BA34-E583-443F-9A99-56E48CE4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EB18-0AF2-46E0-A488-011A5FDE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7BE3-E6F1-4CD8-A7E0-BB60161C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A339-6020-4142-86A2-306BCAFC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920E-28E3-4A08-9BA3-8E81616C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9F19-EB4A-45C4-99AB-5C8685F8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F6F7-6662-44B9-9F77-255CC4ED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7C6F-9A05-4061-82B2-8CF7AEE0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050E-6485-4E39-A9FA-A1D8175E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F77E-E8E8-4CCE-A293-930E47D7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DB3A-2CDD-4B85-8EAB-97657DBB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EE7C-AA29-449A-AF5D-541B2DAC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4C56-35C9-4B01-90AD-B0C3EFF7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C136-A379-40FB-9839-EE83E905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93E8-9EFE-499D-8AC6-58C86F5A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44AB-BA94-47A5-8CEA-03DE32E32ACD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0C8F-165B-4800-B390-DED9930712D5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9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5.pct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482400"/>
                </a:solidFill>
                <a:latin typeface="Times New Roman"/>
              </a:rPr>
              <a:t>Métodos estadísticos de exploración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CP: Análisis de componentes princip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fesor: Rodrigo Assar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482400"/>
                </a:solidFill>
                <a:latin typeface="Times New Roman"/>
              </a:rPr>
              <a:t>Dato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triz de da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triz de covarianzas (emp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ricas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105520" y="1523880"/>
                <a:ext cx="304308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p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p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⋮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  <m:e>
                          <m:r>
                            <m:t xml:space="preserve">⋱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313240" y="3359160"/>
                <a:ext cx="31654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p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p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⋮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  <m:e>
                          <m:r>
                            <m:t xml:space="preserve">⋱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p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089000" y="5103720"/>
                <a:ext cx="22399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i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  <m:limUpp>
                      <m:e/>
                      <m:lim>
                        <m:r>
                          <m:t xml:space="preserve">2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30600" y="5103720"/>
                <a:ext cx="34354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i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482400"/>
                </a:solidFill>
                <a:latin typeface="Times New Roman"/>
              </a:rPr>
              <a:t>Las componentes principales 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variables: combinaciones lineales de origin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eficientes elegidos para maximizar la varianza empírica, con norma igual a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varianza entre ejes principales distintos es c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370320" y="2030400"/>
                <a:ext cx="47498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658880" y="4246560"/>
                <a:ext cx="62294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¹</m:t>
                                </m:r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</m:e>
                            </m:acc>
                          </m:e>
                        </m:nary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00200" y="5334120"/>
                <a:ext cx="4114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acc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482400"/>
                </a:solidFill>
                <a:latin typeface="Times New Roman"/>
              </a:rPr>
              <a:t>Elección de coeficiente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0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alores propios de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ectores propios asoci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legidos ortonorm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ara i de 1 a 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ar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v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e denominan componentes principales a las proyecciones de los datos en los ejes princip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888160" y="2236680"/>
                <a:ext cx="16556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886200" y="3200400"/>
                <a:ext cx="12222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09560" y="1828800"/>
                <a:ext cx="2857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…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82400"/>
                </a:solidFill>
                <a:latin typeface="Times New Roman"/>
              </a:rPr>
              <a:t>Información aportada por componentes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rción de la varianza total explicada por la j-ésima compon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rción explicada por las primeras m compon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675320" y="2743200"/>
                <a:ext cx="3525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429000" y="5029200"/>
                <a:ext cx="3657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ι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82400"/>
                </a:solidFill>
                <a:latin typeface="Times New Roman"/>
              </a:rPr>
              <a:t>Relación: variables nuevas, originales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ualmente, antes de realizar el ACP se modifica X restando a cada valor en la j-ésima columna el promedio en dicha columna y dividiendo por      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 este modo:      var(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=1,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írculo de correlacion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505320" y="1371600"/>
                <a:ext cx="327636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κ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r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κ</m:t>
                                </m:r>
                              </m:sub>
                            </m:sSub>
                          </m:e>
                        </m:rad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j</m:t>
                                </m:r>
                              </m:sub>
                            </m:sSub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791320" y="3429000"/>
                <a:ext cx="6094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j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752480" y="4343400"/>
                <a:ext cx="2743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r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κ</m:t>
                            </m:r>
                          </m:sub>
                        </m:sSub>
                      </m:e>
                    </m:rad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952880" y="3733920"/>
                <a:ext cx="322272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å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r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Círculo de correlaciones: Ejemplo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je horizontal corresponde al valor de la correlación con la primera componente principal, el vertical respecto a la segunda compo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observa por ejemplo que corr(e,F1) es cercana a 1, corr(e,F2) es positiva pero cercana a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066680" y="1905120"/>
          <a:ext cx="4038840" cy="3882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1905120"/>
                    <a:ext cx="403884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P Milenio</cp:lastModifiedBy>
  <cp:lastPrinted>2009-04-22T19:24:48Z</cp:lastPrinted>
  <dcterms:modified xsi:type="dcterms:W3CDTF">2008-06-25T23:18:5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