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F91-4240-4366-9614-ADCBE401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873-C5E6-4C54-B7C2-B89E2138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A92-334C-4430-B92C-6A93EF8D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829-10F4-47CD-8315-BDA426CD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87D4-98F1-4B84-AD62-13FB7277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C4EF-7916-4E5C-A864-81DFAC8C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6B62-E65F-4AA2-8A1D-147883E0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8F67-0716-4AF3-838A-94FD19FA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A803-7741-4FB0-A49A-8948AA60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E608-FB3A-4A31-A9FA-7D68FEFF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F5C3-F38E-47A5-880D-6589E5D0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B82-C9A0-4246-BF57-8C34A2F9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4E93-3A49-4C4B-9FB6-544CE72A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8A65-6BE3-4B05-95DB-48AE71C6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C6BD-213B-4856-9132-1DD47565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4718-6E83-471F-8521-EF90347D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3741-E7FD-43FB-9307-43539813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B6C-C7F8-451B-A68B-0422B5C2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225-2705-4297-8A13-994753FC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3FA-4533-415A-AC88-6457DA21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3B3-6060-4786-8330-E0941E8D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D0A-D568-4E8B-A095-E4EFECC2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7C9-D541-41E6-8EB0-5B2AECEE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D3C-DE3E-4EBF-8182-D2AD7000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2DCE-E3D6-4831-9062-00BD40109C12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C1F0-B3D2-4E3C-A461-4AEEAF2A5C98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Métodos estadísticos de exploració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CP: Análisis de componentes princip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fesor: Rodrigo Assar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Dato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riz de da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riz de covarianzas (emp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ricas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105520" y="1523880"/>
                <a:ext cx="30430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⋱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313240" y="3359160"/>
                <a:ext cx="3165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⋱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p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89000" y="5103720"/>
                <a:ext cx="2239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limUpp>
                      <m:e/>
                      <m:lim>
                        <m:r>
                          <m:t xml:space="preserve">2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30600" y="5103720"/>
                <a:ext cx="34354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i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Las componentes principales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variables: combinaciones lineales de origi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eficientes elegidos para maximizar la varianza empírica, con norma igual a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varianza entre ejes principales distintos es 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70320" y="2030400"/>
                <a:ext cx="4749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658880" y="4246560"/>
                <a:ext cx="62294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¹</m:t>
                                </m:r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acc>
                          </m:e>
                        </m:nary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5334120"/>
                <a:ext cx="4114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acc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Elección de coeficient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lores propios de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ectores propios asoci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legidos ortonorm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ara i de 1 a 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r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v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 denominan componentes principales a las proyecciones de los datos en los ejes princip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888160" y="2236680"/>
                <a:ext cx="16556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886200" y="3200400"/>
                <a:ext cx="1222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09560" y="1828800"/>
                <a:ext cx="2857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…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82400"/>
                </a:solidFill>
                <a:latin typeface="Times New Roman"/>
              </a:rPr>
              <a:t>Información aportada por componentes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rción de la varianza total explicada por la j-ésima compon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rción explicada por las primeras m compon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675320" y="2743200"/>
                <a:ext cx="3525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29000" y="5029200"/>
                <a:ext cx="365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ι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82400"/>
                </a:solidFill>
                <a:latin typeface="Times New Roman"/>
              </a:rPr>
              <a:t>Relación: variables nuevas, originales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ualmente, antes de realizar el ACP se modifica X restando a cada valor en la j-ésima columna el promedio en dicha columna y dividiendo por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este modo:      var(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=1,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írculo de correlacion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505320" y="1371600"/>
                <a:ext cx="32763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κ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κ</m:t>
                                </m:r>
                              </m:sub>
                            </m:sSub>
                          </m:e>
                        </m:rad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j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791320" y="3429000"/>
                <a:ext cx="6094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52480" y="4343400"/>
                <a:ext cx="2743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r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κ</m:t>
                            </m:r>
                          </m:sub>
                        </m:sSub>
                      </m:e>
                    </m:ra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952880" y="3733920"/>
                <a:ext cx="32227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å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r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írculo de correlaciones: Ejemplo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je horizontal corresponde al valor de la correlación con la primera componente principal, el vertical respecto a la segund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observa por ejemplo que corr(e,F1) es cercana a 1, corr(e,F2) es positiva pero cercana a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66680" y="1905120"/>
          <a:ext cx="4038840" cy="3882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1905120"/>
                    <a:ext cx="403884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P Milenio</cp:lastModifiedBy>
  <cp:lastPrinted>2009-04-22T19:24:48Z</cp:lastPrinted>
  <dcterms:modified xsi:type="dcterms:W3CDTF">2008-06-25T23:18:5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