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embeddings/oleObject3.xlsx" ContentType="application/vnd.openxmlformats-officedocument.spreadsheetml.sheet"/>
  <Override PartName="/ppt/embeddings/oleObject2.docx" ContentType="application/vnd.openxmlformats-officedocument.wordprocessingml.document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8EFF-2F21-45D6-92AA-742CDB0D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E2EC-72AD-49B4-8BF0-8581EDFD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EF43-C9A8-4302-9080-765616421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BB5-DD59-4686-B1B7-9531A1383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EFF8-2F5D-4BCA-9DD3-9C6D19478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7A5B1-19B1-4946-9CB2-C6337715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17B8-F3C0-494E-AD63-5D7425EA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1B1F-CFB7-4245-9492-962850F8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5E014-3C5B-4B61-93CA-DC97EFBE6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7A6D-1710-4F42-82C8-6BFEEA8B6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160D-E37F-4ADC-88EB-EA07F1BAD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E2C5-7E75-406D-89B2-556972678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51C73-BCA8-4FBC-89DF-B91E9C36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20EBF-7545-4423-A4E7-0D4F29D2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B5BCF-E12A-4D0D-A27D-0DB582E7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964C2-2766-4E6D-84A1-2BAF7F561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22136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385680" y="41148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05740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422136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385680" y="50306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CD03-52AE-4C18-91F5-D1C88047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67C9-0580-4ED3-983F-0D04DA9B9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0716-F5ED-4909-9D0B-93869ED55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17A6-FEC6-46E2-9557-A2117EDC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24E-BFDD-460F-A3B0-6F9553852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61B2-2258-4288-9F76-10FB3A19A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7360" y="50306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0BFC-7037-4A61-9D1F-0B0C03FE9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05740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7360" y="41148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2057400" y="50306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DB4F-9BB8-408D-9271-8D32201F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Distribución de frecuencias por número de consultas previas.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33520" y="457200"/>
          <a:ext cx="7486560" cy="213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57200"/>
                    <a:ext cx="74865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"/>
          <p:cNvGraphicFramePr/>
          <p:nvPr/>
        </p:nvGraphicFramePr>
        <p:xfrm>
          <a:off x="609480" y="533520"/>
          <a:ext cx="7772400" cy="60102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533520"/>
                    <a:ext cx="7772400" cy="60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1130400" y="6019920"/>
            <a:ext cx="752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ordar: es la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altu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la barra lo que indica la frecuenci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19320" y="24382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s histogramas se deben realizar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sistemáticamente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utilizando la densidad de frecuencias, es decir se deben construir como </a:t>
            </a:r>
            <a:r>
              <a:rPr b="0" lang="es-ES_tradnl" sz="3200" spc="-1" strike="noStrike">
                <a:solidFill>
                  <a:srgbClr val="ffff00"/>
                </a:solidFill>
                <a:latin typeface="Times New Roman"/>
              </a:rPr>
              <a:t>Histogramas de Densidad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Recordar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Polígono de densidad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áfico de líneas que se construye a partir de un histograma de densidad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Útil para la comparación de dos o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á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istribucion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752480" y="2743200"/>
          <a:ext cx="5639040" cy="388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743200"/>
                    <a:ext cx="5639040" cy="38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0" name=""/>
          <p:cNvGraphicFramePr/>
          <p:nvPr/>
        </p:nvGraphicFramePr>
        <p:xfrm>
          <a:off x="380880" y="685800"/>
          <a:ext cx="7012080" cy="5616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85800"/>
                    <a:ext cx="7012080" cy="56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6629400" y="25909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rea bajo el polígono igual a 1 o 100 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181480" y="2895480"/>
            <a:ext cx="1524240" cy="0"/>
          </a:xfrm>
          <a:prstGeom prst="line">
            <a:avLst/>
          </a:prstGeom>
          <a:ln cap="sq" w="255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Gráfico de caja y líneas (Boxplots)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plicable a variables cuantitativas continua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Útiles para comparar diferentes distribuciones.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Valores extremos y una idea de la simetría de la distribu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00"/>
                </a:solidFill>
                <a:latin typeface="Times New Roman"/>
              </a:rPr>
              <a:t>Ejemplo: Albuminemia</a:t>
            </a:r>
            <a:r>
              <a:rPr b="0" lang="es-ES_tradnl" sz="48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415120" y="2286000"/>
          <a:ext cx="6603840" cy="387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5120" y="2286000"/>
                    <a:ext cx="6603840" cy="38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5410080" cy="45151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52280" y="91440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imes New Roman"/>
              </a:rPr>
              <a:t>Albuminemia grs/dl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943600"/>
            <a:ext cx="7086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iagramas de caja y línea para la distribución de albuminemia (en grs/dl) en pacientes con función hepática normal y en pacientes con insuficiencia hepática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Ejemplo: Neumopat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í</a:t>
            </a: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as Agud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295280" y="1752480"/>
          <a:ext cx="6564600" cy="2283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564600" cy="22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1447920" y="4419720"/>
          <a:ext cx="6451560" cy="2259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4419720"/>
                    <a:ext cx="6451560" cy="22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"/>
          <p:cNvSpPr/>
          <p:nvPr/>
        </p:nvSpPr>
        <p:spPr>
          <a:xfrm>
            <a:off x="1447920" y="1295280"/>
            <a:ext cx="655308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Distribución de frecuencias para el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tiempo en horas en el cual remite la fiebre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tras el tratamiento antibiótico adecuado en pacientes con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neumonía comunitaria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3962520"/>
            <a:ext cx="6705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Distribución de frecuencias para el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tiempo en horas en el cual remite la fiebre</a:t>
            </a: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 tras el tratamiento antibiótico adecuado en pacientes con </a:t>
            </a:r>
            <a:r>
              <a:rPr b="0" lang="es-ES" sz="1200" spc="-1" strike="noStrike">
                <a:solidFill>
                  <a:srgbClr val="ffff00"/>
                </a:solidFill>
                <a:latin typeface="Times New Roman"/>
              </a:rPr>
              <a:t>neumonía intrahospitalari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00"/>
                </a:solidFill>
                <a:latin typeface="Times New Roman"/>
              </a:rPr>
              <a:t>Polígonos comparativos</a:t>
            </a:r>
            <a:endParaRPr b="0" lang="en-US" sz="4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990720" y="1676520"/>
          <a:ext cx="7086600" cy="42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76520"/>
                    <a:ext cx="7086600" cy="42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1905120" y="4648320"/>
            <a:ext cx="548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cbcbcb"/>
                </a:solidFill>
                <a:latin typeface="Times New Roman"/>
              </a:rPr>
              <a:t>     </a:t>
            </a:r>
            <a:r>
              <a:rPr b="0" lang="es-ES_tradnl" sz="1400" spc="-1" strike="noStrike">
                <a:solidFill>
                  <a:srgbClr val="cbcbcb"/>
                </a:solidFill>
                <a:latin typeface="Times New Roman"/>
              </a:rPr>
              <a:t>24         36         48        60        72        8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Times New Roman"/>
              </a:rPr>
              <a:t>Ojivas comparativas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533520" y="1828800"/>
          <a:ext cx="8229600" cy="430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828800"/>
                    <a:ext cx="8229600" cy="43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bcbcb"/>
                </a:solidFill>
                <a:latin typeface="Times New Roman"/>
              </a:rPr>
              <a:t>FIN</a:t>
            </a:r>
            <a:endParaRPr b="0" lang="en-US" sz="8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Gráfico en escaler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representar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istribuciones de frecuencias acumulad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variables cuantitativas discreta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aplica a variables cuantitativas, tanto discretas como continuas.                      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uede expresarse en frecuencias absolutas, relativas o relativas porcentuadas acumuladas.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Distribución de Frecuencias Acumulada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finición: Para una variable discreta la frecuencia acumulada hasta un determinado valor de la variable, se define como el n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ú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ro  de observaciones o la fracción de las mismas  que se encuentran incluidas en o por debajo de  dicho valor, según sea frecuencias absolutas o relativas acumulada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tribución de frecuencias acumuladas para el n</a:t>
            </a:r>
            <a:r>
              <a:rPr b="1" lang="es-ES" sz="2800" spc="-1" strike="noStrike">
                <a:solidFill>
                  <a:srgbClr val="ffffff"/>
                </a:solidFill>
                <a:latin typeface="Times New Roman"/>
              </a:rPr>
              <a:t>ú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ro de consultas en pacientes con anemias</a:t>
            </a:r>
            <a:endParaRPr b="0" lang="en-US" sz="2800" spc="-1" strike="noStrike">
              <a:solidFill>
                <a:srgbClr val="cbcbcb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85800" y="2209680"/>
          <a:ext cx="7674120" cy="351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7412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380880" y="1066680"/>
          <a:ext cx="8382240" cy="6121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838224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Times New Roman"/>
              </a:rPr>
              <a:t>Gráfico escalera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00"/>
                </a:solidFill>
                <a:latin typeface="Times New Roman"/>
              </a:rPr>
              <a:t>Histograma</a:t>
            </a:r>
            <a:endParaRPr b="0" lang="en-US" sz="5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agrama de barras vertical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áre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(y no la altura) de cada barra es proporcional a la cantidad de observaciones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área tot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representa la totalidad de las observaciones (Frac =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1 o 100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%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ermite describir un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númer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levado de observaciones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00"/>
                </a:solidFill>
                <a:latin typeface="Times New Roman"/>
              </a:rPr>
              <a:t>Construcción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523880"/>
            <a:ext cx="7543800" cy="22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a su construcción se debe agrupar los datos en intervalos de cl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isposición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 de abscisas: valores de la vari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je de ordenadas: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Densidad de frecuencias (Y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403848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recuencia relativa del interv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400" y="45720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mplitud del interv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411480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Y =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4572000"/>
            <a:ext cx="38862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541008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Justificación: el </a:t>
            </a:r>
            <a:r>
              <a:rPr b="0" lang="es-ES_tradnl" sz="2800" spc="-1" strike="noStrike">
                <a:solidFill>
                  <a:srgbClr val="ffff00"/>
                </a:solidFill>
                <a:latin typeface="Times New Roman"/>
              </a:rPr>
              <a:t>áre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barra es proporcional a la frecue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533520" y="380880"/>
          <a:ext cx="8234280" cy="251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880"/>
                    <a:ext cx="82342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752480" y="2219400"/>
          <a:ext cx="5775480" cy="4638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2219400"/>
                    <a:ext cx="5775480" cy="4638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523880" y="2666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0"/>
            <a:ext cx="86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00"/>
                </a:solidFill>
                <a:latin typeface="Times New Roman"/>
              </a:rPr>
              <a:t>Ejemplo :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Distribución de frecuencias para la variable Hemoglobinemia en grs/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990720"/>
            <a:ext cx="3045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1066680" y="152280"/>
          <a:ext cx="8409240" cy="2594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280"/>
                    <a:ext cx="840924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4876920" y="685800"/>
            <a:ext cx="3045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2057400"/>
            <a:ext cx="304560" cy="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04920" y="2590920"/>
          <a:ext cx="4190760" cy="3657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2590920"/>
                    <a:ext cx="419076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"/>
          <p:cNvGrpSpPr/>
          <p:nvPr/>
        </p:nvGrpSpPr>
        <p:grpSpPr>
          <a:xfrm>
            <a:off x="4495680" y="2751120"/>
            <a:ext cx="4114800" cy="4106880"/>
            <a:chOff x="4495680" y="2751120"/>
            <a:chExt cx="4114800" cy="4106880"/>
          </a:xfrm>
        </p:grpSpPr>
        <p:graphicFrame>
          <p:nvGraphicFramePr>
            <p:cNvPr id="128" name=""/>
            <p:cNvGraphicFramePr/>
            <p:nvPr/>
          </p:nvGraphicFramePr>
          <p:xfrm>
            <a:off x="4495680" y="2751120"/>
            <a:ext cx="4114800" cy="410688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495680" y="2751120"/>
                      <a:ext cx="4114800" cy="410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0" name=""/>
            <p:cNvSpPr/>
            <p:nvPr/>
          </p:nvSpPr>
          <p:spPr>
            <a:xfrm>
              <a:off x="5715000" y="4648320"/>
              <a:ext cx="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867280" y="36576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00"/>
                  </a:solidFill>
                  <a:latin typeface="Times New Roman"/>
                </a:rPr>
                <a:t>Incorrect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715000" y="4648320"/>
              <a:ext cx="60948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715000" y="4648320"/>
              <a:ext cx="0" cy="6858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30T05:19:21Z</dcterms:created>
  <dc:creator>Federico</dc:creator>
  <dc:description/>
  <dc:language>en-US</dc:language>
  <cp:lastModifiedBy>Rodrigo Antonio Assar Cuevas</cp:lastModifiedBy>
  <dcterms:modified xsi:type="dcterms:W3CDTF">2008-03-18T03:03:40Z</dcterms:modified>
  <cp:revision>203</cp:revision>
  <dc:subject/>
  <dc:title>Representacion Grafica</dc:title>
</cp:coreProperties>
</file>