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embeddings/oleObject2.docx" ContentType="application/vnd.openxmlformats-officedocument.wordprocessingml.document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E5B-79DE-4620-97A3-3F9435DC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C48-7234-4670-A9C8-8F266201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2EFB-00A6-492C-AF57-35FF97DF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0C7B-15EE-4351-9892-BADFB7F2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564B-89F0-4CFD-BFAE-EAA2EE5D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14E2-E715-43E5-B5F1-2346AA14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F961-B075-41F5-9920-41636F47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C52A-2AD5-4CD4-9223-12E6E60D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4FB4-1375-432A-ADDB-5B3646A6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5033-8816-414C-8A96-88275574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3AE5-0913-4906-809E-BF3F9F06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C60C-1749-4820-8FD2-83200F91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5467-498D-4D97-9FE0-FC6071B5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6D43-E08D-4E7A-8CE6-D8CDCAF3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5833-580D-4DE4-AD9C-653831FD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1BB1-CC90-40B0-9397-1C825CEC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0DCE-AE28-471C-A0F2-568CBDD1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83DB-EBC3-4ABA-898C-3C26AB31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2E6-E526-4FC3-A8F8-90F36285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D31-FADF-4D26-8980-AA4589DD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488B-E0CE-4DCB-A1DA-C67052E0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1CE-FACB-4AA0-8588-DFCA1BFC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536-4FA8-425F-903D-0BD23CCD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B78-EA1B-4EB3-AEA4-3C30238C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istribución de frecuencias por número de consultas previas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3520" y="457200"/>
          <a:ext cx="7486560" cy="21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748656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09480" y="533520"/>
          <a:ext cx="7772400" cy="6010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533520"/>
                    <a:ext cx="7772400" cy="60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130400" y="6019920"/>
            <a:ext cx="75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ordar: es la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altu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la barra lo que indica la frecuenc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19320" y="2438280"/>
            <a:ext cx="723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histogramas se deben realizar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istemáticament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utilizando la densidad de frecuencias, es decir se deben construir como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Histogramas de Densidad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Record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Polígono de densida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ráfico de líneas que se construye a partir de un histograma de densida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Útil para la comparación de dos o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á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istribuci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52480" y="2743200"/>
          <a:ext cx="5639040" cy="388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5639040" cy="38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380880" y="685800"/>
          <a:ext cx="7012080" cy="561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70120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6629400" y="25909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ea bajo el polígono igual a 1 o 10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2895480"/>
            <a:ext cx="1524240" cy="0"/>
          </a:xfrm>
          <a:prstGeom prst="line">
            <a:avLst/>
          </a:prstGeom>
          <a:ln cap="sq"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Gráfico de caja y líneas (Boxplots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plicable a variables cuantitativas continua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Útiles para comparar diferentes distribucion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alores extremos y una idea de la simetría de la distribu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Ejemplo: Albuminemia</a:t>
            </a:r>
            <a:r>
              <a:rPr b="0" lang="es-ES_tradnl" sz="48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415120" y="2286000"/>
          <a:ext cx="6603840" cy="38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5120" y="2286000"/>
                    <a:ext cx="6603840" cy="38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5410080" cy="4515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52280" y="914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lbuminemia grs/d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943600"/>
            <a:ext cx="708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Diagramas de caja y línea para la distribución de albuminemia (en grs/dl) en pacientes con función hepática normal y en pacientes con insuficiencia hepátic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Ejemplo: Neumopat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í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as Aguda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5280" y="1752480"/>
          <a:ext cx="6564600" cy="22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6564600" cy="22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447920" y="4419720"/>
          <a:ext cx="6451560" cy="2259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419720"/>
                    <a:ext cx="64515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447920" y="1295280"/>
            <a:ext cx="6553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Distribución de frecuencias para el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tiempo en horas en el cual remite la fiebre</a:t>
            </a: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tras el tratamiento antibiótico adecuado en pacientes con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neumonía comunitari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962520"/>
            <a:ext cx="670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Distribución de frecuencias para el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tiempo en horas en el cual remite la fiebre</a:t>
            </a: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tras el tratamiento antibiótico adecuado en pacientes con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neumonía intrahospitala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00"/>
                </a:solidFill>
                <a:latin typeface="Times New Roman"/>
              </a:rPr>
              <a:t>Polígonos comparativos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90720" y="1676520"/>
          <a:ext cx="7086600" cy="424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086600" cy="42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905120" y="464832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bcbcb"/>
                </a:solidFill>
                <a:latin typeface="Times New Roman"/>
              </a:rPr>
              <a:t>     </a:t>
            </a:r>
            <a:r>
              <a:rPr b="0" lang="es-ES_tradnl" sz="1400" spc="-1" strike="noStrike">
                <a:solidFill>
                  <a:srgbClr val="cbcbcb"/>
                </a:solidFill>
                <a:latin typeface="Times New Roman"/>
              </a:rPr>
              <a:t>24         36         48        60        72        8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00"/>
                </a:solidFill>
                <a:latin typeface="Times New Roman"/>
              </a:rPr>
              <a:t>Ojivas comparativas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1828800"/>
          <a:ext cx="8229600" cy="430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22960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cbcbcb"/>
                </a:solidFill>
                <a:latin typeface="Times New Roman"/>
              </a:rPr>
              <a:t>FIN</a:t>
            </a:r>
            <a:endParaRPr b="0" lang="en-US" sz="8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Gráfico en escaler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a representar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istribuciones de frecuencias acumulad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variables cuantitativas discreta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aplica a variables cuantitativas, tanto discretas como continuas.     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uede expresarse en frecuencias absolutas, relativas o relativas porcentuadas acumuladas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Distribución de Frecuencias Acumulada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finición: Para una variable discreta la frecuencia acumulada hasta un determinado valor de la variable, se define como el 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ú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ro  de observaciones o la fracción de las mismas  que se encuentran incluidas en o por debajo de  dicho valor, según sea frecuencias absolutas o relativas acumulada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stribución de frecuencias acumuladas para el n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ú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ro de consultas en pacientes con anemia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209680"/>
          <a:ext cx="7674120" cy="35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7412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80880" y="1066680"/>
          <a:ext cx="8382240" cy="612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838224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00"/>
                </a:solidFill>
                <a:latin typeface="Times New Roman"/>
              </a:rPr>
              <a:t>Gráfico escalera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00"/>
                </a:solidFill>
                <a:latin typeface="Times New Roman"/>
              </a:rPr>
              <a:t>Histograma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agrama de barras vertical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áre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y no la altura) de cada barra es proporcional a la cantidad de observacion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área tot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representa la totalidad de las observaciones (Frac =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1 o 100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%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ermite describir un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úmer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levado de observacion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onstrucció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523880"/>
            <a:ext cx="7543800" cy="22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a su construcción se debe agrupar los datos en intervalos de cl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sposi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e de abscisas: valores de la vari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e de ordenadas: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ensidad de frecuencias (Y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4038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recuencia relativa del interva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4572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mplitud del interva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4114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4572000"/>
            <a:ext cx="3886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54100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Justificación: el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áre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a barra es proporcional a la frecu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533520" y="380880"/>
          <a:ext cx="823428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2342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752480" y="2219400"/>
          <a:ext cx="5775480" cy="4638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2219400"/>
                    <a:ext cx="57754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52388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Ejemplo 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stribución de frecuencias para la variable Hemoglobinemia en grs/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990720"/>
            <a:ext cx="3045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066680" y="152280"/>
          <a:ext cx="8409240" cy="25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280"/>
                    <a:ext cx="840924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876920" y="685800"/>
            <a:ext cx="3045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2057400"/>
            <a:ext cx="3045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2590920"/>
          <a:ext cx="4190760" cy="365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590920"/>
                    <a:ext cx="41907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" name=""/>
          <p:cNvGrpSpPr/>
          <p:nvPr/>
        </p:nvGrpSpPr>
        <p:grpSpPr>
          <a:xfrm>
            <a:off x="4495680" y="2751120"/>
            <a:ext cx="4114800" cy="4106880"/>
            <a:chOff x="4495680" y="2751120"/>
            <a:chExt cx="4114800" cy="4106880"/>
          </a:xfrm>
        </p:grpSpPr>
        <p:graphicFrame>
          <p:nvGraphicFramePr>
            <p:cNvPr id="128" name=""/>
            <p:cNvGraphicFramePr/>
            <p:nvPr/>
          </p:nvGraphicFramePr>
          <p:xfrm>
            <a:off x="4495680" y="2751120"/>
            <a:ext cx="4114800" cy="41068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95680" y="2751120"/>
                      <a:ext cx="4114800" cy="410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5715000" y="4648320"/>
              <a:ext cx="0" cy="685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280" y="36576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Incorrec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5000" y="4648320"/>
              <a:ext cx="609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5000" y="4648320"/>
              <a:ext cx="0" cy="685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05:19:21Z</dcterms:created>
  <dc:creator>Federico</dc:creator>
  <dc:description/>
  <dc:language>en-US</dc:language>
  <cp:lastModifiedBy>Rodrigo Antonio Assar Cuevas</cp:lastModifiedBy>
  <dcterms:modified xsi:type="dcterms:W3CDTF">2008-03-18T03:03:40Z</dcterms:modified>
  <cp:revision>203</cp:revision>
  <dc:subject/>
  <dc:title>Representacion Grafica</dc:title>
</cp:coreProperties>
</file>