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952080"/>
            <a:ext cx="87854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98100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98100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95208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95208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95208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6920" y="189000"/>
            <a:ext cx="8066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3952080"/>
            <a:ext cx="87854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9280" y="3952080"/>
            <a:ext cx="87854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928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9640" y="98100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0000" y="98100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9280" y="395208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9640" y="395208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0000" y="3952080"/>
            <a:ext cx="2828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26920" y="189000"/>
            <a:ext cx="8066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95208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135000"/>
            <a:ext cx="80661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952080"/>
            <a:ext cx="87854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131a30"/>
              </a:gs>
              <a:gs pos="100000">
                <a:srgbClr val="465e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9"/>
          <a:srcRect l="-4216" t="0" r="82933" b="12186"/>
          <a:stretch/>
        </p:blipFill>
        <p:spPr>
          <a:xfrm>
            <a:off x="0" y="0"/>
            <a:ext cx="55080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4076640"/>
            <a:ext cx="9144000" cy="1297080"/>
          </a:xfrm>
          <a:prstGeom prst="rect">
            <a:avLst/>
          </a:prstGeom>
          <a:gradFill rotWithShape="0">
            <a:gsLst>
              <a:gs pos="0">
                <a:srgbClr val="080b15"/>
              </a:gs>
              <a:gs pos="100000">
                <a:srgbClr val="465e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44000" cy="242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4005360"/>
          <a:ext cx="8454960" cy="6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005360"/>
                    <a:ext cx="845496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89040" y="4005360"/>
          <a:ext cx="8454960" cy="6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9040" y="4005360"/>
                    <a:ext cx="845496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89040" y="5300640"/>
          <a:ext cx="8454960" cy="6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9040" y="5300640"/>
                    <a:ext cx="845496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5300640"/>
          <a:ext cx="8454960" cy="69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5300640"/>
                    <a:ext cx="845496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13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13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farias@fen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3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560" y="4149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Ayudantía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Valor de los clientes </a:t>
            </a:r>
            <a:r>
              <a:rPr b="1" i="1" lang="es-MX" sz="3200" spc="-1" strike="noStrike">
                <a:solidFill>
                  <a:srgbClr val="ffffff"/>
                </a:solidFill>
                <a:latin typeface="Tahoma"/>
              </a:rPr>
              <a:t>(Customer Equity)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5805360"/>
            <a:ext cx="35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por Pablo Farías</a:t>
            </a:r>
            <a:br>
              <a:rPr sz="2400"/>
            </a:br>
            <a:r>
              <a:rPr b="0" lang="es-MX" sz="2400" spc="-1" strike="noStrike" u="sng">
                <a:solidFill>
                  <a:srgbClr val="996666"/>
                </a:solidFill>
                <a:uFillTx/>
                <a:latin typeface="Palatino Linotype"/>
                <a:hlinkClick r:id="rId1"/>
              </a:rPr>
              <a:t>pfarias@fen.uchile.cl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Aunque el cálculo es un poco más complej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1357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6761160" y="5877000"/>
          <a:ext cx="2382840" cy="73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1160" y="5877000"/>
                    <a:ext cx="23828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Hay 2 métodos para calcular el CLV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 Considerando la probabilidad de compra (Rust et al., 2004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8360" y="3573360"/>
                <a:ext cx="3854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r>
                              <m:t xml:space="preserve">P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f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24000" y="4869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AC = costos de adquirir a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 = margen (ventas–costos de servir y retener) en $ generado por el cliente en la compr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 = probabilidad de comprar la marca en la compr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 = frecuencia de compra en el año (</a:t>
            </a:r>
            <a:r>
              <a:rPr b="0" i="1" lang="es-MX" sz="1800" spc="-1" strike="noStrike">
                <a:solidFill>
                  <a:srgbClr val="000000"/>
                </a:solidFill>
                <a:latin typeface="Tahoma"/>
              </a:rPr>
              <a:t>e.g.,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tres compras al añ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 = tasa costo de capital an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2760" y="2421000"/>
                <a:ext cx="83246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¿Cómo se puede estimar esa probabilidad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Se obtiene una probabilidad de compra para la primera compra (encuesta o seguimient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 Obteniend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obtengo la utilidad que le genera al cliente cada mar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rcRect l="12158" t="50661" r="0" b="0"/>
          <a:stretch/>
        </p:blipFill>
        <p:spPr>
          <a:xfrm>
            <a:off x="1116000" y="2492280"/>
            <a:ext cx="7273800" cy="151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54560" y="5013360"/>
                <a:ext cx="3497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1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C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¿Cómo se puede estimar esa probabilidad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 Teniendo la utilidad, puedo averiguar que drivers (factores) incrementan la utilidad y la probabilidad de comp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= Utilidad del individuo de comprar la marca 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ST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= 1 si compra la marca K en la anterior compra, 0 si no (mide la inerc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nK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= Evaluación del driver n para la marca 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36680" y="3068640"/>
                <a:ext cx="8288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LAST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¿Cómo se puede estimar esa probabilidad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nK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= Evaluación del driver n para la marca 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6769080" cy="28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95280" y="5084640"/>
                <a:ext cx="8288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LAST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7591680" y="248976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1680" y="321048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2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1680" y="400284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¿Cómo se puede estimar esa probabilidad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82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58920" y="2637000"/>
            <a:ext cx="73080" cy="504720"/>
          </a:xfrm>
          <a:custGeom>
            <a:avLst/>
            <a:gdLst>
              <a:gd name="textAreaLeft" fmla="*/ 0 w 73080"/>
              <a:gd name="textAreaRight" fmla="*/ 26280 w 73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3357720"/>
            <a:ext cx="144360" cy="1008000"/>
          </a:xfrm>
          <a:custGeom>
            <a:avLst/>
            <a:gdLst>
              <a:gd name="textAreaLeft" fmla="*/ 0 w 144360"/>
              <a:gd name="textAreaRight" fmla="*/ 5220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4508640"/>
            <a:ext cx="142920" cy="122544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16160" y="270756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98080" y="366804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Br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95000" y="4941000"/>
            <a:ext cx="13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¿Cómo se puede estimar esa probabilidad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Y teniendo la utilidad calculada para el próximo periodo puedo calcular la probabilidad de compra en el periodo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Y teniendo la probabilidad de compra en el periodo 2, puedo hacer los pasos 1 al 4 para calcular la del periodo 3 y así sucesiv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56000" y="3141720"/>
                <a:ext cx="3497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2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t xml:space="preserve">C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ff"/>
                </a:solidFill>
                <a:latin typeface="Tahoma"/>
              </a:rPr>
              <a:t>Rust et al. (2004)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002880" cy="3571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9280" y="544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emás, el modelo permite cuantificar cuanto estaríamos dispuestos a invertir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ar un posicionamiento dado. Por ejemplo, Delta estaría dispuesta a invertir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áximo de 85.5 millones, para mejorar en 0.1 puntos (sobre una Escala Likert de 5 puntos) la percepción de ética corpo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581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 permite rentabilizar los objetivos de marketing, comparando los esfuer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marketing realizados con el aumento del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50560" y="4149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ahoma"/>
              </a:rPr>
              <a:t>Calculando n (número de clientes)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1. Regresió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09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Valor de la Empresa</a:t>
            </a: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1628640"/>
            <a:ext cx="5184720" cy="43214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844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213000"/>
            <a:ext cx="2808000" cy="23767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1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2492280"/>
            <a:ext cx="2665440" cy="2449440"/>
          </a:xfrm>
          <a:prstGeom prst="ellipse">
            <a:avLst/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3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2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393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1368360" cy="65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59280" y="1125360"/>
            <a:ext cx="4537080" cy="519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619280" y="981000"/>
            <a:ext cx="1384200" cy="782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916360" y="4581360"/>
            <a:ext cx="4680000" cy="1044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2. Modelos de difus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981000"/>
            <a:ext cx="8785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N(ti) es el número acumulado de nuevos clientes, incluyendo el periodo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n(t) es el número de nuevos clientes adquiridos en el periodo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 = número máximo de clientes que puede alcanzar la mar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(&gt;0) = coeficiente de inno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(&gt;0) = coeficiente de imi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2916360" y="5516640"/>
            <a:ext cx="5349600" cy="75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1619280" y="5589720"/>
            <a:ext cx="1368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93200" cy="4338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332000" y="544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empres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l trimestre 16 alcanza el número máxi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midores adquiridos en un solo trimestre, adquiriendo 4.421.179 clientes en el trimestre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4292280"/>
            <a:ext cx="64800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2. Modelos de difus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Medidas de desempeño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(Rust et al.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749680" y="1916280"/>
                <a:ext cx="259056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S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k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marca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  <m:r>
                              <m:t xml:space="preserve">k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stomer Equity Share (CE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I (Retorno sobre la inversión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4797360"/>
                <a:ext cx="24354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24000" y="6078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 = Inversión para incrementar el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ff"/>
                </a:solidFill>
                <a:latin typeface="Tahoma"/>
              </a:rPr>
              <a:t>Hallazgo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3745080" cy="2916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745080" cy="313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4000" y="4869000"/>
            <a:ext cx="83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ategoría $(0-99) incluye el 60% de los clientes, sin embargo, contribuye con menos del 10% del CE de American Airlines. En cambio, la categoría $(500+)  con sólo el 11,6% de los clientes produce el 50% del CE de American Airlines (Pareto effec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9840" y="105264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o todos contribuyen de igual forma al CE (Rust et al., 2004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Hallazgo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8360" y="1052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nivel sub-optimo de inversión en retener clientes tiene una mayor caída en el ROI que un nivel sub-optimo de inversión en adquirir nuev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inartz et al., 200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CE y Firm value (Bauer et al., 2003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86360" cy="4416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761160" y="5877000"/>
            <a:ext cx="238284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50560" y="4149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ahoma"/>
              </a:rPr>
              <a:t>Brand Equity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Brand Equity (Valor de la marca)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628640"/>
            <a:ext cx="8389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89280"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 valor de la marca se define como la diferencia entre la utilidad que obtendría la empresa con la marca y la utilidad que obtendría sin esa mar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Método de Damodaran (2006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5280" y="981000"/>
                <a:ext cx="4268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/V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e>
                    </m:d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95280" y="1557360"/>
                <a:ext cx="806436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BIT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</m:d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"/>
                                <m:endChr m:val="}"/>
                              </m:dPr>
                            </m:d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24000" y="3297240"/>
            <a:ext cx="8496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/V = Ratio (valor de la empresa/ventas de la empresa) de la empresa con la marca (b) y una empresa sin marca (nb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 = Ventas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 = Valor libro del patrimo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 = tasa de impuestos a l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BIT = Utilidad antes de impuestos e inter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 = tasa de reinversión del EBIT en alto cr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 = tasa de reinversión del EBIT en bajo cr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 = Tasa de crecimiento en el EBIT para los primeros “n” años (alto crecimi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= EBIT*(1-t) *(i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n= Tasa de crecimiento en el EBIT para los “n+1” años en adelante (bajo crecimi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= EBIT*(1-t) *(in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 = tasa de costo de capital (WACC) de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Método de Dubin (2007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328428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término entre paréntesis representa la proporción del margen de explotación que puede explicarse por la mar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= margen de explotación de la empresa con la mar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= tasa de impuesto a las empre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 = participación de mercado de la mar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p / (p + participación de mercado de las sin marc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ε = Elasticidad precio de la marca (b) y de las empresas sin marca (nb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10000"/>
              </a:lnSpc>
              <a:spcBef>
                <a:spcPts val="499"/>
              </a:spcBef>
              <a:buSzPct val="13152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= tasa de costo de capital (WACC) de la empresa con la mar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88880" y="1125360"/>
                <a:ext cx="8093160" cy="190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"/>
                          </m:dPr>
                        </m:d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*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s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p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s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"/>
                            <m:endChr m:val="}"/>
                          </m:dPr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Tahoma"/>
              </a:rPr>
              <a:t>Valor de un activ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89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El valor de cualquier activo es determinado por los flujos de caja futuros esperados descontados a su valor present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8360" y="4724280"/>
                <a:ext cx="79930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O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50560" y="4149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ahoma"/>
              </a:rPr>
              <a:t>Customer Equity (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Customer Lifetime Value (CLV)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777080" cy="54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88800" y="2634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4440" y="299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44080" y="306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11280" y="5516640"/>
                <a:ext cx="777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O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Customer Equity (CE)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E es la sumatoria de los CLV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obtener por segmentos (A, B, …, Z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donde, el valor del segmento A es igual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17480" y="4059360"/>
                <a:ext cx="73836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84520" y="2368440"/>
                <a:ext cx="49813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1476360" y="4581360"/>
            <a:ext cx="50472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600" y="5081760"/>
            <a:ext cx="20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uales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Base de cli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59040" y="522792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evos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el period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59640" y="4581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450864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3280" y="522792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ev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el periodo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50560" y="4149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ahoma"/>
              </a:rPr>
              <a:t>Calculando el CLV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Hay 2 métodos para calcular el CLV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Considerando una tasa de retención de clientes (Gupta &amp; Lehmann, 2003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2360" y="2374920"/>
                <a:ext cx="79563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9880" y="3716280"/>
                <a:ext cx="7980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*r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*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-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58920" y="47512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AC = costos de adquirir a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 = margen (ventas–costos de servir y retener) en $ generado por el cliente en el periodo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 = tasa de retención de clientes (probabilidad de ser cliente al final del periodo 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 = tasa costo de capital del periodo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Ejercici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los clientes presentan una tasa de retención del 80% y generan un margen de $100 cada año (i = 10% ; AC = $20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) ¿Es rentable ofrecer un descuento anual de $10 para incrementar la tasa de retención a 90%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b) ¿Cuánto estoy dispuesto a gastar para incrementar la tasa de retención a 90%?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4:46:17Z</dcterms:created>
  <dc:creator>Pablo Farías</dc:creator>
  <dc:description/>
  <dc:language>en-US</dc:language>
  <cp:lastModifiedBy>pfarias</cp:lastModifiedBy>
  <dcterms:modified xsi:type="dcterms:W3CDTF">2008-05-09T21:10:57Z</dcterms:modified>
  <cp:revision>274</cp:revision>
  <dc:subject/>
  <dc:title>  Endowment Effect:  Evidencia Empírica Desde Chile</dc:title>
</cp:coreProperties>
</file>