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903-AC4E-4EA6-A502-788D875A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958-C393-41AF-B580-63EFB8B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516-FC95-49B9-8F22-1E68937F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F88-B44A-4D5D-9A10-ED0E1100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B12-C978-4BC4-9FF9-95F8881D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8A4-B085-414C-815A-8207A56D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0A3-8623-4D3B-8175-DF92ACE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FC0-13AC-4211-996A-3D84F52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960-BF11-4808-8F70-6891655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17F-1627-4475-85D1-8F7B5A1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FA8-4349-4930-8CD0-A61104B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674-68DC-4D04-AE13-3D780C5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CE3C-5E4E-4C6C-B766-52EF43C7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ha sido nombrado gerente de marketing de una gran cadena de supermercados. Se le ha solicitado que introduzca marcas propias, por la primera vez. Desarrolle una estrategia para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8-07-05T21:56:05Z</dcterms:modified>
  <cp:revision>14</cp:revision>
  <dc:subject/>
  <dc:title>Dirección de Marketing</dc:title>
</cp:coreProperties>
</file>