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180-A8EE-4872-81B2-2FD47053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14C-B9DE-4448-8E71-B3BB79C7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9B7-D93A-4998-B683-A5EC9760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EA8-AF25-43D9-B4F4-F34C2897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57D-014F-4CF5-9B9B-AC437F86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00F-71C9-4D99-984C-D8745432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53A-9673-4588-B668-984C4DF7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31E-C7C6-4CD5-AB55-345BDC1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274-7CD4-453D-9EC1-35A4BA61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8E2-3AD0-484F-A722-5054F37A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006-1A19-40B3-A377-AC1CD87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5C3-FE7F-411C-BBAC-0F09194A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82DA-21C2-489B-A2ED-42144DC82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ha sido nombrado gerente de marketing de una gran cadena de supermercados. Se le ha solicitado que introduzca marcas propias, por la primera vez. Desarrolle una estrategia para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8-07-05T21:56:05Z</dcterms:modified>
  <cp:revision>14</cp:revision>
  <dc:subject/>
  <dc:title>Dirección de Marketing</dc:title>
</cp:coreProperties>
</file>