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603F-3CA3-4298-ADE4-9892EA76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57D-80E8-4E8E-9F96-08D23243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740E-D955-4328-867C-DF0E5EC4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237-1759-4BD7-9700-22F72F7A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3C7-3B9C-4F18-89FD-EBC66A1D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415-3BFD-4E4C-8319-F432DE64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A4BC-8BDE-4D03-9164-7D140067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335C-FD8C-4DBE-AC91-D2021811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FC6D-0894-416A-B088-1F67FB6B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2963-F48C-432A-89E1-E7DB73EA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741B-5C20-4C55-A083-B68BB8FE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44F-5E31-42B1-A7B6-C226BA68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7052-03C3-453C-9F21-8E38F3AAC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4797360"/>
            <a:ext cx="2484360" cy="1871640"/>
            <a:chOff x="6443640" y="4797360"/>
            <a:chExt cx="2484360" cy="1871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651800" y="5034960"/>
              <a:ext cx="970200" cy="15505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6443640" y="4797360"/>
            <a:ext cx="2484360" cy="187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43640" y="4797360"/>
                      <a:ext cx="24843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23736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24000" y="661824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TP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669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d. ha sido nombrado gerente de marketing de una gran cadena de supermercados. Se le ha solicitado que introduzca marcas propias, por la primera vez. Desarrolle una estrategia para hac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ota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xplicite los supuestos que utilizó para su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3:37:57Z</dcterms:created>
  <dc:creator>Jorge Lara</dc:creator>
  <dc:description/>
  <dc:language>en-US</dc:language>
  <cp:lastModifiedBy>Jorge Lara</cp:lastModifiedBy>
  <dcterms:modified xsi:type="dcterms:W3CDTF">2008-07-05T21:56:05Z</dcterms:modified>
  <cp:revision>14</cp:revision>
  <dc:subject/>
  <dc:title>Dirección de Marketing</dc:title>
</cp:coreProperties>
</file>