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41D-E634-462A-B5DC-A712EB21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5825-BFED-4365-BA4E-C6B951F1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643-6FA0-45A0-A3C3-B67212F9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20B-7170-4628-92AC-2FCB9746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87A-BCD0-46F0-982C-1494057F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F60-FFA7-4BE4-9FD7-C1A5A1FD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9A2-2F11-4850-845A-DE19B7FD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667-BE2F-408F-8DAB-C349BCF3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A2A-F978-4966-AE6D-DBFA9292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FB8-BD65-4243-8358-430DDA0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90F-59EF-45C9-864E-C160C5D8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EC2-C720-4607-B892-20915CC9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06CB-E88E-44FC-9B2F-2E0580E3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ha sido nombrado gerente de marketing de una gran cadena de supermercados. Se le ha solicitado que introduzca marcas propias, por la primera vez. Desarrolle una estrategia para hac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8-07-05T21:56:05Z</dcterms:modified>
  <cp:revision>14</cp:revision>
  <dc:subject/>
  <dc:title>Dirección de Marketing</dc:title>
</cp:coreProperties>
</file>