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691-C2E7-4F56-80E0-E091E0BF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183-E1F4-407A-994E-CF81F6FE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7A2-59E7-4B18-B7CE-3FE4E15F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05B-F41C-4AE5-9A9B-430EEAA5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8B3-B745-4E71-8ADA-0D34B4F7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A19-BBD3-4341-9A57-90AD768A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514-A0AA-4F35-BF86-CF1CFE3E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389-202B-4854-98CE-59CFFF61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C67-881E-41BD-A674-9756EBE3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D19-3E69-4CC6-946F-D0F4F65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581-7A9B-4692-9AC3-7E7EDD63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520-8547-49FF-9592-540CB0A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904B-7D34-4A99-A4B5-5FA14562C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ha sido nombrado gerente de marketing de una gran cadena de supermercados. Se le ha solicitado que introduzca marcas propias, por la primera vez. Desarrolle una estrategia para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8-07-05T21:56:05Z</dcterms:modified>
  <cp:revision>14</cp:revision>
  <dc:subject/>
  <dc:title>Dirección de Marketing</dc:title>
</cp:coreProperties>
</file>