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12F-FE2B-4B21-9CD5-E32EA120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680-F1A2-4FF5-8A8B-8EECBA95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45C-74FF-4E0B-882B-46DBC2EF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C2E-198F-418C-8631-215C6D3F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B4E-FBCE-43C1-A1DF-61DD9273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095-3524-4BA0-8C6C-967A2D1C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0A1-81F5-459C-89F0-F36B3C73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864-19B8-494C-9BA8-5412C79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BA4-75DF-4DA9-AAF7-876AD78E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E5F-8F22-4086-A065-3CE2A478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720-97CA-420D-8B84-B7AB8B60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334-526D-46C2-9C52-4E96EEB3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3F63-1C85-4C6F-8D3E-A41F95B1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ha sido nombrado gerente de marketing de una gran cadena de supermercados. Se le ha solicitado que introduzca marcas propias, por la primera vez. Desarrolle una estrategia para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8-07-05T21:56:05Z</dcterms:modified>
  <cp:revision>14</cp:revision>
  <dc:subject/>
  <dc:title>Dirección de Marketing</dc:title>
</cp:coreProperties>
</file>