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DF1E3-568D-4CE3-969C-38E60B46F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41CDD-8DD1-4DAC-B368-221CB2CD3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A0C4A-BCCA-4EC7-95E9-F420273B1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0DD6F-F84D-4EA0-AA99-17937BC9A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C1DCD-0FE9-456C-A2B4-3E60EB442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DA216-A961-46F8-B4D3-4FC4D842A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14642-236E-4BC3-B4EE-ECECEBCE6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39A22-8ACB-401D-B62F-AD1A364D0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0EBDA-667A-468A-A4E7-31EEE649C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57646-6721-4E4C-A3F9-A9B8F0105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1E45E-095E-47B2-AAA2-2BFF8D449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82FA2-034A-4450-AC6F-5347FBE89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A0F3-FCB4-45AA-9E5C-C216F05B2A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6877080" y="4508640"/>
            <a:ext cx="2266920" cy="1512720"/>
            <a:chOff x="6877080" y="4508640"/>
            <a:chExt cx="2266920" cy="1512720"/>
          </a:xfrm>
        </p:grpSpPr>
        <p:pic>
          <p:nvPicPr>
            <p:cNvPr id="42" name="" descr=""/>
            <p:cNvPicPr/>
            <p:nvPr/>
          </p:nvPicPr>
          <p:blipFill>
            <a:blip r:embed="rId1"/>
            <a:stretch/>
          </p:blipFill>
          <p:spPr>
            <a:xfrm>
              <a:off x="7979400" y="4700520"/>
              <a:ext cx="885240" cy="1253160"/>
            </a:xfrm>
            <a:prstGeom prst="rect">
              <a:avLst/>
            </a:prstGeom>
            <a:ln w="0">
              <a:noFill/>
            </a:ln>
          </p:spPr>
        </p:pic>
        <p:graphicFrame>
          <p:nvGraphicFramePr>
            <p:cNvPr id="43" name=""/>
            <p:cNvGraphicFramePr/>
            <p:nvPr/>
          </p:nvGraphicFramePr>
          <p:xfrm>
            <a:off x="6877080" y="4508640"/>
            <a:ext cx="2266920" cy="1512720"/>
          </p:xfrm>
          <a:graphic>
            <a:graphicData uri="http://schemas.openxmlformats.org/presentationml/2006/ole">
              <p:oleObj r:id="rId2" spid="">
                <p:embed/>
                <p:pic>
                  <p:nvPicPr>
                    <p:cNvPr id="44" name="" descr=""/>
                    <p:cNvPicPr/>
                    <p:nvPr/>
                  </p:nvPicPr>
                  <p:blipFill>
                    <a:blip r:embed="rId3"/>
                    <a:stretch/>
                  </p:blipFill>
                  <p:spPr>
                    <a:xfrm>
                      <a:off x="6877080" y="4508640"/>
                      <a:ext cx="2266920" cy="1512720"/>
                    </a:xfrm>
                    <a:prstGeom prst="rect">
                      <a:avLst/>
                    </a:prstGeom>
                    <a:ln w="0">
                      <a:noFill/>
                    </a:ln>
                  </p:spPr>
                </p:pic>
              </p:oleObj>
            </a:graphicData>
          </a:graphic>
        </p:graphicFrame>
      </p:grpSp>
      <p:sp>
        <p:nvSpPr>
          <p:cNvPr id="45" name="PlaceHolder 1"/>
          <p:cNvSpPr>
            <a:spLocks noGrp="1"/>
          </p:cNvSpPr>
          <p:nvPr>
            <p:ph type="title"/>
          </p:nvPr>
        </p:nvSpPr>
        <p:spPr>
          <a:xfrm>
            <a:off x="-360" y="5805000"/>
            <a:ext cx="7086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ción de Marketing</a:t>
            </a:r>
            <a:endParaRPr b="0" lang="en-US" sz="2000" spc="-1" strike="noStrike">
              <a:solidFill>
                <a:srgbClr val="000000"/>
              </a:solidFill>
              <a:latin typeface="Arial"/>
            </a:endParaRPr>
          </a:p>
        </p:txBody>
      </p:sp>
      <p:sp>
        <p:nvSpPr>
          <p:cNvPr id="46" name="PlaceHolder 2"/>
          <p:cNvSpPr>
            <a:spLocks noGrp="1"/>
          </p:cNvSpPr>
          <p:nvPr>
            <p:ph type="subTitle"/>
          </p:nvPr>
        </p:nvSpPr>
        <p:spPr>
          <a:xfrm>
            <a:off x="2209680" y="6095880"/>
            <a:ext cx="6400800" cy="47952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io 2008</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539640" y="0"/>
            <a:ext cx="7777440" cy="5157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TP #1</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d. contrató a los mejores consultores que el mercado dispone (a US$ 1.500/hora) para efectuar un Plan de Marketing para su empresa. En una semana más le entregarán el producto final. Ud. debe informarle al gerente de consultoría cuáles son las variables que Ud. considerará para determinar si el trabajo corresponde a lo esper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pendiendo de cuán preciso sea Ud. en su demanda, el resultado se ajustará más a sus necesidades. Por lo tanto defina con exactitud, establezca metas, exprésese con claridad,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resultados de la consultoría deben corresponder a sus ambiciones (¡altísimas!), sin embargo debe ser realista en lo que exi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ga los supuestos que requiera para su recomend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escriba de manera breve, pero precisa la empresa para la cual Ud. está solicitando el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23:37:57Z</dcterms:created>
  <dc:creator>Jorge Lara</dc:creator>
  <dc:description/>
  <dc:language>en-US</dc:language>
  <cp:lastModifiedBy>Jorge Lara</cp:lastModifiedBy>
  <dcterms:modified xsi:type="dcterms:W3CDTF">2008-07-05T21:48:22Z</dcterms:modified>
  <cp:revision>9</cp:revision>
  <dc:subject/>
  <dc:title>Dirección de Marketing</dc:title>
</cp:coreProperties>
</file>