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491F2-C037-4D7A-A64C-0D1B234E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90CF-38CC-4933-BD61-473A0B78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5F527-3F3E-466E-BC03-44B136952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77400-D852-4269-982C-CEC26D143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397B-37D2-40D3-9DC8-9B93FE91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7B62-D173-479C-A61F-BE0C4757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E0E64-0EE7-47EF-BAE8-854AE5152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7094-B5EB-42D7-8EFC-87230654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E649-E483-46CF-8738-927E84E1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FB8D-A41C-4C49-9E3F-1006F83F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597C-F97D-41A3-A123-C6610283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891A-2F15-4E9E-A61C-C9CC186C5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8829-B713-41EB-8560-280EB3320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gualdad y autoridad</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343400" y="4266720"/>
            <a:ext cx="4038480" cy="1752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berto Bobbio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a e Izquierda: Razones y significados de una distinción política. Capítulo VII.  Editorial Taurus</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468360" y="260280"/>
            <a:ext cx="2303280" cy="1656000"/>
          </a:xfrm>
          <a:prstGeom prst="rect">
            <a:avLst/>
          </a:prstGeom>
          <a:ln w="0">
            <a:noFill/>
          </a:ln>
        </p:spPr>
      </p:pic>
      <p:sp>
        <p:nvSpPr>
          <p:cNvPr id="44" name=""/>
          <p:cNvSpPr/>
          <p:nvPr/>
        </p:nvSpPr>
        <p:spPr>
          <a:xfrm>
            <a:off x="4211640" y="4221000"/>
            <a:ext cx="0" cy="189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ertad y autoridad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ómo hacer compatibles la libertad con la igualdad. Ninguno de los dos ideales (liberalismo y socialismo) se pueden llevar a cabo hasta sus extremas consecuencia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múltiples ejemplos de disposiciones igualitarias que limitan la libertad y de disposiciones libertarias que limitan la igualdad. La pérdida de libertad golpea más al rico que al pobre, ya que la libertad de este último está restringida por la situación económica. Ante la igualdad, el rico pierde la libertad de que gozaba, el pobre, una poten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ertad y autoridad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er una libertad igual a la de todos los demás quiere decir no solo tener todas las libertades que los demás tienen, sino también tener igual posibilidad de gozar de cada una de esas libertades. La doctrina liberal mantiene la primera, pero la práctica liberal no puede garantizar la segun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entras la libertad es un estatus de la persona, la igualdad alude a una relación entre dos ent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ertad y autoridad (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nto a la díada libertad-igualdad hay que poner otra: libertad-autoridad, de la que derivan movimientos libertarios y autoritarios. Sin embargo, esta distinción no sirve para distinguir izquierda y derec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ertad y autoridad (4)</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odría distinguir 4 grupos según se ubiquen en este esque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extrema izquierda estarían movimientos a la vez autoritarios e igualitar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centro izquierda, movimientos a la vez igualitarios y libertar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centro derecha, doctrinas a la vez libertarios y no igualitar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extrema derecha, doctrinas y movimientos antiliberales y antiigualitari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23:44:31Z</dcterms:created>
  <dc:creator>Mario</dc:creator>
  <dc:description/>
  <dc:language>en-US</dc:language>
  <cp:lastModifiedBy>ext.maf</cp:lastModifiedBy>
  <dcterms:modified xsi:type="dcterms:W3CDTF">2008-04-08T22:04:02Z</dcterms:modified>
  <cp:revision>15</cp:revision>
  <dc:subject/>
  <dc:title>DERECHA E IZQUIERDA Razones y significados de una distinción política</dc:title>
</cp:coreProperties>
</file>