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819520"/>
            <a:ext cx="2514600" cy="1447560"/>
          </a:xfrm>
          <a:prstGeom prst="ellipse">
            <a:avLst/>
          </a:prstGeom>
          <a:solidFill>
            <a:srgbClr val="00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371600"/>
            <a:ext cx="5333760" cy="53341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3800" y="3135240"/>
            <a:ext cx="194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ABL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PTIMO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920" y="1422360"/>
            <a:ext cx="4214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IVEL OPTIMO DE ACTIVOS 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 BUSCA PARA  MANTENER UN EQUILIB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LIQUIDEZ Y RENTABIL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AMBIEN DEBE BUSCARSE UN EQUILIB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GRUPO DE ACTIVOS CIRCULAN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DECIR, OPTIMO EFECTIVO,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Y DE CUENTAS POR COBR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FECTIVO; SE BUSCA MANTENE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JUSTO EFECTIVO DISPONIBLE 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ALIZAR LAS OPERACIONES CO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IANAS DEL NEGOCIO.  PUEDE INVE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R LOS EXCEDENTES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VENTARIOS LOS GERENTES BU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L NIVEL QUE REDUZCA LAS V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ERDIDAS DEBIDO A LA FALTA DE I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VENTARIO, MIENTRAS MANTIENE B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JOS COSTO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UENTAS POR COBRAR; L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EAN AUMENTAS SUS VENTA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NTENER BAJOS NIVELES DE DEU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COBRABLE Y GASTOS DE CAUD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AVÉS DE POLITICAS SÓLIDAS DE CR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9680" y="41497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4648320"/>
            <a:ext cx="1849320" cy="17348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52680" y="1447920"/>
            <a:ext cx="5486400" cy="4800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819520"/>
            <a:ext cx="2286000" cy="1600200"/>
          </a:xfrm>
          <a:prstGeom prst="ellipse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12408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0560" y="1687680"/>
            <a:ext cx="509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RELA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BLIGA A MANTENER CANTIDADES RELATIV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GRANDES DE EFECTIVO, VALORES NEGOCIABLES E I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ENTARIOS Y BAJO LA CUAL LAS VENTAS SON ESTI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ADAS POR UNA POLITICA DE CRÉDITO LIBERAL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A COMO RESULTADO UN ALTO NIVEL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RESTRING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LITICA EN VIRTUD DE LA CUAL EL MANTEN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FECTIVO Y VALORES NEGOCIABLES,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UENTAS POR COBRAR TIENEN UN NIVEL MI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MOD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LITICA QUE SE SITUA ENTRE LAS OTRAS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5120" y="1600200"/>
            <a:ext cx="0" cy="41148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5715000"/>
            <a:ext cx="495288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1904760"/>
            <a:ext cx="3809880" cy="32763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5120" y="2742840"/>
            <a:ext cx="4724280" cy="2438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05120" y="3733560"/>
            <a:ext cx="5029200" cy="14475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2895480"/>
            <a:ext cx="0" cy="2819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5120" y="289548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05120" y="37339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5120" y="44197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8880" y="62514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V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9040" y="137484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ACTIVOS 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4280" y="5791320"/>
            <a:ext cx="56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      5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                    10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150                      20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-379080" y="3655440"/>
            <a:ext cx="39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23960" y="22431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RELAJ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6040" y="3233880"/>
            <a:ext cx="18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MODE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68880" y="414828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RESTRING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15200" y="3352680"/>
            <a:ext cx="1378080" cy="2295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800600" y="4572000"/>
            <a:ext cx="3124080" cy="914400"/>
          </a:xfrm>
          <a:prstGeom prst="rect">
            <a:avLst/>
          </a:prstGeom>
          <a:solidFill>
            <a:srgbClr val="ffff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124080"/>
            <a:ext cx="3124080" cy="9144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1752480"/>
            <a:ext cx="3124080" cy="9144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19520"/>
            <a:ext cx="2286000" cy="1600200"/>
          </a:xfrm>
          <a:prstGeom prst="ellipse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12408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NA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29718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0320" y="1981080"/>
            <a:ext cx="2512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01772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9684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71800" y="2057400"/>
            <a:ext cx="5867280" cy="358128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760" y="336384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2200" y="2362320"/>
            <a:ext cx="5482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QUE IMPLICA QUE TODOS LOS 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UNA EMPRESA SEAN FINANCIADOS CON CAPITAL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PLAZO, MIENTRAS QUE UNA PARTE DE LOS ACT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VOS CIRCULANTES PERMANENTES SEAN FINANCI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 FUENTES NO ESPONTANEAS DE FONDOS DE 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REDITOS DE CORTO PLAZO SON MÁS RIESGOSOS P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OS DEBEN CANCELARSE O REFINANCIARSE EN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ÁS INMEDI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50660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440" y="336384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733920"/>
            <a:ext cx="1981080" cy="28191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2057400"/>
            <a:ext cx="1981080" cy="16765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723920" y="37339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71800" y="1676520"/>
            <a:ext cx="5867280" cy="426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600" y="3363840"/>
            <a:ext cx="16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4360" y="1981080"/>
            <a:ext cx="5627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EN LA QUE LA TOTALIDAD DE LOS ACTIVOS FIJ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CIRCULANTES PERMANENTES Y UNA PARTE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RCULANTES DE UNA EMPRESA SON FINANCIADOS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ESTAMOS DE LARGO PLAZO SE CONSIDERAN DE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IESGOSOS, LA EMPRESA TIENE MÁS TIEMPO PARA CANC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 SUS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MPLICA LA UTILIZACIÓN DE DEUDAS DE LARGO PLAZ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CONTABLE PARA FINANCIAR TODOS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JOS, LOS ACTIVOS CIRCULANTES PERMANENTES Y PA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LOS ACTIVOS CIRCULANTES TEMPOR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TERMINOS DE LA RENTABILIDAD QUE SE LE EXIGE A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, EL PATRIMONIO ES LA FORMA MÁS CAR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NANCIAR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173664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7640" y="3363840"/>
            <a:ext cx="16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590920"/>
            <a:ext cx="1981080" cy="39621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2057400"/>
            <a:ext cx="1981080" cy="5335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723920" y="25909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2057400"/>
            <a:ext cx="5867280" cy="3962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120" y="336384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30560" y="2209680"/>
            <a:ext cx="5702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E LE CONOCE COMO ENFOQUE DE ACOPLAMIENTO,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UTOLIQUIDACIÓN O DE CONTRAPART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NTEA QUE EL COSTO DE UN ACTIVO DEBE RECONOC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EL TIEMPO EN QUE ESTE SUMINISTRA INGRESOS O BE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CIOS AL NEGO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USCA UN EQUILIBRIO ENTRE LOS 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EMPORALES Y LOS PASIVOS CIRCUL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A IGUALADO SUS ACTIVOS CIRCULANTES PERMANENT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ACTIVOS FIJOS, CON SUS FUENTES DE 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USCA LA EMPRESA UN RIESGO MODERADO EN SU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PERADO Y SU ASOCIACIÓN CON EL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755720" cy="18176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2800" y="336384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048120"/>
            <a:ext cx="1981080" cy="35049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2057400"/>
            <a:ext cx="1981080" cy="9907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9880" y="2209680"/>
            <a:ext cx="5029200" cy="35053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2286000"/>
            <a:ext cx="3048120" cy="1371600"/>
          </a:xfrm>
          <a:prstGeom prst="cloudCallout">
            <a:avLst>
              <a:gd name="adj1" fmla="val -18435"/>
              <a:gd name="adj2" fmla="val 101504"/>
            </a:avLst>
          </a:prstGeom>
          <a:solidFill>
            <a:srgbClr val="8000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40240" y="2666880"/>
            <a:ext cx="229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PORQUÉ SE ACU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73560" y="2590920"/>
            <a:ext cx="437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EMPRESA  NO PUEDE MAXIMIZ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PLAZO SINO SOBREVIVE EN EL 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ADMINISTRACIÓN DEL CAPITAL DE TRAB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JO  ES UN REQUISITO PARA QU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OBREV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ACTIVOS CIRCULANTE FLUCTUAN 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UNCA LLEGAN A 0, YA QUE DE ALGUNA M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ERA DEBO AFRONTAR MIS OPER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IA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2303280" cy="1760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30040" y="2063880"/>
          <a:ext cx="8731440" cy="376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2063880"/>
                    <a:ext cx="8731440" cy="3767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5638680"/>
            <a:ext cx="7848360" cy="914400"/>
          </a:xfrm>
          <a:prstGeom prst="rect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1295280"/>
            <a:ext cx="5867280" cy="41148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9560" y="1413000"/>
            <a:ext cx="5168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C ADOPTA UN ENFOQUE CONSERVADO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NANCIACIÓN, TIENE LA MENOR UTILIDAD NETA,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YOR MONTO DE CAPITAL DE TRABAJO NETO, LA M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YOR RAZÓN DE CIRCULANTE Y EL MENOR RETORNO S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RE EL CAPITAL. ESTO REFLEJA UN RIESGO RELATIVAM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E MENOR Y EL MENOR RETORNO POTEN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M, QUE SE ADHIERE AL MODELO MODE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EQUILIBRAR SUS ACTIVOS CIRCULANTES 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RENTEA SUS PASIVOS CIRCULANTES, POR SUPUESTO,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NTRA EN UNA POSICIÓN INTERMEDIA ENTR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TRAS 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A TIENE UN ENFOQUE AGRESIVO TIENE LA MAY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TILIDAD NETA, EL MENOR MONTO DE CAPIT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ETO, LA MENOR RAZÓN DE CIRCULANTE Y EL MAYOR RET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OBRE EL CAPITAL . ESTO ES CONSISTENTE CON LA REL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RIESGO Y RETORNO ( CUANDO MAYOR RIESGO SE AS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E, MAYOR RETORNO SE OBTENDRA) . NO HAY GARANTÍA,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PUESTO, QUE UTILIDAD NETA SEA 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1440" y="5715000"/>
            <a:ext cx="73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DA EMPRESA DEBE DECIDIR SU EQUILIBRIO DE FUENTES DE FINA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Y SU ENFOQUE PARA LA ADMINISTRACIÓN DEL CAPITAL DE TRABAJO CON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N LA INDUSTRIA DONDE ESTA Y SU  ESTRATEGIA DE RIESGO -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1778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9880" y="1600200"/>
            <a:ext cx="4724640" cy="472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295280"/>
            <a:ext cx="2895480" cy="1905120"/>
          </a:xfrm>
          <a:prstGeom prst="cloudCallout">
            <a:avLst>
              <a:gd name="adj1" fmla="val -3509"/>
              <a:gd name="adj2" fmla="val 84749"/>
            </a:avLst>
          </a:prstGeom>
          <a:solidFill>
            <a:srgbClr val="8000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8640" y="1660680"/>
            <a:ext cx="193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ENTAJ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1080" y="1728720"/>
            <a:ext cx="4111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LAS POLITICAS PARA EL FINANCIA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APITAL DE TRABAJO IMPLICA UN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UDA. EN EL CASO DE LA AGRESIVA IMP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UN GRAN USO DE DEUDAS DE CORTO PLAZ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MIENTRAS QUE LA CONSERVADORA REQUI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L MENOR USO POSIBLE; EL ACOP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 LOS VENCIMIENTOS SE UBICA EN UN P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INTERME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UNQUE EL EMPLEO DEL CRÉDITO A CORTO PL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ZO ES, POR LO GENERAL, MÁS RIESGOSO QUE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L CRÉDITO A LARGO PLAZO, TIENE ALGU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VENTAJAS SIGNIFICATIVAS Y OTROS NO TA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ELEMENTOS QUE DEBEN ANALIZ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RAPI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OSTO DE LA DEUDA LARGO Y C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RIESGO DE LA DEUDA LARGO Y C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1940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00400" y="1447920"/>
            <a:ext cx="57150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71800"/>
            <a:ext cx="5638680" cy="3200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981080"/>
            <a:ext cx="1905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5760" y="2214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AP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4520" y="1535040"/>
            <a:ext cx="454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RÉDITO A CORTO PLAZO ES MÁS RAP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TENER LA TASA QUE SE COBRA ES RELATIV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ENTE MÁS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038480"/>
            <a:ext cx="19051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" y="4272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9640" y="3130560"/>
            <a:ext cx="5153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 LAS NECESIDADES FONDOS SON EST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EMPRESAS SUELEN NO QUERER COMPROMET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 DEUDAS A LARGO PLAZO POR; LOS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SOCIADOS A LA EMISIÓN DE LA DEUDA Y ALGU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UDAS DE LARGO PLAZO EXIGEN GARANTIAS COL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ERALES MUY FUERTES Y EN GENERAL LOS CONTR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S CONTIENEN CLAUSULAS QUE RESTRINGEN ACCI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ES FUTURAS DE LA EMPRE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TRATOS A CORTO PLAZO EN GENERAL SON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NERO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8195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50292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00400" y="1447920"/>
            <a:ext cx="57150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2971800"/>
            <a:ext cx="5638680" cy="3200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1905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9920" y="1905120"/>
            <a:ext cx="120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UD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V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7400" y="1535040"/>
            <a:ext cx="516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CURVA DE ENDIMIENTOS NORMALES MUESTRA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ENDIENTE ASCENDENTE, LO CUAL IMPLICA QUE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ASAS DE INTERES, POR LO GENERAL, SON  MÁS BA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EL CASO DEL CORT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038480"/>
            <a:ext cx="1905120" cy="1143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2840" y="4272120"/>
            <a:ext cx="164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IESGO DEU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LARGO V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11440" y="3130560"/>
            <a:ext cx="52862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 PESAR QUE LAS DEUDAS DE CORTO PLAZO SON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STOSAS, EXPONEN A LA EMPRESA A UNA MAYOR CA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IDAD DE RIESGO QUE EL FINANCIAMIENTO A L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 POR DOS RA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STOS CREDITOS A LARGO  PLAZO SON M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OS FLUCTU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SIBILIDAD DE ENTRAR EN INSOLV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28195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52578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5181480"/>
            <a:ext cx="5639040" cy="1371600"/>
          </a:xfrm>
          <a:prstGeom prst="rect">
            <a:avLst/>
          </a:prstGeom>
          <a:solidFill>
            <a:srgbClr val="00cc99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429000"/>
            <a:ext cx="5639040" cy="1295280"/>
          </a:xfrm>
          <a:prstGeom prst="rect">
            <a:avLst/>
          </a:prstGeom>
          <a:solidFill>
            <a:srgbClr val="ccccff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676520"/>
            <a:ext cx="5639040" cy="1295280"/>
          </a:xfrm>
          <a:prstGeom prst="rect">
            <a:avLst/>
          </a:prstGeom>
          <a:solidFill>
            <a:srgbClr val="ccff33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66880"/>
            <a:ext cx="2438280" cy="1219320"/>
          </a:xfrm>
          <a:prstGeom prst="ellipse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120" y="2895480"/>
            <a:ext cx="21556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TEGOR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UEDEN AF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A POLI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038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700280"/>
            <a:ext cx="55054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CIRCULANTES TEMP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LAS FLUCTUACIONES ESTACI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ALES DEL INVENTARIO, EFECTIVO Y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CIRCULANT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EL NIVEL BASE DE INVENTARI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FECTIVO Y CUENTAS POR COBRAR, QUE TI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A MANTENER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TERRENOS, CONSTRUCCION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TROS ACTIVOS QUE NORMALMENTE NO 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ENDERAN O DE LO CONTRARIO, SE ELIMINA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SPUES DE UN PERIODO PROLON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4952880"/>
            <a:ext cx="4648320" cy="106704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4038480"/>
            <a:ext cx="4648320" cy="60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00200" y="4648320"/>
            <a:ext cx="4267080" cy="380880"/>
          </a:xfrm>
          <a:prstGeom prst="rtTriangle">
            <a:avLst/>
          </a:prstGeom>
          <a:solidFill>
            <a:srgbClr val="c0c0c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00200" y="3048120"/>
            <a:ext cx="4648320" cy="990360"/>
          </a:xfrm>
          <a:prstGeom prst="rtTriangle">
            <a:avLst/>
          </a:prstGeom>
          <a:solidFill>
            <a:srgbClr val="c0c0c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00200" y="2895120"/>
            <a:ext cx="5334120" cy="1143000"/>
          </a:xfrm>
          <a:prstGeom prst="line">
            <a:avLst/>
          </a:prstGeom>
          <a:ln cap="sq"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181480"/>
            <a:ext cx="4648320" cy="6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00200" y="1905120"/>
            <a:ext cx="0" cy="4114800"/>
          </a:xfrm>
          <a:prstGeom prst="line">
            <a:avLst/>
          </a:prstGeom>
          <a:ln cap="sq"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4876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133720"/>
            <a:ext cx="4952880" cy="1981080"/>
          </a:xfrm>
          <a:custGeom>
            <a:avLst/>
            <a:gdLst/>
            <a:ahLst/>
            <a:rect l="l" t="t" r="r" b="b"/>
            <a:pathLst>
              <a:path w="2832" h="1056">
                <a:moveTo>
                  <a:pt x="0" y="1056"/>
                </a:moveTo>
                <a:cubicBezTo>
                  <a:pt x="108" y="788"/>
                  <a:pt x="216" y="520"/>
                  <a:pt x="384" y="480"/>
                </a:cubicBezTo>
                <a:cubicBezTo>
                  <a:pt x="552" y="440"/>
                  <a:pt x="808" y="856"/>
                  <a:pt x="1008" y="816"/>
                </a:cubicBezTo>
                <a:cubicBezTo>
                  <a:pt x="1208" y="776"/>
                  <a:pt x="1352" y="288"/>
                  <a:pt x="1584" y="240"/>
                </a:cubicBezTo>
                <a:cubicBezTo>
                  <a:pt x="1816" y="192"/>
                  <a:pt x="2192" y="568"/>
                  <a:pt x="2400" y="528"/>
                </a:cubicBezTo>
                <a:cubicBezTo>
                  <a:pt x="2608" y="488"/>
                  <a:pt x="2768" y="96"/>
                  <a:pt x="2832" y="0"/>
                </a:cubicBezTo>
              </a:path>
            </a:pathLst>
          </a:custGeom>
          <a:noFill/>
          <a:ln cap="sq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6019920"/>
            <a:ext cx="6019920" cy="0"/>
          </a:xfrm>
          <a:prstGeom prst="line">
            <a:avLst/>
          </a:prstGeom>
          <a:ln cap="sq"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048120"/>
            <a:ext cx="0" cy="2971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3048120"/>
            <a:ext cx="152280" cy="2895480"/>
          </a:xfrm>
          <a:custGeom>
            <a:avLst/>
            <a:gdLst>
              <a:gd name="textAreaLeft" fmla="*/ 0 w 152280"/>
              <a:gd name="textAreaRight" fmla="*/ 55080 w 1522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3581280"/>
            <a:ext cx="243828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Perman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euda de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Pasivos “Espontáne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2438280"/>
            <a:ext cx="0" cy="53352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05740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de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743200"/>
            <a:ext cx="0" cy="6094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258120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emp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00200" y="4572000"/>
            <a:ext cx="464832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00200" y="4572000"/>
            <a:ext cx="4648320" cy="4572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6668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04812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586584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98900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038480"/>
            <a:ext cx="0" cy="198144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4462560"/>
            <a:ext cx="17510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Perma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7640" y="4797360"/>
            <a:ext cx="4680000" cy="1211400"/>
          </a:xfrm>
          <a:prstGeom prst="rect">
            <a:avLst/>
          </a:prstGeom>
          <a:solidFill>
            <a:srgbClr val="0000ff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730680"/>
            <a:ext cx="4627440" cy="106668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1905120"/>
            <a:ext cx="0" cy="4114800"/>
          </a:xfrm>
          <a:prstGeom prst="line">
            <a:avLst/>
          </a:prstGeom>
          <a:ln cap="sq"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19920"/>
            <a:ext cx="6019920" cy="0"/>
          </a:xfrm>
          <a:prstGeom prst="line">
            <a:avLst/>
          </a:prstGeom>
          <a:ln cap="sq"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819520"/>
            <a:ext cx="2396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emp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616572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716280"/>
            <a:ext cx="58514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02920" y="4050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989000"/>
            <a:ext cx="4038480" cy="1727280"/>
          </a:xfrm>
          <a:custGeom>
            <a:avLst/>
            <a:gdLst/>
            <a:ahLst/>
            <a:rect l="l" t="t" r="r" b="b"/>
            <a:pathLst>
              <a:path w="2544" h="1088">
                <a:moveTo>
                  <a:pt x="0" y="216"/>
                </a:moveTo>
                <a:cubicBezTo>
                  <a:pt x="176" y="652"/>
                  <a:pt x="352" y="1088"/>
                  <a:pt x="624" y="1080"/>
                </a:cubicBezTo>
                <a:cubicBezTo>
                  <a:pt x="896" y="1072"/>
                  <a:pt x="1312" y="336"/>
                  <a:pt x="1632" y="168"/>
                </a:cubicBezTo>
                <a:cubicBezTo>
                  <a:pt x="1952" y="0"/>
                  <a:pt x="2248" y="36"/>
                  <a:pt x="2544" y="72"/>
                </a:cubicBezTo>
              </a:path>
            </a:pathLst>
          </a:custGeom>
          <a:noFill/>
          <a:ln w="3816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93080" y="2205000"/>
            <a:ext cx="15984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91120" y="5943600"/>
            <a:ext cx="4724280" cy="6858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191120"/>
            <a:ext cx="4724280" cy="13716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1905120"/>
            <a:ext cx="4952880" cy="152388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3352680" cy="685800"/>
          </a:xfrm>
          <a:prstGeom prst="rect">
            <a:avLst/>
          </a:prstGeom>
          <a:solidFill>
            <a:srgbClr val="ffff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3352680" cy="685800"/>
          </a:xfrm>
          <a:prstGeom prst="rect">
            <a:avLst/>
          </a:prstGeom>
          <a:solidFill>
            <a:srgbClr val="00ff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600" y="1763640"/>
            <a:ext cx="8311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BLEMA DE LAS 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NEJAR CICLO DEL 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NEJAR CRECIMIENTO 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ERMANENTES, DEBIDO AL CRECIMIENTO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EGOCIOS EN EL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EZ V/S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"/>
              </a:rPr>
              <a:t>ACTIVOS CIRCULANT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O LE GENERAN UN ALTO RENDIMIENTO A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MPRESA, PERO SON EN ALGUNOS CASOS M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OS Y PUEDEN SER CONVERTIDOS EN EFEC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VO. SE PUEDEN USAR COMO GARANTIA C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RAL EN LOS PRESTAM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"/>
              </a:rPr>
              <a:t>ACTIVOS NO CIRCULANTE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E GENERAN UN ALTO RENDIMIENTO, PERO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ON LIQ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72428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2766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508720" y="5084640"/>
            <a:ext cx="2286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084640"/>
            <a:ext cx="2286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505320"/>
            <a:ext cx="2286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9400" y="3581280"/>
            <a:ext cx="228600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828800"/>
            <a:ext cx="3810240" cy="76212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905120"/>
            <a:ext cx="3246480" cy="76176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0320" y="2063880"/>
            <a:ext cx="74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ACTIVOS CIRCULANTES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ACTIVOS NO 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7640" y="3821040"/>
            <a:ext cx="6294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JO RETORNO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T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YOR LIQUIDEZ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NOR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88960" y="4343400"/>
            <a:ext cx="106704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2637000"/>
            <a:ext cx="990720" cy="609480"/>
          </a:xfrm>
          <a:custGeom>
            <a:avLst/>
            <a:gdLst>
              <a:gd name="textAreaLeft" fmla="*/ 173160 w 990720"/>
              <a:gd name="textAreaRight" fmla="*/ 718200 w 990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565360"/>
            <a:ext cx="990720" cy="609480"/>
          </a:xfrm>
          <a:custGeom>
            <a:avLst/>
            <a:gdLst>
              <a:gd name="textAreaLeft" fmla="*/ 173160 w 990720"/>
              <a:gd name="textAreaRight" fmla="*/ 718200 w 990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98920" y="6022800"/>
            <a:ext cx="3313080" cy="718920"/>
            <a:chOff x="2698920" y="6022800"/>
            <a:chExt cx="3313080" cy="718920"/>
          </a:xfrm>
        </p:grpSpPr>
        <p:sp>
          <p:nvSpPr>
            <p:cNvPr id="123" name=""/>
            <p:cNvSpPr/>
            <p:nvPr/>
          </p:nvSpPr>
          <p:spPr>
            <a:xfrm>
              <a:off x="2698920" y="6022800"/>
              <a:ext cx="3313080" cy="718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2760" y="6092640"/>
              <a:ext cx="306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00"/>
                  </a:solidFill>
                  <a:latin typeface="Times New Roman"/>
                </a:rPr>
                <a:t>BUSCAR EQUILIBRIO EN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00"/>
                  </a:solidFill>
                  <a:latin typeface="Times New Roman"/>
                </a:rPr>
                <a:t>LAS POSI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97680" y="4365720"/>
            <a:ext cx="106668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4800600"/>
            <a:ext cx="4572000" cy="11430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4343400"/>
            <a:ext cx="3505320" cy="2133720"/>
          </a:xfrm>
          <a:prstGeom prst="rect">
            <a:avLst/>
          </a:prstGeom>
          <a:solidFill>
            <a:srgbClr val="ffffff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828800"/>
            <a:ext cx="3352680" cy="8380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2895480" cy="1524240"/>
          </a:xfrm>
          <a:prstGeom prst="cloudCallout">
            <a:avLst>
              <a:gd name="adj1" fmla="val -26587"/>
              <a:gd name="adj2" fmla="val 87814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9320" y="166068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I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IESGO – RET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1992240"/>
            <a:ext cx="383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BLEMA EN EL MANEJO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¡ ESTO ES LO QUE DEBEMOS RESOLV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960" y="5181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¿CÓMO OBTENGO MI FINANCIAMI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275112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0000" y="4495680"/>
            <a:ext cx="3315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STAMOS DE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STAMOS DE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PORTE DE LOS 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MBINACIÓN DE LA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766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19520" y="4800600"/>
            <a:ext cx="5943600" cy="14479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8120"/>
            <a:ext cx="2971800" cy="914400"/>
          </a:xfrm>
          <a:prstGeom prst="ellipse">
            <a:avLst/>
          </a:prstGeom>
          <a:solidFill>
            <a:srgbClr val="00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1320" y="3216240"/>
            <a:ext cx="216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5720" y="1835280"/>
            <a:ext cx="320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CUÁL ES EL NIVEL APROPIA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ACTIVOS CIRCULAN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 COMO FINANCIAR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CIRCULAN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584000">
            <a:off x="3504960" y="220932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9840" y="5029200"/>
            <a:ext cx="544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 INVERSIÓN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 FINANCIAMIENTO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3058800">
            <a:off x="1638000" y="445752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2997360"/>
            <a:ext cx="133200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19:22Z</dcterms:modified>
  <cp:revision>254</cp:revision>
  <dc:subject/>
  <dc:title>Presentación de PowerPoint</dc:title>
</cp:coreProperties>
</file>