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3.png" ContentType="image/png"/>
  <Override PartName="/ppt/media/image13.wmf" ContentType="image/x-wmf"/>
  <Override PartName="/ppt/media/image11.wmf" ContentType="image/x-wmf"/>
  <Override PartName="/ppt/media/image4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5760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0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2362680" y="54849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R. JORGE BERRIOS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684360" y="2349360"/>
            <a:ext cx="7980120" cy="1922760"/>
          </a:xfrm>
          <a:prstGeom prst="rect">
            <a:avLst/>
          </a:prstGeom>
          <a:noFill/>
          <a:ln w="0">
            <a:noFill/>
          </a:ln>
          <a:effectLst>
            <a:outerShdw dist="227005" dir="15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00"/>
                </a:solidFill>
                <a:latin typeface="Britannic Bold"/>
              </a:rPr>
              <a:t>GES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00"/>
                </a:solidFill>
                <a:latin typeface="Britannic Bold"/>
              </a:rPr>
              <a:t>FINANCIERA 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252396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H="1" flipV="1">
            <a:off x="249840" y="981000"/>
            <a:ext cx="2305080" cy="2232000"/>
          </a:xfrm>
          <a:prstGeom prst="cloudCallout">
            <a:avLst>
              <a:gd name="adj1" fmla="val 615"/>
              <a:gd name="adj2" fmla="val -50856"/>
            </a:avLst>
          </a:prstGeom>
          <a:solidFill>
            <a:srgbClr val="8000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8720" y="1673280"/>
            <a:ext cx="128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¿CUAL 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EL PR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ANALISI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1628640"/>
            <a:ext cx="3887640" cy="79236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DE MASAS PATRIMON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3141720"/>
            <a:ext cx="4181400" cy="3456000"/>
          </a:xfrm>
          <a:prstGeom prst="rect">
            <a:avLst/>
          </a:prstGeom>
          <a:gradFill rotWithShape="0">
            <a:gsLst>
              <a:gs pos="0">
                <a:srgbClr val="000066">
                  <a:alpha val="50196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7800" y="3306600"/>
            <a:ext cx="3959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IENE POR OBJETIVO RESUMIR Y TRADUCIR LA INFORMACION CONTABLE EN UNA INFORMACION MAS DEPURADA Y UTIL DESDE EL PUNTO DE VISTA FINANCIERO, CON EL PROPOSITO QUE SIRVA PARA EL ANALISIS ESTRATEGICO DE LA EMPRE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MASAS SON LOS GRUPOS HOMOGENEOS DEL BALANCE GENERAL Y ESTADO DE RESULT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SE ANALIZAN EN FORMA ESTATICA Y DINA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2565360"/>
            <a:ext cx="1296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>
              <a:alpha val="9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362320" y="5715000"/>
            <a:ext cx="6248160" cy="609480"/>
          </a:xfrm>
          <a:prstGeom prst="rect">
            <a:avLst/>
          </a:prstGeom>
          <a:solidFill>
            <a:srgbClr val="ffff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4724280"/>
            <a:ext cx="6248160" cy="609840"/>
          </a:xfrm>
          <a:prstGeom prst="rect">
            <a:avLst/>
          </a:prstGeom>
          <a:solidFill>
            <a:srgbClr val="ffcc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3581280"/>
            <a:ext cx="6248160" cy="914400"/>
          </a:xfrm>
          <a:prstGeom prst="rect">
            <a:avLst/>
          </a:prstGeom>
          <a:solidFill>
            <a:srgbClr val="66ff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2286000"/>
            <a:ext cx="6248160" cy="914400"/>
          </a:xfrm>
          <a:prstGeom prst="rect">
            <a:avLst/>
          </a:prstGeom>
          <a:solidFill>
            <a:srgbClr val="ffff66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1839960"/>
            <a:ext cx="6954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¿QUÉ DEBO 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TUACIÓN DE GRANDES VARI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TRE EJERCICIOS CONT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ODIFICACIÓN ESTRUCTURA DE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SAS PATRIMON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PLICAR  EVOLUCIÓN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2046240" cy="2414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64000" y="1413000"/>
            <a:ext cx="3809880" cy="576000"/>
          </a:xfrm>
          <a:prstGeom prst="rect">
            <a:avLst/>
          </a:prstGeom>
          <a:solidFill>
            <a:srgbClr val="00000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BALANCE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73080" y="1498680"/>
          <a:ext cx="9036000" cy="5099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0" y="1498680"/>
                    <a:ext cx="9036000" cy="5099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324000" y="1341360"/>
          <a:ext cx="8569080" cy="5143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341360"/>
                    <a:ext cx="8569080" cy="5143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523880" y="2209680"/>
          <a:ext cx="5486400" cy="32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209680"/>
                    <a:ext cx="5486400" cy="321480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203840" y="1535040"/>
            <a:ext cx="28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TIVO CIRCU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solidFill>
            <a:srgbClr val="3333cc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03840" y="1535040"/>
            <a:ext cx="28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TIVO CIRCU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86640" y="2398680"/>
            <a:ext cx="627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DEUDORES POR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nocer Cartera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Documentación, Facturas, Le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Provisión Incobr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Rotación Cuentas por Cob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Politica de Cré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Obsolesc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Analizar variaciones de saldo y rotación inven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m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Si los Inventarios Rotan = Negocio V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91080" y="1673280"/>
            <a:ext cx="28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TIVO CIRCU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5" name=""/>
          <p:cNvGraphicFramePr/>
          <p:nvPr/>
        </p:nvGraphicFramePr>
        <p:xfrm>
          <a:off x="611280" y="2708280"/>
          <a:ext cx="8335800" cy="3225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708280"/>
                    <a:ext cx="8335800" cy="3225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991080" y="1673280"/>
            <a:ext cx="28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TIVO CIRCU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16000" y="2514600"/>
          <a:ext cx="7086600" cy="2793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2514600"/>
                    <a:ext cx="7086600" cy="279396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6" name=""/>
          <p:cNvGraphicFramePr/>
          <p:nvPr/>
        </p:nvGraphicFramePr>
        <p:xfrm>
          <a:off x="380880" y="1295280"/>
          <a:ext cx="8534520" cy="5181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295280"/>
                    <a:ext cx="85345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600200" y="2590920"/>
          <a:ext cx="6095880" cy="179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590920"/>
                    <a:ext cx="6095880" cy="179388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432080" y="161136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TIV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5280" y="2492280"/>
            <a:ext cx="2622600" cy="2543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94280" y="5450040"/>
            <a:ext cx="2638800" cy="520200"/>
          </a:xfrm>
          <a:prstGeom prst="rect">
            <a:avLst/>
          </a:prstGeom>
          <a:noFill/>
          <a:ln w="0">
            <a:noFill/>
          </a:ln>
          <a:effectLst>
            <a:outerShdw dist="96762" dir="2020640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¿QUE ABARCA EL ANAL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FINANCIERO ESTRATEGIC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1413000"/>
            <a:ext cx="2951280" cy="792000"/>
          </a:xfrm>
          <a:prstGeom prst="rect">
            <a:avLst/>
          </a:prstGeom>
          <a:solidFill>
            <a:srgbClr val="80000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ccff66"/>
                </a:solidFill>
                <a:latin typeface="Arial"/>
              </a:rPr>
              <a:t>ANALISIS DEL EN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80000" y="2492280"/>
            <a:ext cx="2950920" cy="79236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DEL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3645000"/>
            <a:ext cx="2950920" cy="792000"/>
          </a:xfrm>
          <a:prstGeom prst="rect">
            <a:avLst/>
          </a:prstGeom>
          <a:solidFill>
            <a:srgbClr val="00000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DE LA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4724280"/>
            <a:ext cx="2951280" cy="79236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NA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1280" y="5732640"/>
            <a:ext cx="2951280" cy="792000"/>
          </a:xfrm>
          <a:prstGeom prst="rect">
            <a:avLst/>
          </a:prstGeom>
          <a:solidFill>
            <a:srgbClr val="99cc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FINANCI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6844680" y="3346200"/>
            <a:ext cx="286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ccff33"/>
                </a:solidFill>
                <a:latin typeface="Arial Black"/>
              </a:rPr>
              <a:t>INFORM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ccff33"/>
                </a:solidFill>
                <a:latin typeface="Arial Black"/>
              </a:rPr>
              <a:t>CUALITATIVA - CUANTIT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67640" y="1341360"/>
            <a:ext cx="1225440" cy="446400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48360" y="3213000"/>
            <a:ext cx="503280" cy="1440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3300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3213000"/>
            <a:ext cx="576360" cy="165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>
              <a:alpha val="70000"/>
            </a:srgbClr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57400" y="2057400"/>
            <a:ext cx="5486400" cy="4114800"/>
          </a:xfrm>
          <a:prstGeom prst="rect">
            <a:avLst/>
          </a:prstGeom>
          <a:solidFill>
            <a:srgbClr val="3333cc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136836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TIV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5600" y="2362320"/>
            <a:ext cx="4137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BIENES RA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ant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Existe Revalorización Tec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AQUIN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Antigü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Pro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Adec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EPRE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Efecto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9719600">
            <a:off x="4960440" y="533376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3300"/>
                </a:solidFill>
                <a:latin typeface="Times New Roman"/>
              </a:rPr>
              <a:t>EXISTEN GRAVAM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32080" y="161136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TIV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5" name=""/>
          <p:cNvGraphicFramePr/>
          <p:nvPr/>
        </p:nvGraphicFramePr>
        <p:xfrm>
          <a:off x="468360" y="2852640"/>
          <a:ext cx="8480520" cy="251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852640"/>
                    <a:ext cx="8480520" cy="25196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432080" y="161136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TIV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914400" y="2705040"/>
          <a:ext cx="7467480" cy="232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705040"/>
                    <a:ext cx="7467480" cy="232416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380880" y="1295280"/>
          <a:ext cx="8534520" cy="5181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295280"/>
                    <a:ext cx="85345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828800" y="2590920"/>
          <a:ext cx="5638680" cy="220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90920"/>
                    <a:ext cx="5638680" cy="22064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432440" y="176364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OTROS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752480" y="2514600"/>
            <a:ext cx="6324840" cy="3124080"/>
          </a:xfrm>
          <a:prstGeom prst="rect">
            <a:avLst/>
          </a:prstGeom>
          <a:solidFill>
            <a:srgbClr val="3333cc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32440" y="176364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OTROS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8520" y="2895480"/>
            <a:ext cx="495540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INVERSION EMPRESA RELACIO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Tipo de 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Actividad Complementaria o Aj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Experiencia en el giro de los s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32440" y="176364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OTROS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4" name=""/>
          <p:cNvGraphicFramePr/>
          <p:nvPr/>
        </p:nvGraphicFramePr>
        <p:xfrm>
          <a:off x="539640" y="2708280"/>
          <a:ext cx="8409240" cy="269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708280"/>
                    <a:ext cx="8409240" cy="26924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6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432440" y="176364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OTROS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85800" y="2438280"/>
          <a:ext cx="8077320" cy="3048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438280"/>
                    <a:ext cx="8077320" cy="304812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457200" y="1676520"/>
          <a:ext cx="8305920" cy="4647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676520"/>
                    <a:ext cx="8305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1828800" y="2209680"/>
          <a:ext cx="4343400" cy="3471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209680"/>
                    <a:ext cx="4343400" cy="347184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433160" y="1535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SIVO CIRCU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81" name="" descr=""/>
            <p:cNvPicPr/>
            <p:nvPr/>
          </p:nvPicPr>
          <p:blipFill>
            <a:blip r:embed="rId4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916360" y="1484280"/>
            <a:ext cx="2374920" cy="649440"/>
          </a:xfrm>
          <a:prstGeom prst="rect">
            <a:avLst/>
          </a:prstGeom>
          <a:solidFill>
            <a:srgbClr val="80000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SEGÚN G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DE INTEG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INFORM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17800" y="2421000"/>
            <a:ext cx="2374920" cy="649080"/>
          </a:xfrm>
          <a:prstGeom prst="rect">
            <a:avLst/>
          </a:prstGeom>
          <a:solidFill>
            <a:srgbClr val="80000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SEGÚN 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PERIODOS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ANALI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3429000"/>
            <a:ext cx="2374920" cy="649440"/>
          </a:xfrm>
          <a:prstGeom prst="rect">
            <a:avLst/>
          </a:prstGeom>
          <a:solidFill>
            <a:srgbClr val="80000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SEGÚN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ORIENTACION DE 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ESTU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7800" y="4435560"/>
            <a:ext cx="2374920" cy="649080"/>
          </a:xfrm>
          <a:prstGeom prst="rect">
            <a:avLst/>
          </a:prstGeom>
          <a:solidFill>
            <a:srgbClr val="80000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SEGÚN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INTERES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EMPLEAR INDIC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5445000"/>
            <a:ext cx="2374920" cy="649440"/>
          </a:xfrm>
          <a:prstGeom prst="rect">
            <a:avLst/>
          </a:prstGeom>
          <a:solidFill>
            <a:srgbClr val="80000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SEGÚN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IMPORTANCIA REL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DE LAS CIF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4920" y="2565360"/>
          <a:ext cx="270036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2565360"/>
                    <a:ext cx="270036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50920" y="4581360"/>
            <a:ext cx="219528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227640" y="1413000"/>
            <a:ext cx="2016360" cy="28872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ANALISIS DINAM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1844640"/>
            <a:ext cx="2016360" cy="28908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ANALISIS ESTA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2419200"/>
            <a:ext cx="2016360" cy="28908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ANALISIS 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27640" y="2852640"/>
            <a:ext cx="2016360" cy="28908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ANALISIS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27640" y="3429000"/>
            <a:ext cx="2016360" cy="28908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EE.FF. COMPA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27640" y="3860640"/>
            <a:ext cx="2016360" cy="28908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EE.FF. INDIVIDU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4579920"/>
            <a:ext cx="2016360" cy="28908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USO DE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5373720"/>
            <a:ext cx="2016360" cy="28872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VALORES ABSOL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5877000"/>
            <a:ext cx="2016360" cy="28872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ccff66"/>
                </a:solidFill>
                <a:latin typeface="Arial"/>
              </a:rPr>
              <a:t>VALORES RELA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1557360"/>
            <a:ext cx="43344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ff33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2492280"/>
            <a:ext cx="43344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ff33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3500280"/>
            <a:ext cx="43344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ff33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4437000"/>
            <a:ext cx="43344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ff33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5516640"/>
            <a:ext cx="43344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ff33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05120" y="2209680"/>
            <a:ext cx="4343400" cy="2819520"/>
          </a:xfrm>
          <a:prstGeom prst="rect">
            <a:avLst/>
          </a:prstGeom>
          <a:solidFill>
            <a:srgbClr val="3333cc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5560" y="138276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ITUACIÓN PATRIMON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67280" y="2525760"/>
            <a:ext cx="3577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omo se financian los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Nivel de Endeud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Partidas Relacio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alidad del Endeud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apitalización del 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Politica de Divide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33160" y="1535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SIVO CIRCU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752400" y="2349360"/>
          <a:ext cx="8140680" cy="3786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00" y="2349360"/>
                    <a:ext cx="8140680" cy="37864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433160" y="1535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SIVO CIRCU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990720" y="2286000"/>
          <a:ext cx="7391160" cy="3278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286000"/>
                    <a:ext cx="7391160" cy="327816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457200" y="1752480"/>
          <a:ext cx="8381880" cy="45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818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04" name="" descr=""/>
            <p:cNvPicPr/>
            <p:nvPr/>
          </p:nvPicPr>
          <p:blipFill>
            <a:blip r:embed="rId4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1828800" y="2514600"/>
          <a:ext cx="5105520" cy="204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105520" cy="204948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432080" y="176364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SIVO DE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10" name="" descr=""/>
            <p:cNvPicPr/>
            <p:nvPr/>
          </p:nvPicPr>
          <p:blipFill>
            <a:blip r:embed="rId4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432080" y="176364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SIVO DE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1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6" name=""/>
          <p:cNvGraphicFramePr/>
          <p:nvPr/>
        </p:nvGraphicFramePr>
        <p:xfrm>
          <a:off x="539640" y="3068640"/>
          <a:ext cx="8212320" cy="2230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068640"/>
                    <a:ext cx="8212320" cy="22305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432080" y="176364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SIVO DE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066680" y="2590920"/>
          <a:ext cx="7391520" cy="274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590920"/>
                    <a:ext cx="7391520" cy="274320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380880" y="1676520"/>
          <a:ext cx="8534520" cy="4903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76520"/>
                    <a:ext cx="853452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27" name="" descr=""/>
            <p:cNvPicPr/>
            <p:nvPr/>
          </p:nvPicPr>
          <p:blipFill>
            <a:blip r:embed="rId4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1676520" y="2743200"/>
          <a:ext cx="6095880" cy="244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743200"/>
                    <a:ext cx="6095880" cy="244620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1432080" y="19162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33" name="" descr=""/>
            <p:cNvPicPr/>
            <p:nvPr/>
          </p:nvPicPr>
          <p:blipFill>
            <a:blip r:embed="rId4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432080" y="19162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3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9" name=""/>
          <p:cNvGraphicFramePr/>
          <p:nvPr/>
        </p:nvGraphicFramePr>
        <p:xfrm>
          <a:off x="611280" y="2708280"/>
          <a:ext cx="8211960" cy="2104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708280"/>
                    <a:ext cx="8211960" cy="21049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819520" y="2917800"/>
            <a:ext cx="3429000" cy="2514600"/>
          </a:xfrm>
          <a:prstGeom prst="flowChartExtract">
            <a:avLst/>
          </a:prstGeom>
          <a:solidFill>
            <a:srgbClr val="8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EQUILIB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590920" y="2841120"/>
            <a:ext cx="1752480" cy="2590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5661000"/>
            <a:ext cx="3581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2841480"/>
            <a:ext cx="1676520" cy="2590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8960" y="537372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15000" y="5373720"/>
            <a:ext cx="17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REN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73880" y="2133720"/>
            <a:ext cx="157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ESTRUC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FINANC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6280" y="580536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CONFLICTO POTE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8219600">
            <a:off x="1773360" y="3762000"/>
            <a:ext cx="22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SOLVENCIA Y LIQUID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3418800">
            <a:off x="5411880" y="3666240"/>
            <a:ext cx="19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EFECTO LE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268280"/>
            <a:ext cx="5616360" cy="648000"/>
          </a:xfrm>
          <a:prstGeom prst="rect">
            <a:avLst/>
          </a:prstGeom>
          <a:solidFill>
            <a:srgbClr val="ffff00">
              <a:alpha val="7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0000"/>
                </a:solidFill>
                <a:latin typeface="Arial Black"/>
              </a:rPr>
              <a:t>METODOLOGIA DE ANALISIS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2421000"/>
            <a:ext cx="1871640" cy="1655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877080" y="2349360"/>
            <a:ext cx="19112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432080" y="19162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80880" y="2743200"/>
          <a:ext cx="8382240" cy="266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743200"/>
                    <a:ext cx="8382240" cy="26668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228600" y="1523880"/>
          <a:ext cx="8763120" cy="5035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3880"/>
                    <a:ext cx="876312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50" name="" descr=""/>
            <p:cNvPicPr/>
            <p:nvPr/>
          </p:nvPicPr>
          <p:blipFill>
            <a:blip r:embed="rId4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468360" y="1125360"/>
          <a:ext cx="8424720" cy="559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125360"/>
                    <a:ext cx="8424720" cy="5596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54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55" name="" descr=""/>
            <p:cNvPicPr/>
            <p:nvPr/>
          </p:nvPicPr>
          <p:blipFill>
            <a:blip r:embed="rId4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0" name=""/>
          <p:cNvGraphicFramePr/>
          <p:nvPr/>
        </p:nvGraphicFramePr>
        <p:xfrm>
          <a:off x="539640" y="1268280"/>
          <a:ext cx="8209080" cy="5388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268280"/>
                    <a:ext cx="8209080" cy="5388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268360" y="1341360"/>
            <a:ext cx="4535640" cy="574920"/>
          </a:xfrm>
          <a:prstGeom prst="rect">
            <a:avLst/>
          </a:prstGeom>
          <a:solidFill>
            <a:srgbClr val="000099">
              <a:alpha val="60000"/>
            </a:srgbClr>
          </a:solidFill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1465200"/>
            <a:ext cx="365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TADOS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3147840"/>
            <a:ext cx="4876920" cy="304920"/>
          </a:xfrm>
          <a:prstGeom prst="rect">
            <a:avLst/>
          </a:prstGeom>
          <a:solidFill>
            <a:srgbClr val="3333cc">
              <a:alpha val="70000"/>
            </a:srgbClr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0" y="5662440"/>
            <a:ext cx="4876920" cy="304920"/>
          </a:xfrm>
          <a:prstGeom prst="rect">
            <a:avLst/>
          </a:prstGeom>
          <a:solidFill>
            <a:srgbClr val="3333cc">
              <a:alpha val="70000"/>
            </a:srgbClr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71600" y="4519440"/>
            <a:ext cx="4876920" cy="304920"/>
          </a:xfrm>
          <a:prstGeom prst="rect">
            <a:avLst/>
          </a:prstGeom>
          <a:solidFill>
            <a:srgbClr val="3333cc">
              <a:alpha val="70000"/>
            </a:srgbClr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6195960"/>
            <a:ext cx="4876920" cy="304920"/>
          </a:xfrm>
          <a:prstGeom prst="rect">
            <a:avLst/>
          </a:prstGeom>
          <a:solidFill>
            <a:srgbClr val="3333cc">
              <a:alpha val="70000"/>
            </a:srgbClr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02640" y="3141720"/>
            <a:ext cx="46526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(-)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sto de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argen de Expl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(-)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Gastos de Administración y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(-)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preciación del Ejerc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sultado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+ -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ngresos y Egresos no Ope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Gasto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sultado antes de Im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m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sultado Neto del ejerc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2133720"/>
            <a:ext cx="79502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ES UN ESTADO FINANCIERO DE CARÁCTER EMINENTEMENTE ECONÓMICO, DINÁMICO, QUE MUESTRA EN FORMA SISTEMÁTICA EL RESULTADO OPERACIONAL Y NO OPERACIONAL OBTENIDO POR LA EMPRESA EN UN PERÍODO DE TIEMPO ( 1 AÑO ).ES COMPLEMENTARIO AL BALANCE GENER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71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250920" y="1916280"/>
          <a:ext cx="8785080" cy="432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916280"/>
                    <a:ext cx="8785080" cy="43210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7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76" name="" descr=""/>
            <p:cNvPicPr/>
            <p:nvPr/>
          </p:nvPicPr>
          <p:blipFill>
            <a:blip r:embed="rId4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1" name=""/>
          <p:cNvGraphicFramePr/>
          <p:nvPr/>
        </p:nvGraphicFramePr>
        <p:xfrm>
          <a:off x="250920" y="1989000"/>
          <a:ext cx="8713800" cy="4395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989000"/>
                    <a:ext cx="8713800" cy="4395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838080" y="2276640"/>
            <a:ext cx="7467840" cy="4321080"/>
          </a:xfrm>
          <a:prstGeom prst="rect">
            <a:avLst/>
          </a:prstGeom>
          <a:solidFill>
            <a:srgbClr val="000080">
              <a:alpha val="7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07680" y="2459160"/>
            <a:ext cx="582264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NALISIS CAPACIDAD GENERADOR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ONDOS Y 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VOLUCIÓN DE 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S /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S /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S / 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ENSIBILIDAD A LOS CAM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VOLUCIÓN DE FACTURACIÓN Y SU EF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N LA 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6372360" y="3141720"/>
            <a:ext cx="1430280" cy="183996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87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68360" y="1486080"/>
            <a:ext cx="4535640" cy="574560"/>
            <a:chOff x="2268360" y="1486080"/>
            <a:chExt cx="4535640" cy="574560"/>
          </a:xfrm>
        </p:grpSpPr>
        <p:sp>
          <p:nvSpPr>
            <p:cNvPr id="390" name=""/>
            <p:cNvSpPr/>
            <p:nvPr/>
          </p:nvSpPr>
          <p:spPr>
            <a:xfrm>
              <a:off x="2268360" y="1486080"/>
              <a:ext cx="4535640" cy="574560"/>
            </a:xfrm>
            <a:prstGeom prst="rect">
              <a:avLst/>
            </a:prstGeom>
            <a:solidFill>
              <a:srgbClr val="000099">
                <a:alpha val="60000"/>
              </a:srgbClr>
            </a:solidFill>
            <a:ln cap="sq"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66880" y="1536480"/>
              <a:ext cx="365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ESTADOS DE RESULT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066680" y="1676520"/>
            <a:ext cx="3581640" cy="106668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3000" y="4581360"/>
            <a:ext cx="3581280" cy="1067040"/>
          </a:xfrm>
          <a:prstGeom prst="rect">
            <a:avLst/>
          </a:prstGeom>
          <a:solidFill>
            <a:srgbClr val="00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NO 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25800">
            <a:off x="4441680" y="1219320"/>
            <a:ext cx="2362320" cy="761760"/>
          </a:xfrm>
          <a:custGeom>
            <a:avLst/>
            <a:gdLst>
              <a:gd name="textAreaLeft" fmla="*/ 413280 w 2362320"/>
              <a:gd name="textAreaRight" fmla="*/ 1712880 w 23623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0915200">
            <a:off x="4386960" y="5648040"/>
            <a:ext cx="2055960" cy="995400"/>
          </a:xfrm>
          <a:custGeom>
            <a:avLst/>
            <a:gdLst>
              <a:gd name="textAreaLeft" fmla="*/ 359640 w 2055960"/>
              <a:gd name="textAreaRight" fmla="*/ 1490760 w 2055960"/>
              <a:gd name="textAreaTop" fmla="*/ 133200 h 995400"/>
              <a:gd name="textAreaBottom" fmla="*/ 862200 h 99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6227640" y="2583000"/>
            <a:ext cx="2162160" cy="228600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98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41440" y="3213000"/>
            <a:ext cx="4535280" cy="647640"/>
          </a:xfrm>
          <a:prstGeom prst="rect">
            <a:avLst/>
          </a:prstGeom>
          <a:solidFill>
            <a:srgbClr val="000099">
              <a:alpha val="60000"/>
            </a:srgbClr>
          </a:solidFill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39960" y="3336840"/>
            <a:ext cx="365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TADOS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371600" y="2684520"/>
            <a:ext cx="4267080" cy="2362320"/>
          </a:xfrm>
          <a:prstGeom prst="rect">
            <a:avLst/>
          </a:prstGeom>
          <a:solidFill>
            <a:srgbClr val="3333cc">
              <a:alpha val="7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95640" y="1773360"/>
            <a:ext cx="4572000" cy="503280"/>
          </a:xfrm>
          <a:prstGeom prst="rect">
            <a:avLst/>
          </a:prstGeom>
          <a:solidFill>
            <a:srgbClr val="000080">
              <a:alpha val="7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imes New Roman"/>
              </a:rPr>
              <a:t>ESTADO FUENTES Y U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62480" y="2924280"/>
            <a:ext cx="34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05320" y="2684520"/>
            <a:ext cx="0" cy="2362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371600" y="3294000"/>
            <a:ext cx="4267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62520" y="5305320"/>
            <a:ext cx="1904760" cy="1219320"/>
          </a:xfrm>
          <a:prstGeom prst="rightArrow">
            <a:avLst>
              <a:gd name="adj1" fmla="val 50000"/>
              <a:gd name="adj2" fmla="val 39054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5160" y="57196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6156360" y="2852640"/>
            <a:ext cx="254304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5300640"/>
            <a:ext cx="3097080" cy="86508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2924280"/>
            <a:ext cx="3097080" cy="86508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1341360"/>
            <a:ext cx="4319640" cy="64764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73800" y="1413000"/>
            <a:ext cx="383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000" y="3030480"/>
            <a:ext cx="2988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STADOS FINANCIER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BÁ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000" y="5380200"/>
            <a:ext cx="2988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STADOS FINANCIER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MPLEMEN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78120" y="3218040"/>
            <a:ext cx="749520" cy="603000"/>
          </a:xfrm>
          <a:prstGeom prst="rightArrow">
            <a:avLst>
              <a:gd name="adj1" fmla="val 50000"/>
              <a:gd name="adj2" fmla="val 6215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5373720"/>
            <a:ext cx="749160" cy="603360"/>
          </a:xfrm>
          <a:prstGeom prst="rightArrow">
            <a:avLst>
              <a:gd name="adj1" fmla="val 50000"/>
              <a:gd name="adj2" fmla="val 62088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2562120"/>
            <a:ext cx="4025880" cy="1587600"/>
          </a:xfrm>
          <a:prstGeom prst="roundRect">
            <a:avLst>
              <a:gd name="adj" fmla="val 12495"/>
            </a:avLst>
          </a:prstGeom>
          <a:solidFill>
            <a:srgbClr val="ccff33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9360" y="5084640"/>
            <a:ext cx="3949560" cy="1368720"/>
          </a:xfrm>
          <a:prstGeom prst="roundRect">
            <a:avLst>
              <a:gd name="adj" fmla="val 12495"/>
            </a:avLst>
          </a:prstGeom>
          <a:solidFill>
            <a:srgbClr val="00ff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84640" y="2637000"/>
            <a:ext cx="37594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ALANCE GENERAL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962520" y="5454720"/>
            <a:ext cx="45720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2940120"/>
            <a:ext cx="457200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3048120"/>
            <a:ext cx="1904760" cy="1218960"/>
          </a:xfrm>
          <a:prstGeom prst="rightArrow">
            <a:avLst>
              <a:gd name="adj1" fmla="val 50000"/>
              <a:gd name="adj2" fmla="val 39065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0200" y="342900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7440" y="2494080"/>
            <a:ext cx="52070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FUENTE DE FO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TRANSACCIONES QUE AUMENTAN LOS PAS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O EL PATRIMONIO NETO O REDUCEN EL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E LOS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SO DE FO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OPERACIONES QUE REDUCEN LOS PASIVOS O 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ATRIMONIO NETO O AUMENTAN LOS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10080" y="47689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57840" y="217800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27640" y="1270080"/>
            <a:ext cx="3384360" cy="50328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ESTADO FUENTES Y 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2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58920" y="2133720"/>
            <a:ext cx="6781680" cy="446400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174400" y="2238480"/>
            <a:ext cx="5039280" cy="43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U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imes New Roman"/>
              </a:rPr>
              <a:t>FUENTES TRANSITO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ERENCIAS NEGATIVAS DE ACT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ERENCIAS POSITIVAS PAS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TOTAL FUENTES TRANSITO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imes New Roman"/>
              </a:rPr>
              <a:t>FUENTES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ERENCIAS NEGATIVAS ACTIVO PERMAN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ERENCIAS POSITIVAS PASIVO PERMAN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TOTAL FUENTES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TOTAL GENERAL DE FUENTES DE FO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76360" y="1270080"/>
            <a:ext cx="4572000" cy="503280"/>
          </a:xfrm>
          <a:prstGeom prst="rect">
            <a:avLst/>
          </a:prstGeom>
          <a:solidFill>
            <a:srgbClr val="000080">
              <a:alpha val="7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imes New Roman"/>
              </a:rPr>
              <a:t>ESTADO FUENTES Y U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2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447920" y="2060640"/>
            <a:ext cx="6400800" cy="468000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7440" y="2084400"/>
            <a:ext cx="45165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imes New Roman"/>
              </a:rPr>
              <a:t>USOS TRANSITO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ERENCIAS POSITIVAS ACT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ERENCIAS NEGATIVAS PAS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TOTAL USOS TRANSITO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imes New Roman"/>
              </a:rPr>
              <a:t>USOS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ERENCIAS POSITIVAS ACTIVO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ERENCIAS NEGATIVAS PASIVOS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TOTAL USOS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TOTAL USOS DE FO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76360" y="1270080"/>
            <a:ext cx="4572000" cy="503280"/>
          </a:xfrm>
          <a:prstGeom prst="rect">
            <a:avLst/>
          </a:prstGeom>
          <a:solidFill>
            <a:srgbClr val="000080">
              <a:alpha val="7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imes New Roman"/>
              </a:rPr>
              <a:t>ESTADO FUENTES Y U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304920" y="260280"/>
          <a:ext cx="8534160" cy="642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60280"/>
                    <a:ext cx="8534160" cy="6426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457200" y="228600"/>
          <a:ext cx="8229600" cy="629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28600"/>
                    <a:ext cx="8229600" cy="629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"/>
          <p:cNvGraphicFramePr/>
          <p:nvPr/>
        </p:nvGraphicFramePr>
        <p:xfrm>
          <a:off x="380880" y="228600"/>
          <a:ext cx="8382240" cy="6248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8382240" cy="6248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380880" y="228600"/>
          <a:ext cx="8534520" cy="6380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8534520" cy="63802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324000" y="189000"/>
          <a:ext cx="8569080" cy="649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89000"/>
                    <a:ext cx="856908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rot="16200000">
            <a:off x="-1349280" y="3752280"/>
            <a:ext cx="4086360" cy="450720"/>
          </a:xfrm>
          <a:prstGeom prst="rect">
            <a:avLst/>
          </a:prstGeom>
          <a:solidFill>
            <a:srgbClr val="000000">
              <a:alpha val="7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ESQUEMA BÁSICO ORDE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1981080"/>
            <a:ext cx="3809880" cy="4343400"/>
          </a:xfrm>
          <a:prstGeom prst="rect">
            <a:avLst/>
          </a:prstGeom>
          <a:solidFill>
            <a:srgbClr val="000080">
              <a:alpha val="7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1981080"/>
            <a:ext cx="0" cy="4343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962520"/>
            <a:ext cx="19047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352680"/>
            <a:ext cx="1905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5105520"/>
            <a:ext cx="1905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84520" y="1319040"/>
            <a:ext cx="1600200" cy="703800"/>
          </a:xfrm>
          <a:prstGeom prst="rect">
            <a:avLst/>
          </a:prstGeom>
          <a:solidFill>
            <a:srgbClr val="000080">
              <a:alpha val="8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ACTIVO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319040"/>
            <a:ext cx="1981440" cy="398880"/>
          </a:xfrm>
          <a:prstGeom prst="rect">
            <a:avLst/>
          </a:prstGeom>
          <a:solidFill>
            <a:srgbClr val="000080">
              <a:alpha val="8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1981080"/>
            <a:ext cx="0" cy="4267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1981080"/>
            <a:ext cx="0" cy="4267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1905120"/>
            <a:ext cx="6094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91520" y="1981080"/>
            <a:ext cx="7617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20960" y="2590920"/>
            <a:ext cx="146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Times New Roman"/>
              </a:rPr>
              <a:t>ACTIV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Times New Roman"/>
              </a:rPr>
              <a:t>CIRCUL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0" y="4495680"/>
            <a:ext cx="11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3800" y="2286000"/>
            <a:ext cx="17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P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CIRCU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30280" y="3733920"/>
            <a:ext cx="107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DE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LAR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9040" y="5334120"/>
            <a:ext cx="155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CAPI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2492280"/>
            <a:ext cx="7162920" cy="3733920"/>
          </a:xfrm>
          <a:prstGeom prst="rect">
            <a:avLst/>
          </a:prstGeom>
          <a:solidFill>
            <a:srgbClr val="00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49400" y="1557360"/>
            <a:ext cx="3810240" cy="71928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BALANC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81480" y="2735280"/>
            <a:ext cx="5935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CTIVO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Activo Circulante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800000"/>
                </a:solidFill>
                <a:latin typeface="Times New Roman"/>
              </a:rPr>
              <a:t>Pasivo Circu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Activo Fijo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800000"/>
                </a:solidFill>
                <a:latin typeface="Times New Roman"/>
              </a:rPr>
              <a:t>Pasivo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Otros Activos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800000"/>
                </a:solidFill>
                <a:latin typeface="Times New Roman"/>
              </a:rPr>
              <a:t>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1780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24922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63640" y="1700280"/>
            <a:ext cx="4248360" cy="865080"/>
          </a:xfrm>
          <a:prstGeom prst="rect">
            <a:avLst/>
          </a:prstGeom>
          <a:solidFill>
            <a:srgbClr val="000000">
              <a:alpha val="6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181620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¿LOS ACTIVOS Y PASIVOS VA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LO QUE DECLARA EL CLIEN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940120"/>
            <a:ext cx="1828800" cy="1066680"/>
          </a:xfrm>
          <a:prstGeom prst="rect">
            <a:avLst/>
          </a:prstGeom>
          <a:solidFill>
            <a:srgbClr val="66ff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Black"/>
              </a:rPr>
              <a:t>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Black"/>
              </a:rPr>
              <a:t>CIRCUL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4235400"/>
            <a:ext cx="1828800" cy="1066680"/>
          </a:xfrm>
          <a:prstGeom prst="rect">
            <a:avLst/>
          </a:prstGeom>
          <a:solidFill>
            <a:srgbClr val="cccc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Black"/>
              </a:rPr>
              <a:t>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Black"/>
              </a:rPr>
              <a:t>F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5454720"/>
            <a:ext cx="1828800" cy="1066680"/>
          </a:xfrm>
          <a:prstGeom prst="rect">
            <a:avLst/>
          </a:prstGeom>
          <a:solidFill>
            <a:srgbClr val="ffcc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Black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Black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2940120"/>
            <a:ext cx="1828800" cy="1066680"/>
          </a:xfrm>
          <a:prstGeom prst="rect">
            <a:avLst/>
          </a:prstGeom>
          <a:solidFill>
            <a:srgbClr val="b2b2b2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Black"/>
              </a:rPr>
              <a:t>PA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Black"/>
              </a:rPr>
              <a:t>CIRCUL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4235400"/>
            <a:ext cx="1828800" cy="1066680"/>
          </a:xfrm>
          <a:prstGeom prst="rect">
            <a:avLst/>
          </a:prstGeom>
          <a:solidFill>
            <a:srgbClr val="ffffcc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Black"/>
              </a:rPr>
              <a:t>PA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Black"/>
              </a:rPr>
              <a:t>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530680"/>
            <a:ext cx="1828800" cy="106704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Black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2286000"/>
            <a:ext cx="2286000" cy="1600200"/>
          </a:xfrm>
          <a:prstGeom prst="cloudCallout">
            <a:avLst>
              <a:gd name="adj1" fmla="val 22013"/>
              <a:gd name="adj2" fmla="val 107041"/>
            </a:avLst>
          </a:prstGeom>
          <a:solidFill>
            <a:srgbClr val="ffff66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91600" y="2421000"/>
            <a:ext cx="206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S CU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EBEN VERIFICA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084720" y="4437000"/>
            <a:ext cx="26244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427640" y="1773360"/>
            <a:ext cx="4032000" cy="374328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84360" y="2349360"/>
            <a:ext cx="2016000" cy="2016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058840"/>
            <a:ext cx="3508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ESTRATEGIAS FINANCIE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ASAS PATRIMON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NALISIS DE IND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NALISIS DE APALANC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LCULO DE RIES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LCULO DE 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NALISIS DUP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VALUACION ADM. OPER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VALUACION ADM. DE LA 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VALAUCION ADM.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CES NO TRADI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2565360"/>
            <a:ext cx="936360" cy="1368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619280" y="4149720"/>
            <a:ext cx="23763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4:45:49Z</dcterms:created>
  <dc:creator>JORGE BERRIOS.</dc:creator>
  <dc:description/>
  <dc:language>en-US</dc:language>
  <cp:lastModifiedBy>HP Authorized Customer</cp:lastModifiedBy>
  <dcterms:modified xsi:type="dcterms:W3CDTF">2007-05-12T04:18:50Z</dcterms:modified>
  <cp:revision>267</cp:revision>
  <dc:subject/>
  <dc:title>Presentación de PowerPoint</dc:title>
</cp:coreProperties>
</file>