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5C54-144C-4D22-999C-CCC92277EA21}" type="slidenum">
              <a:rPr b="0" lang="es-C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A2A7-0C8C-425B-8F2A-95E0D44BEF78}"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FE78B-BC2F-481F-836B-21017046E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1E58B-39CC-47DE-BAA2-655E20045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BE3C2-A6FB-44F5-B45A-A76FED6B8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2EDE-C420-4F8F-AC24-CAFA8DE60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F4A6E-382A-43E8-AF35-792ABAF41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0297A-A2EF-44E9-BAFD-5EBC6DD6D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C96C8-771D-4291-A6B0-E93626DE9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BDD94-3175-4AAC-9178-7B45036A9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7EE70-DE54-448B-8090-AE938507E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63F57-7D05-4B28-867C-80D8F7577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62E0-A018-45A5-BC52-87873639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93A24-775C-41FA-B4A9-DE4E0AFD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3AF7A-508C-4B95-A8FD-D89E3ED98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E4644-4659-40FF-8925-8AF0C19B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B6D84-7077-4A3B-A0B4-4BEEE256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37F48-C73A-4E35-922D-E3FF78C74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2B321-7A25-4118-8730-6F70A503C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A65A25-206B-45D9-B469-258D97011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98CD6-0AEB-4452-830F-462DFAB99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87975-6AE5-4F9F-813A-F97263552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AB102-9E69-4331-B815-F7C042A60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3A9A0-F82A-4821-AC09-31F873268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CCE96-16F3-405F-AC6F-21069274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5ADFA-28D6-4A5A-BF28-D5C20F4CD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A7A17-D7F3-4A43-9851-B870C9E8A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902B6-61BB-4506-8C4E-A6EF210E0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997EA-40DB-4608-A37A-D1B02AD30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50D1B-BDE2-41E4-9FB1-A2F0964AB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EBCAD-03B2-4AA0-BA27-76F8E3C6D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753E1-9E1E-4837-9AF0-F7F8A2CA20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A3048-2004-4F0E-B28E-180AD8EDB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E3BCE-B9F9-4210-863F-9A32FFD7D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6FDC2-5F2F-4252-AD60-5857543B4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4E65-ACD2-4194-A35C-F5872C84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DE29C-9060-4538-8D9F-2F25CD4B0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2BD70-382C-4F62-BA1F-BBC0D65EC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8F1B0-1180-49E9-A078-649C121B1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C8971-5C65-4ADA-A655-A2A9A2CF7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B0D9E-DB18-4C51-978E-A97AD0B82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46916-9BE2-47FF-82A7-CC945823C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8BE24-7818-418C-8C2B-EECA9E610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A497F-DA59-47D3-9A22-3E74CFFF78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761C93-0386-44C4-AC98-1B242DF72A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18573-4D4E-4CA8-90DD-5B0CC6C53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1EF8A-FD79-45ED-BCA7-1BDF94F45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07046-9340-43F3-B0C5-B9B5E08CE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341AC-70E7-4DFD-8BA1-997C16A04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27ED02-E639-4ED1-A4CB-C192C80E2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89FEC-A101-42A8-AF5F-866229642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A1CCC-1D23-49A8-9E36-4295A737A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597EB-6A97-48F3-93BD-7E189DFBB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A3518-BC7C-4AA1-A181-BF9A0E42B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07CB1-2442-49CC-9346-789F50CBB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C5E40-A857-496B-912C-5A8E6A0E3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54726-9A5E-4E1E-8F42-719475FBB2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6391-DD43-4456-AD7D-B28FFB220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B27EB6-6C43-4624-8BD6-8FC50C98D2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289102-3810-422E-879F-7DE85DC297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6F61A-E270-40F5-AD33-5D955294F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B4A68-BF10-4DD5-A41F-3CF0D662C5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326EB-3B2C-4A4F-AF35-8CC1B7B8FA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EC4A5-FB66-43B5-BBD9-5F53CFFDD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BBF0A-F10D-4823-B95F-647258517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DE9BC-B944-44F1-ABC4-8A333F1C9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D78B9-401E-44B2-814E-598E5AC12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2FC09-65E2-46EA-A9BB-0B2223B38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096A-94F0-4AA4-87D8-5F67D046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89822-5DDA-476F-91FE-89595F476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C035CB-531A-4AD1-AB09-3C5006E48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3F782-6820-4E0C-9A43-CF43043A0E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BD40DC-49FD-483B-8DEE-10514C3C9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30C8C-F3A8-454C-9119-91D0441A7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9CD6C-BD63-45E0-866E-F3C1574EF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43568-110B-4A9B-855C-DA6AC368A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502AE-48E2-4F19-AE57-930666B8A3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1D620-C268-4D16-8099-7E01687C8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D1B88-19BB-4F8C-9386-DAE65FD4E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C9ED-5EAD-4785-9E14-C080BCAD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950B1-0F16-4716-86FB-8ECB891FD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9DB16-C7DC-413F-8D1A-D47919FE4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763D0-F0DA-45D6-99EB-FAF8393996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49B347-19E5-433B-A5B8-720AD77A09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CF9EE3-E1B1-48A3-B9C9-6B89101DB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6D25-B656-4B5A-A804-4B1B29DF2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E207-FCA1-459A-A41D-18C19E750E9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574A-A449-4FB9-A74A-CFF3495542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82E2-DE9E-4182-9B44-1EC80B8C9A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E7F5-CC6F-46B6-AB49-D4BE0FAAB7F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5D81-6CB9-4B6A-95F3-86C0F0C1F8F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6D38-A77D-4DE5-A01F-D14376CD0F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5D07-15A5-4CEE-A0DC-323CBE6411D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Rectangle 2" descr=""/>
          <p:cNvPicPr/>
          <p:nvPr/>
        </p:nvPicPr>
        <p:blipFill>
          <a:blip r:embed="rId2"/>
          <a:stretch/>
        </p:blipFill>
        <p:spPr>
          <a:xfrm>
            <a:off x="396720" y="3157560"/>
            <a:ext cx="852804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dgardo Tramón </a:t>
            </a:r>
            <a:endParaRPr b="0" lang="en-US" sz="20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lejandro Baeza</a:t>
            </a:r>
            <a:endParaRPr b="0" lang="en-US" sz="20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María Fernanda López</a:t>
            </a:r>
            <a:endParaRPr b="0" lang="en-US" sz="20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Catalina de la Cruz </a:t>
            </a:r>
            <a:endParaRPr b="0" lang="en-US" sz="20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12" name="Picture 4" descr="C:\Program Files\Microsoft Office\MEDIA\CAGCAT10\j0285360.wmf"/>
          <p:cNvPicPr/>
          <p:nvPr/>
        </p:nvPicPr>
        <p:blipFill>
          <a:blip r:embed="rId3"/>
          <a:stretch/>
        </p:blipFill>
        <p:spPr>
          <a:xfrm>
            <a:off x="6215040" y="714240"/>
            <a:ext cx="1738440" cy="2143440"/>
          </a:xfrm>
          <a:prstGeom prst="rect">
            <a:avLst/>
          </a:prstGeom>
          <a:ln w="0">
            <a:noFill/>
          </a:ln>
        </p:spPr>
      </p:pic>
      <p:sp>
        <p:nvSpPr>
          <p:cNvPr id="313" name="6 Rectángulo"/>
          <p:cNvSpPr/>
          <p:nvPr/>
        </p:nvSpPr>
        <p:spPr>
          <a:xfrm>
            <a:off x="7434360" y="4786200"/>
            <a:ext cx="17139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bril d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518040" y="212760"/>
            <a:ext cx="8107920" cy="1129320"/>
          </a:xfrm>
          <a:prstGeom prst="rect">
            <a:avLst/>
          </a:prstGeom>
          <a:noFill/>
          <a:ln w="0">
            <a:noFill/>
          </a:ln>
        </p:spPr>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apitalismo desordenado</a:t>
            </a:r>
            <a:endParaRPr b="1" lang="en-US" sz="4500" spc="-1" strike="noStrike">
              <a:solidFill>
                <a:srgbClr val="ffc800"/>
              </a:solidFill>
              <a:latin typeface="Corbel"/>
            </a:endParaRPr>
          </a:p>
        </p:txBody>
      </p:sp>
      <p:sp>
        <p:nvSpPr>
          <p:cNvPr id="346" name="PlaceHolder 1"/>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seguridad laboral</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saparición de profesiones</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ión sobre instituciones como la familia</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bilitamiento de las compañías como instituciones sociales</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conomía virtual (con beneficios a corto plazo) donde la actividad principal son el comercio de activos financieros</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umento de desigualdades en los países centrales del capitalismo</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ambios en el entorno actual</a:t>
            </a:r>
            <a:endParaRPr b="1" lang="en-US" sz="4500" spc="-1" strike="noStrike">
              <a:solidFill>
                <a:srgbClr val="ffc800"/>
              </a:solidFill>
              <a:latin typeface="Corbel"/>
            </a:endParaRPr>
          </a:p>
        </p:txBody>
      </p:sp>
      <p:sp>
        <p:nvSpPr>
          <p:cNvPr id="34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ortamiento de las fuerzas del mercado menos predecibles</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mento histórico especial (nuevo modo de producción en ciernes) presente en los cambios en la clase obrera (tamaño), en las formas de organización del trabajo, en las condiciones del trabajo (trabajo parcial y sin seguridad), cambios políticos (grupos de interés)</a:t>
            </a:r>
            <a:endParaRPr b="0" lang="en-US" sz="32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255600" y="79200"/>
            <a:ext cx="8437680" cy="133524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rbel"/>
              </a:rPr>
              <a:t>Reformulación de la pregunta: ¿sociedad global o capitalismo global? (Mann) ¿es verdad que se está debilitando el Estado?</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Diferentes impactos para distintos tipos de Estado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Tendencias que fortalecen y otras que debilitan al Estado Nación</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Tendencias que trasladan la región nacional a redes internacionales (aparición nacionalismo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rbel"/>
              </a:rPr>
              <a:t>Tendencias que fortalecen simultáneamente a los estados nación y la transnacionalidad</a:t>
            </a:r>
            <a:r>
              <a:rPr b="0" lang="es-ES_tradnl" sz="2800" spc="-1" strike="noStrike">
                <a:solidFill>
                  <a:srgbClr val="000000"/>
                </a:solidFill>
                <a:latin typeface="Corbel"/>
              </a:rPr>
              <a:t>.</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Rectangle 2"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600200"/>
            <a:ext cx="8229600" cy="398952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oca: Producción industrial por nuevas tecnologías, comercio, informació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 la economía significa: que los países o están desarrollados o en desarrollo, interdependencia económica y de sus procesos industria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r sobre todo es un proceso histórico</a:t>
            </a:r>
            <a:endParaRPr b="0" lang="en-US" sz="3200" spc="-1" strike="noStrike">
              <a:solidFill>
                <a:srgbClr val="000000"/>
              </a:solidFill>
              <a:latin typeface="Corbel"/>
            </a:endParaRPr>
          </a:p>
        </p:txBody>
      </p:sp>
      <p:sp>
        <p:nvSpPr>
          <p:cNvPr id="316" name="Line 4"/>
          <p:cNvSpPr/>
          <p:nvPr/>
        </p:nvSpPr>
        <p:spPr>
          <a:xfrm>
            <a:off x="3851280" y="530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6"/>
          <p:cNvSpPr/>
          <p:nvPr/>
        </p:nvSpPr>
        <p:spPr>
          <a:xfrm>
            <a:off x="900000" y="5734080"/>
            <a:ext cx="777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una condición singular un punto final en el proceso social (Refuta Fukuy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 es convergencia: si no acentúa el desarrollo desigual de los países y las relaciones jerárquicas entre Estados (las acentúa más con quienes no se </a:t>
            </a:r>
            <a:r>
              <a:rPr b="0" i="1" lang="en-US" sz="2800" spc="-1" strike="noStrike">
                <a:solidFill>
                  <a:srgbClr val="000000"/>
                </a:solidFill>
                <a:latin typeface="Corbel"/>
              </a:rPr>
              <a:t>integran</a:t>
            </a:r>
            <a:r>
              <a:rPr b="0" lang="en-US" sz="2800" spc="-1" strike="noStrike">
                <a:solidFill>
                  <a:srgbClr val="000000"/>
                </a:solidFill>
                <a:latin typeface="Corbel"/>
              </a:rPr>
              <a:t>).</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mpoco significa que toda actividad económica esté sensible al mundo, ni que esté todo el mundo en este proceso.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 es homogénea porque el comercio funciona en base a las diferencias locales, regionales y nacionales.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lobalización alude de manera abreviada a los cambios culturales que tienen lugar cuando las sociedades pasan a estar vinculada a los mercados mundiales (sin embargo, no es posible trasladar la cultura de un país a otro)</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slocalización: Giddens (Conocimiento y producción se separan </a:t>
            </a:r>
            <a:r>
              <a:rPr b="0" lang="en-US" sz="2800" spc="-1" strike="noStrike">
                <a:solidFill>
                  <a:srgbClr val="000000"/>
                </a:solidFill>
                <a:latin typeface="Wingdings"/>
                <a:ea typeface="Wingdings"/>
              </a:rPr>
              <a:t></a:t>
            </a:r>
            <a:r>
              <a:rPr b="0" lang="en-US" sz="2800" spc="-1" strike="noStrike">
                <a:solidFill>
                  <a:srgbClr val="000000"/>
                </a:solidFill>
                <a:latin typeface="Corbel"/>
              </a:rPr>
              <a:t> multinacionale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elocidad (Castells)</a:t>
            </a:r>
            <a:endParaRPr b="0" lang="en-US" sz="2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rcados globales, comunicaciones globales, medios de comunicación de masas globales.</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225360" y="152280"/>
            <a:ext cx="846792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 mundo antes de 1914 se asemejaba a un mercado global: dinero, mercancías, personas, Estados constreñidos en su posibilidad de maniobra por el patrón oro.</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n embargo, hoy están esos elementos más otros: Velocidad, tamaño, intercionecciones y comunicación a través del planeta.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parición mercado capitales, aumento poder multinacionales…¿han debilitado o han reemplazado al Estado moderno?</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1 Título" descr=""/>
          <p:cNvPicPr/>
          <p:nvPr/>
        </p:nvPicPr>
        <p:blipFill>
          <a:blip r:embed="rId1"/>
          <a:stretch/>
        </p:blipFill>
        <p:spPr>
          <a:xfrm>
            <a:off x="189000" y="12600"/>
            <a:ext cx="8504280" cy="1395360"/>
          </a:xfrm>
          <a:prstGeom prst="rect">
            <a:avLst/>
          </a:prstGeom>
          <a:ln w="0">
            <a:noFill/>
          </a:ln>
        </p:spPr>
      </p:pic>
      <p:sp>
        <p:nvSpPr>
          <p:cNvPr id="325" name=""/>
          <p:cNvSpPr txBox="1"/>
          <p:nvPr/>
        </p:nvSpPr>
        <p:spPr>
          <a:xfrm>
            <a:off x="285840" y="2286000"/>
            <a:ext cx="4286160" cy="39513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La globalización </a:t>
            </a:r>
            <a:r>
              <a:rPr b="1" lang="es-CO" sz="2400" spc="-1" strike="noStrike">
                <a:solidFill>
                  <a:srgbClr val="000000"/>
                </a:solidFill>
                <a:latin typeface="Corbel"/>
              </a:rPr>
              <a:t>NO</a:t>
            </a:r>
            <a:r>
              <a:rPr b="0" lang="es-CO" sz="2400" spc="-1" strike="noStrike">
                <a:solidFill>
                  <a:srgbClr val="000000"/>
                </a:solidFill>
                <a:latin typeface="Corbel"/>
              </a:rPr>
              <a:t> es un fenómeno reciente.</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La apertura global de la economía internacional era alta en el orden económico liberal anterior a  1914, por lo tanto no hay novedad.</a:t>
            </a:r>
            <a:endParaRPr b="0" lang="en-US" sz="2400" spc="-1" strike="noStrike">
              <a:solidFill>
                <a:srgbClr val="000000"/>
              </a:solidFill>
              <a:latin typeface="Corbel"/>
            </a:endParaRPr>
          </a:p>
          <a:p>
            <a:pPr marL="438120" indent="-31896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6" name=""/>
          <p:cNvSpPr txBox="1"/>
          <p:nvPr/>
        </p:nvSpPr>
        <p:spPr>
          <a:xfrm>
            <a:off x="4572000" y="2286000"/>
            <a:ext cx="4214880" cy="4286160"/>
          </a:xfrm>
          <a:prstGeom prst="rect">
            <a:avLst/>
          </a:prstGeom>
          <a:noFill/>
          <a:ln w="0">
            <a:noFill/>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El mercado que surgió en el siglo XIX era menos extenso que el actual y estaba menos imbricado en los mercados y producción nacionales.</a:t>
            </a:r>
            <a:endParaRPr b="0" lang="en-US" sz="24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Todas las magnitudes de la actual globalización económica, son más relevantes que las de cualquier periodo histórico anterior.</a:t>
            </a:r>
            <a:endParaRPr b="0" lang="en-US" sz="2400" spc="-1" strike="noStrike">
              <a:solidFill>
                <a:srgbClr val="000000"/>
              </a:solidFill>
              <a:latin typeface="Corbel"/>
            </a:endParaRPr>
          </a:p>
        </p:txBody>
      </p:sp>
      <p:sp>
        <p:nvSpPr>
          <p:cNvPr id="327" name="10 CuadroTexto"/>
          <p:cNvSpPr/>
          <p:nvPr/>
        </p:nvSpPr>
        <p:spPr>
          <a:xfrm>
            <a:off x="1071720" y="1714680"/>
            <a:ext cx="2571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POSTURA</a:t>
            </a:r>
            <a:endParaRPr b="0" lang="en-US" sz="2800" spc="-1" strike="noStrike">
              <a:solidFill>
                <a:srgbClr val="000000"/>
              </a:solidFill>
              <a:latin typeface="Arial"/>
            </a:endParaRPr>
          </a:p>
        </p:txBody>
      </p:sp>
      <p:sp>
        <p:nvSpPr>
          <p:cNvPr id="328" name="11 CuadroTexto"/>
          <p:cNvSpPr/>
          <p:nvPr/>
        </p:nvSpPr>
        <p:spPr>
          <a:xfrm>
            <a:off x="5429160" y="1785960"/>
            <a:ext cx="2571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CRÍTICAS</a:t>
            </a:r>
            <a:endParaRPr b="0" lang="en-US" sz="2800" spc="-1" strike="noStrike">
              <a:solidFill>
                <a:srgbClr val="000000"/>
              </a:solidFill>
              <a:latin typeface="Arial"/>
            </a:endParaRPr>
          </a:p>
        </p:txBody>
      </p:sp>
      <p:sp>
        <p:nvSpPr>
          <p:cNvPr id="329" name="12 Conector recto"/>
          <p:cNvSpPr/>
          <p:nvPr/>
        </p:nvSpPr>
        <p:spPr>
          <a:xfrm flipH="1">
            <a:off x="4500720" y="1785960"/>
            <a:ext cx="1440" cy="4645080"/>
          </a:xfrm>
          <a:prstGeom prst="line">
            <a:avLst/>
          </a:prstGeom>
          <a:ln cap="rnd" w="28440">
            <a:solidFill>
              <a:srgbClr val="f0a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1 Título" descr=""/>
          <p:cNvPicPr/>
          <p:nvPr/>
        </p:nvPicPr>
        <p:blipFill>
          <a:blip r:embed="rId1"/>
          <a:stretch/>
        </p:blipFill>
        <p:spPr>
          <a:xfrm>
            <a:off x="189000" y="12600"/>
            <a:ext cx="8504280" cy="1395360"/>
          </a:xfrm>
          <a:prstGeom prst="rect">
            <a:avLst/>
          </a:prstGeom>
          <a:ln w="0">
            <a:noFill/>
          </a:ln>
        </p:spPr>
      </p:pic>
      <p:sp>
        <p:nvSpPr>
          <p:cNvPr id="331" name=""/>
          <p:cNvSpPr txBox="1"/>
          <p:nvPr/>
        </p:nvSpPr>
        <p:spPr>
          <a:xfrm>
            <a:off x="142560" y="2214360"/>
            <a:ext cx="4429080" cy="4214520"/>
          </a:xfrm>
          <a:prstGeom prst="rect">
            <a:avLst/>
          </a:prstGeom>
          <a:noFill/>
          <a:ln w="0">
            <a:noFill/>
          </a:ln>
        </p:spPr>
        <p:txBody>
          <a:bodyPr lIns="54720" rIns="90000" tIns="91440" bIns="46800" anchor="t">
            <a:normAutofit fontScale="95000"/>
          </a:bodyPr>
          <a:p>
            <a:pPr marL="416160" indent="-3027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El comercio internacional y los flujos de capitales, entre economías en proceso de industrialización y de estas con sus colonias eran más importantes en términos de PNB, de lo que son ahora.</a:t>
            </a:r>
            <a:endParaRPr b="0" lang="en-US" sz="24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Mercado internacional comparativamente ordenado.</a:t>
            </a:r>
            <a:endParaRPr b="0" lang="en-US" sz="24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Las multinacionales se originaron con el colonialismo europeo.</a:t>
            </a:r>
            <a:endParaRPr b="0" lang="en-US" sz="24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2" name=""/>
          <p:cNvSpPr txBox="1"/>
          <p:nvPr/>
        </p:nvSpPr>
        <p:spPr>
          <a:xfrm>
            <a:off x="4714920" y="2192400"/>
            <a:ext cx="4214880" cy="3951360"/>
          </a:xfrm>
          <a:prstGeom prst="rect">
            <a:avLst/>
          </a:prstGeom>
          <a:noFill/>
          <a:ln w="0">
            <a:noFill/>
          </a:ln>
        </p:spPr>
        <p:txBody>
          <a:bodyPr lIns="54720" rIns="90000" tIns="91440" bIns="4680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Las clásicas mediciones de patrón oro (comercio como proporción del PNB) han sido superadas en los 70’s y las mediciones actuales son más altas.</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No hay mercados hegemónicos, como lo fue Europa antes de 1914.</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rbel"/>
              </a:rPr>
              <a:t>Mercado globalizado desordenado.</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3" name="4 CuadroTexto"/>
          <p:cNvSpPr/>
          <p:nvPr/>
        </p:nvSpPr>
        <p:spPr>
          <a:xfrm>
            <a:off x="1071720" y="1714680"/>
            <a:ext cx="2571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POSTURA</a:t>
            </a:r>
            <a:endParaRPr b="0" lang="en-US" sz="2800" spc="-1" strike="noStrike">
              <a:solidFill>
                <a:srgbClr val="000000"/>
              </a:solidFill>
              <a:latin typeface="Arial"/>
            </a:endParaRPr>
          </a:p>
        </p:txBody>
      </p:sp>
      <p:sp>
        <p:nvSpPr>
          <p:cNvPr id="334" name="5 CuadroTexto"/>
          <p:cNvSpPr/>
          <p:nvPr/>
        </p:nvSpPr>
        <p:spPr>
          <a:xfrm>
            <a:off x="5429160" y="1785960"/>
            <a:ext cx="2571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CRÍTICAS</a:t>
            </a:r>
            <a:endParaRPr b="0" lang="en-US" sz="2800" spc="-1" strike="noStrike">
              <a:solidFill>
                <a:srgbClr val="000000"/>
              </a:solidFill>
              <a:latin typeface="Arial"/>
            </a:endParaRPr>
          </a:p>
        </p:txBody>
      </p:sp>
      <p:sp>
        <p:nvSpPr>
          <p:cNvPr id="335" name="7 Conector recto"/>
          <p:cNvSpPr/>
          <p:nvPr/>
        </p:nvSpPr>
        <p:spPr>
          <a:xfrm flipH="1">
            <a:off x="4712760" y="1785960"/>
            <a:ext cx="1800" cy="4645080"/>
          </a:xfrm>
          <a:prstGeom prst="line">
            <a:avLst/>
          </a:prstGeom>
          <a:ln cap="rnd" w="28440">
            <a:solidFill>
              <a:srgbClr val="f0a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1 Título" descr=""/>
          <p:cNvPicPr/>
          <p:nvPr/>
        </p:nvPicPr>
        <p:blipFill>
          <a:blip r:embed="rId1"/>
          <a:stretch/>
        </p:blipFill>
        <p:spPr>
          <a:xfrm>
            <a:off x="189000" y="146160"/>
            <a:ext cx="8504280" cy="1261800"/>
          </a:xfrm>
          <a:prstGeom prst="rect">
            <a:avLst/>
          </a:prstGeom>
          <a:ln w="0">
            <a:noFill/>
          </a:ln>
        </p:spPr>
      </p:pic>
      <p:sp>
        <p:nvSpPr>
          <p:cNvPr id="337" name=""/>
          <p:cNvSpPr txBox="1"/>
          <p:nvPr/>
        </p:nvSpPr>
        <p:spPr>
          <a:xfrm>
            <a:off x="428400" y="2049480"/>
            <a:ext cx="3786120" cy="39513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Estados-nación sin poder y multinacionales desarraigada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Mercado globalizado que da origen a competencia perfecta.</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Empresas convertidas en redes globale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38" name="9 CuadroTexto"/>
          <p:cNvSpPr/>
          <p:nvPr/>
        </p:nvSpPr>
        <p:spPr>
          <a:xfrm>
            <a:off x="1071720" y="1571760"/>
            <a:ext cx="2571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POSTURA</a:t>
            </a:r>
            <a:endParaRPr b="0" lang="en-US" sz="2800" spc="-1" strike="noStrike">
              <a:solidFill>
                <a:srgbClr val="000000"/>
              </a:solidFill>
              <a:latin typeface="Arial"/>
            </a:endParaRPr>
          </a:p>
        </p:txBody>
      </p:sp>
      <p:sp>
        <p:nvSpPr>
          <p:cNvPr id="339" name="10 CuadroTexto"/>
          <p:cNvSpPr/>
          <p:nvPr/>
        </p:nvSpPr>
        <p:spPr>
          <a:xfrm>
            <a:off x="5429160" y="1571760"/>
            <a:ext cx="2571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e88651"/>
                </a:solidFill>
                <a:latin typeface="Arial"/>
              </a:rPr>
              <a:t>CRÍTICAS</a:t>
            </a:r>
            <a:endParaRPr b="0" lang="en-US" sz="2800" spc="-1" strike="noStrike">
              <a:solidFill>
                <a:srgbClr val="000000"/>
              </a:solidFill>
              <a:latin typeface="Arial"/>
            </a:endParaRPr>
          </a:p>
        </p:txBody>
      </p:sp>
      <p:sp>
        <p:nvSpPr>
          <p:cNvPr id="340" name=""/>
          <p:cNvSpPr txBox="1"/>
          <p:nvPr/>
        </p:nvSpPr>
        <p:spPr>
          <a:xfrm>
            <a:off x="4428720" y="2049480"/>
            <a:ext cx="4429080" cy="395136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Estados soberanos son actores claves por la influencia que ejercen en la actividad comercial.</a:t>
            </a:r>
            <a:endParaRPr b="0" lang="en-US" sz="20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La mayoría de las multinacionales mantienen fuertes raíces en determinados países y culturas empresariales.</a:t>
            </a:r>
            <a:endParaRPr b="0" lang="en-US" sz="20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Las funciones clave de las empresas se mantienen bajo estrecho control interno.</a:t>
            </a:r>
            <a:endParaRPr b="0" lang="en-US" sz="20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rbel"/>
              </a:rPr>
              <a:t>Aumento de riesgos políticos para las transnacionales.</a:t>
            </a:r>
            <a:endParaRPr b="0" lang="en-US" sz="20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41" name="12 CuadroTexto"/>
          <p:cNvSpPr/>
          <p:nvPr/>
        </p:nvSpPr>
        <p:spPr>
          <a:xfrm>
            <a:off x="1857240" y="5934240"/>
            <a:ext cx="628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t>
            </a:r>
            <a:r>
              <a:rPr b="1" lang="es-CO" sz="1800" spc="-1" strike="noStrike">
                <a:solidFill>
                  <a:srgbClr val="000000"/>
                </a:solidFill>
                <a:latin typeface="Arial"/>
              </a:rPr>
              <a:t>La Realidad del mercado mundial, es que ni los Estados soberanos, ni las empresas multinacionales pueden controlarlo”</a:t>
            </a:r>
            <a:endParaRPr b="0" lang="en-US" sz="1800" spc="-1" strike="noStrike">
              <a:solidFill>
                <a:srgbClr val="000000"/>
              </a:solidFill>
              <a:latin typeface="Arial"/>
            </a:endParaRPr>
          </a:p>
        </p:txBody>
      </p:sp>
      <p:sp>
        <p:nvSpPr>
          <p:cNvPr id="342" name="13 Conector recto"/>
          <p:cNvSpPr/>
          <p:nvPr/>
        </p:nvSpPr>
        <p:spPr>
          <a:xfrm flipH="1">
            <a:off x="4285800" y="1785960"/>
            <a:ext cx="1800" cy="3929040"/>
          </a:xfrm>
          <a:prstGeom prst="line">
            <a:avLst/>
          </a:prstGeom>
          <a:ln cap="rnd" w="28440">
            <a:solidFill>
              <a:srgbClr val="f0a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290880" y="176400"/>
            <a:ext cx="8541360" cy="1129320"/>
          </a:xfrm>
          <a:prstGeom prst="rect">
            <a:avLst/>
          </a:prstGeom>
          <a:noFill/>
          <a:ln w="0">
            <a:noFill/>
          </a:ln>
        </p:spPr>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800"/>
                </a:solidFill>
                <a:latin typeface="Corbel"/>
              </a:rPr>
              <a:t>Capitalismo anárquico y el Estado</a:t>
            </a:r>
            <a:endParaRPr b="1" lang="en-US" sz="4100" spc="-1" strike="noStrike">
              <a:solidFill>
                <a:srgbClr val="ffc800"/>
              </a:solidFill>
              <a:latin typeface="Corbel"/>
            </a:endParaRPr>
          </a:p>
        </p:txBody>
      </p:sp>
      <p:sp>
        <p:nvSpPr>
          <p:cNvPr id="344" name="PlaceHolder 1"/>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torno de riesgo y de incertidumbre radical.</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lobalización: ¿quien gana (pierde) poder?</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daptación constante.</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stados- nación y recursos naturales.</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undo multipolar.</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0:14:26Z</dcterms:created>
  <dc:creator>WinuE</dc:creator>
  <dc:description/>
  <dc:language>en-US</dc:language>
  <cp:lastModifiedBy>ALEJANDRO BAEZA</cp:lastModifiedBy>
  <dcterms:modified xsi:type="dcterms:W3CDTF">2008-04-08T22:17:25Z</dcterms:modified>
  <cp:revision>26</cp:revision>
  <dc:subject/>
  <dc:title>Globalización puede significar muchas cosas</dc:title>
</cp:coreProperties>
</file>