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32760" y="624816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DCCB-736B-4FCE-8758-5CF81B1D6C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baseline="15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Elevator Pitch 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5486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99320" y="6445080"/>
            <a:ext cx="1626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© Copyright 2004 Chris O’Le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28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 101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hris O’Lear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27040" y="623268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ersion 1.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= TEACHING TOOL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 tea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listener probably doesn’t know as much about the subject as you 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just load people down with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establish the context of your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l them what you’re going to tell them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them organize what you’re telling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ence = Your Grandm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er = Your Sales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= JIG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31880" y="1330200"/>
            <a:ext cx="587844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Flow of a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UMMARY SENTENC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 overview of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the 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on your product and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used on its own to introduce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o say if you only have 10 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product 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PROBLE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wrong with the state of the a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drive people to adopt your innov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people are experiencing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o communicate The Probl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off with a (preferably personal) 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how you came to see that a problem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nd contrast the state of the art and your vision of the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CONSEQUENCE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consequences of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or psychological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pecific and tangible about the nature and magnitude of the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evidence that people are in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they will change and adopt your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SOLU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ve you buil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z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“How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people a plain English defi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crony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MBA sp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na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it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it differ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lywood pitch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BENEFIT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in it for 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relative advant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d to the state of the art (e.g. existing solu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ly, you can offer a 10X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tic if only 1X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you get the attention of your custom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people make or sav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ve people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TEA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mula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ear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lev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are you qualified to solve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ze the credibility and credentials of the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prior experienc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ling with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ing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xecutive Summ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UNDING NEEDS &amp; USE OF PROCEED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need to reach the next milest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typ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ping produc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$ you ne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time will it ta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are you in the product development lifecyc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tion 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Black"/>
              </a:rPr>
              <a:t>DON’T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TALK ABOUT THE TECHNOLOG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ox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 for many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l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have spent _ years dealing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g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understand it, you won’t give them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don’t understand it, they’ll lose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mus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sel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alk to an Ordinary Pers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ample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BOUT SALESLOGIX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ing middle market Customer Relationship Management (CRM) b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 by Pat Sulli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or of 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sed $17 million in 3 r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d to Sage Software in 2001 for $253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620800"/>
            <a:ext cx="731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MMARY 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 make a software product, called SalesLogix, that combines the affordability and usability of a contact manager like Act and the power of a high-end CRM system like Sieb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14300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ny organizations are beginning to understand the value of giving their salespeople and customer service people tools that will allow them more efficiently manage their relationships with Contacts and Acc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problem is that existing Customer Relationship Management (CRM) solutions fall into one of two categori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 managers like Act and GoldMine that salespeople love but that do not allow people to share information across a large organ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 end CRM systems like Siebel that will scale to support the needs of hundreds or thousands of users but that salespeople refuse to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935000"/>
            <a:ext cx="731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result is that too many organizations are unable to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ordinate the efforts of their sales and customer service t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btain a holistic picture of the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ximize the revenue gained from each custom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477800"/>
            <a:ext cx="3657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 is the CRM system that delivers the best of both world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82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ease of use of a contac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82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calability, database synchronization, and reporting capabilities of a high-end CRM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1523880"/>
            <a:ext cx="0" cy="3810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533412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434340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60020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-E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2514600"/>
            <a:ext cx="1828800" cy="18288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Log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782720"/>
            <a:ext cx="7315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salespeople happy by giving them tools that save them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sales managers happy by giving them the reports that they n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I.S. people happy by using industry-standard databases like Oracle and Microsoft SQL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2034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alesLogix team is led by Pat Sullivan, the former co-founder and CEO of Contact Software International, the company that developed Act, the most widely used contact manager. Other members of the SalesLogix team includ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reg Head (VP of Marketing) – Original product manager for Act at both Contact Software International and Symant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nil Padiyar (VP of Engineering) – Former VP of Development for Nov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n Nichter (VP of Sales) – Former VP of Sales for Contact Software 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evin Carson (VP of Professional Services) – A highly experienced and respected CRM Value-Added Resell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54484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UNDING NEEDS &amp; USE OF PROC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 is seeking $5 million to finance continued development of SalesLogix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Frequent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Made Mistak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mmon Failure Pattern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m Bu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emely  low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qualified to solve the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SO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, not a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nse of who will buy it or w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“11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mental adv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but no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TTING LOST IN THE “HOW”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(or exclusive) focus on How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innovation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mistake of engin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nswer the questions they would ask, not the questions an investor or customer would 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listener probably doesn’t understand the technology (and doesn’t c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get into the How until later 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ISMATCHED MESSAG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used to giving one type of message to one type of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 it will work univers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tailor the message to the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ors want to hear about upsid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of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ngness to p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 want to hear about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save me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save m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make m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HYPE-erbol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greatest invention since sliced brea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multi-billion dollar marke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e can get just 1% of this market…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turn people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are skep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t sounds too good to be true, it probably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seem unfoc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come across as naï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ling is harder than you th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enthusiastic but don’t overstate your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T GETTING TO THE POIN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many people save the best for l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there’s so much mo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ould never do it jus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ing to intrigue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people put the best information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them what you’re going to tell th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off with an executive 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phrase that addresses The Problem and 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only have a limited amount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prepared to be cut off at any mo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 STATEMENT OF THE PROBLE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e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focus 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pport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explain what’s wrong with state of the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people hate to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ill drive people to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tical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stablishing that a problem truly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In Search Of A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 STATEMENT OF THE BENEFIT(S)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features an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 are what most people care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 benefits to be self-ev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 often benefits are only clear to an exp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benefits at the end of the pi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 at the fro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will customers c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BA-iti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use o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zz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ony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 explain this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sp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f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grandm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MMUNICATION 101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needs your inno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will buy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nd what it 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you are to solve 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your innovation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T ESTABLISHING CREDIBILIT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your qualifications to solve this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ent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really understand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you lived with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is a real solution to a hypothetical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n Summ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Os AND DON’T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speak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tailor your message to the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get lost in the “Ho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or Pitch = Teach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the context of the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just load people down with 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oversell or over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RESOURCE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ing to Wi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ry Weis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Get Your Point Across in 30 second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o O. Fr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NTACT INFO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58436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14.909.9760 - home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14.494.1324 - cell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ris@thepowerofpain.com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lides Available Online a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ORIGIN OF THE TER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into a Venture Capitalist or Prospective Customer in an elev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sk you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the length of the elevator r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5 to 60 seconds) to convince them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t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up a follow-up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al of an elevator pit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s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ince them to invest in your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uade them to buy your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WHY YOU NEED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b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,000 foot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n’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interested in the subject as you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knowledgeable about the subject as you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need to prove to a potential investo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articu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understand s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get a customer’s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22:27:18Z</dcterms:created>
  <dc:creator>Chris O'Leary</dc:creator>
  <dc:description/>
  <dc:language>en-US</dc:language>
  <cp:lastModifiedBy>Jorge</cp:lastModifiedBy>
  <dcterms:modified xsi:type="dcterms:W3CDTF">2005-12-02T20:05:22Z</dcterms:modified>
  <cp:revision>234</cp:revision>
  <dc:subject>How to create an effective elevator pitch</dc:subject>
  <dc:title>Elevator Pitch 1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1654246</vt:r8>
  </property>
  <property fmtid="{D5CDD505-2E9C-101B-9397-08002B2CF9AE}" pid="3" name="_AuthorEmail">
    <vt:lpwstr>coleary@talx.com</vt:lpwstr>
  </property>
  <property fmtid="{D5CDD505-2E9C-101B-9397-08002B2CF9AE}" pid="4" name="_AuthorEmailDisplayName">
    <vt:lpwstr>Chris O'Leary</vt:lpwstr>
  </property>
  <property fmtid="{D5CDD505-2E9C-101B-9397-08002B2CF9AE}" pid="5" name="_EmailSubject">
    <vt:lpwstr>Olin Cup 2004 - 5/7 Workshop Confirmation</vt:lpwstr>
  </property>
  <property fmtid="{D5CDD505-2E9C-101B-9397-08002B2CF9AE}" pid="6" name="_ReviewingToolsShownOnce">
    <vt:lpwstr/>
  </property>
</Properties>
</file>