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A24-3051-4464-AF9D-9B55F962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D0D-DEFE-4382-B808-43E40E56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D10-7755-477D-8DE0-0C675459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0C8-1A56-40DA-809B-EB6E1F76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125-4857-4192-8B42-A1472E2A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B31-A152-4C84-B092-8D9EF00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7EA-5A9E-4E12-B385-640EC99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70D-DA48-4D49-BBE4-B735AFC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AF6-3D2B-4AB3-B352-7B1D1D53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A6B-5303-4104-B864-7117688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D0B-4C61-4B71-9FDC-5EB9D2DA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063-77A0-4A18-ACB4-EDA247E1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416B-EDDD-49B6-8D1F-2AE5EA6C30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aloración de Dividen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o que relaciona el riesgo y el rendimiento de un activo para determinar su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luyen en el valor del activo tres factor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lujos de ef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mento en que ocurren los flu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ndimiento requerido (en función del ries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Valor del activo en el momen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 : Flujo de efectivo al fin del period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Rendimiento requerido (tasa de descu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Numero de period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476360" y="476280"/>
                <a:ext cx="60958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básico para valuación de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valor de una acción es igual al valor presente de todos los beneficios futuros (dividendos) que se espera proporc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nque el accionista obtiene ganancias de capital por medio de la venta de acciones a un precio por arriba del que pago originalmente, lo que en realidad vendió es el derecho de recibir los dividendos futu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cuaciones básica para valuación de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02580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 = Valor de la acción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t = Dividendo por acción esperado al final del año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Rendimiento requerido sobre la acción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47720" y="1844640"/>
                <a:ext cx="601992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∞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crecimiento c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47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procedimiento para la valuación de dividendos que supone una corriente de dividendos constantes y sin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decir D1 = D2 = … = D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276720" y="3984480"/>
                <a:ext cx="223200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147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spera que el dividendo de una empresa permanezca constante a $3 por acción indefinid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endimiento requerido sobre la acción es 1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 el precio de la acción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843280" y="4724280"/>
                <a:ext cx="345600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crecimiento con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procedimiento para la valoración de dividendos, que supone que los dividendos crecerán a una tasa constante 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menor que el rendimiento requerido 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es conocido como el modelo de Gor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ula de Gordon -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187280" y="1919160"/>
                <a:ext cx="648036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68360" y="595440"/>
                <a:ext cx="8351640" cy="46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</m:t>
                            </m:r>
                          </m:e>
                          <m:sub/>
                        </m:sSub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mpresa espera pagar este año un dividendo de $1,50, que se espera que crezca 7% anu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a tasa de rendimiento requerido es 15%, entonces el valor de la acción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320840" y="4581360"/>
                <a:ext cx="62755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BASICO DE VALOR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valor de cualquier activo es el valor presente de todos los flujos de efectivo futuros que se espera proporcione durante el periodo de tiempo relev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decir, el valor del activo se determina al descontar los flujos de efectivo esperados, usando una tasa de descuento (rendimiento requerido) acorde con el riesgo del a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recimiento en dos f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ponemos que los dividendos crecerán a una tasa g1 durante T periodos, y a la tasa g2 posteriormente, suponiendo además que g1&gt;g2,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4360" y="3357720"/>
                <a:ext cx="748800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mos una empresa que acaba de proporcionar flujos de caja de MM$ 10. La empresa no tiene deuda y el costo de los recursos propios es de ke= 1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stima el crecimiento anual de los flujos en el largo plazo de 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estos datos podríamos estimar el valor intrínseco de la empresa usando el mode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116000" y="4941720"/>
                <a:ext cx="34574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embargo, la mayoría de las veces, determinar una o más tasas de crecimiento no es triv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aquí donde resulta útil la valoración in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empresa anterior tuviese un valor de 270 MMUS$. ¿A que tasa anual deberían crecer sus flujos a largo plazo para que la empresa este valorada en este mo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00000" y="4402080"/>
                <a:ext cx="41036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52040" y="5734080"/>
            <a:ext cx="33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olviendo, resulta  g= 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so con crecimiento en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9640" y="1628640"/>
                <a:ext cx="7488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so Yah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arición en la bolsa:12.04.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lor 12/04/1996: US$     1.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lor 03/01/2000: US$ 118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recimiento en el periodo fue de aprox. ¡¡¡8.500 %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lor 31/12/2004: US$  22.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244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64800" y="4699080"/>
            <a:ext cx="72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or de Mercado finales de 1999:  US$ 115.267,7 mill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5280" y="444600"/>
            <a:ext cx="41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tuación a fines de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0" y="2565360"/>
                <a:ext cx="89647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24000" y="928800"/>
            <a:ext cx="852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se considera que el crecimiento posterior al 2009 (g2) será de 5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uál debería ser el crecimiento (g1) entre el 2000 y 2009 para sostener el valor de MMUS$ 115.667,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9520" y="47912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¡¡¡ g1= 95,5 %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acción común es un certificado que representa la propiedad parcial de un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omprador de las acciones se convierte parcialmente en propietario y no en acree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n ser vendidas a otros inversionistas en el mercado secund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ones co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piedad de acciones comunes concede a sus propietarios ciertos derechos, como votar en ciertos asuntos clave de la em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ignación del consejo de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rización para emitir nuevas accione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ificaciones a las escrituras constitu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opción de reglamentos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ones prefer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resentan una participación en el capital de una empresa, y que por lo general no otorga derechos significativos de vo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ccionistas preferentes comparten la propiedad de la empresa con los accionistas 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anancias que queden después de pagar dividendos a los accionistas preferentes (generalmente un monto fijo) corresponden a los accionistas 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ación de acciones co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ccionistas comunes esperan ser recompensados (rentabilidad obtenida) con dividendos en efectivo periódicos y con el incremento del valor de las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inversionistas venden una acción cuando creen que esta sobrevaluada, y la compran cuando piensan que esta subvalu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ndimiento de un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ganancia o pérdida total que experimenta el propietario de una inversión en un periodo de tiemp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obtiene como el cambio en el valor del activo más cualquier distribución de efectivo durante el periodo entre el valor de la inversión al inicio del peri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sa de rendimiento de un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3357720"/>
            <a:ext cx="8147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 = Tasa de rendimiento esp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t = Precio de la acción en el moment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t-1 = Precio del acción en el momento 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t = Dividendo pagado por la acción en el per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56000" y="1873080"/>
                <a:ext cx="374472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cción vale a principio de año $20.000. Al finalizar el año se espera que tenga un  valor de mercado de $21.500 y que pague un dividendo de $8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tasa de rendimiento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87280" y="4618080"/>
                <a:ext cx="7056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−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</m:num>
                      <m:den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20:07:02Z</dcterms:created>
  <dc:creator>Gab</dc:creator>
  <dc:description/>
  <dc:language>en-US</dc:language>
  <cp:lastModifiedBy>Ivan Alvarez Valdes</cp:lastModifiedBy>
  <dcterms:modified xsi:type="dcterms:W3CDTF">2008-04-13T16:20:27Z</dcterms:modified>
  <cp:revision>213</cp:revision>
  <dc:subject/>
  <dc:title>VALUACION DE ACTIVOS FINANCIE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